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F434-2535-4AF1-B619-D06AD8B72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: color,categor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ice doesn’t 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A3C-843B-45BA-9A0F-588D5F62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339-4EB0-4676-A344-73E5E9BF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706-C9D6-47DF-ABDE-19C23765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D45-180D-4074-A977-D5C480E3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674-12DB-473E-88E2-807A28B1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F16-4034-42C7-9E68-79915AC6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E42-0E44-49AC-852D-E063326A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70F-F275-4498-9738-3D3F90AA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974-F3BD-4B80-A8D2-8C82FA2E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68D-4FAE-4BC9-AB8F-07941B7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D05-8306-450B-A2EB-67FF485F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CB8-F1B7-42FE-B90F-B15339AE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B99E-0C42-4070-B587-F3F4B2C2B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/R Diagrams and 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January 21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082-20D5-4102-8D90-8DB7F436B9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200" y="2063880"/>
            <a:ext cx="1368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33680" y="1981080"/>
            <a:ext cx="1512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40080" y="1981080"/>
            <a:ext cx="1215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438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080" y="4613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3320" y="464832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names: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: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7960" y="434340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d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56600" y="3276720"/>
            <a:ext cx="1756800" cy="912600"/>
          </a:xfrm>
          <a:prstGeom prst="wedgeEllipseCallout">
            <a:avLst>
              <a:gd name="adj1" fmla="val -36421"/>
              <a:gd name="adj2" fmla="val -81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n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9640" y="5638680"/>
            <a:ext cx="1603800" cy="912600"/>
          </a:xfrm>
          <a:prstGeom prst="wedgeEllipseCallout">
            <a:avLst>
              <a:gd name="adj1" fmla="val 11601"/>
              <a:gd name="adj2" fmla="val -11119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36720" y="5772240"/>
            <a:ext cx="1908720" cy="523080"/>
          </a:xfrm>
          <a:prstGeom prst="wedgeEllipseCallout">
            <a:avLst>
              <a:gd name="adj1" fmla="val -21245"/>
              <a:gd name="adj2" fmla="val -8321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7F6-9CC7-43A7-A3B8-CB86D884FB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96760" y="1793880"/>
            <a:ext cx="729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Price              Category          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$1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izmo   $2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ouch    $149.99          photography     C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ouch      $203.99          household        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6080" y="5985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up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040" y="9907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85800" y="5562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" y="4648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5800" y="396216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5800" y="32767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447920" y="1447920"/>
            <a:ext cx="449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895120" y="1447920"/>
            <a:ext cx="3048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648320" y="14479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447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480" y="838080"/>
            <a:ext cx="36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ab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l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640" y="1371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BA2-DDE6-402C-A8C2-491093A1F4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name plus 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we add the domain for each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relation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Name, Address, Phone)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.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l mathematics, not to be confused with SQL tabl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F38-2D87-4771-952E-7E5A2BC152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al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elation with k attributes (of “type”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of corresponding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…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 relations, of typ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2EC-8934-4A90-BA62-53A1D0C778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30240" y="2514600"/>
            <a:ext cx="7467480" cy="3844800"/>
            <a:chOff x="930240" y="2514600"/>
            <a:chExt cx="7467480" cy="3844800"/>
          </a:xfrm>
        </p:grpSpPr>
        <p:sp>
          <p:nvSpPr>
            <p:cNvPr id="178" name=""/>
            <p:cNvSpPr/>
            <p:nvPr/>
          </p:nvSpPr>
          <p:spPr>
            <a:xfrm>
              <a:off x="988920" y="2514600"/>
              <a:ext cx="7290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ame              Price              Category           Manufactu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izmo              $1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wer gizmo   $2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gleTouch    $149.99          photography     Can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Touch      $203.99          household         Hitach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30240" y="30067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30240" y="31590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59040" y="262584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4032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5924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BEB-B18B-4617-927E-AE7BBCA1A7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Normal Form (1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schema is in First Normal Form if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3200400"/>
          <a:ext cx="2743200" cy="3428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666880" y="4172040"/>
          <a:ext cx="457200" cy="728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666880" y="5153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676600" y="5972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213840" y="270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410080" y="2743200"/>
          <a:ext cx="1828800" cy="1373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541116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772400" y="4876920"/>
          <a:ext cx="914400" cy="12128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486400" y="4583160"/>
          <a:ext cx="1828800" cy="21225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5411160" y="418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4440" y="42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6560" y="5505480"/>
            <a:ext cx="1740240" cy="912600"/>
          </a:xfrm>
          <a:prstGeom prst="wedgeEllipseCallout">
            <a:avLst>
              <a:gd name="adj1" fmla="val 2263"/>
              <a:gd name="adj2" fmla="val -9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e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d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6CA-CE1D-4C59-BF27-5C81606A2F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part of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EFE-E292-4A87-9F58-552E13180C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ning: this is the most abstract, and “hardest” part of the cour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pter in the book (3.4) is not very g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TO CLASS, PAY ATTENTION, READ THE LECTURE NOT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BB9-CDFB-4966-ABC9-EF8CFBDDE6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240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6728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36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01440" y="561708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99520" y="3040560"/>
            <a:ext cx="18669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02760" y="4093200"/>
            <a:ext cx="18648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160-1C3A-46B7-AB0F-922102891B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Examples of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88800" y="2209680"/>
            <a:ext cx="518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na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manufacture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sn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p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, st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3E0-8B30-4BD0-BE46-E7934E0798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/R diagrams to relations (3.2, 3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391-A06D-4DD4-B8BB-6040FE6498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hone,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 not  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19320" y="2209680"/>
            <a:ext cx="5708520" cy="2054160"/>
            <a:chOff x="1219320" y="2209680"/>
            <a:chExt cx="5708520" cy="2054160"/>
          </a:xfrm>
        </p:grpSpPr>
        <p:sp>
          <p:nvSpPr>
            <p:cNvPr id="217" name=""/>
            <p:cNvSpPr/>
            <p:nvPr/>
          </p:nvSpPr>
          <p:spPr>
            <a:xfrm>
              <a:off x="1279440" y="220968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mp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19320" y="2209680"/>
              <a:ext cx="147636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20968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95680" y="2209680"/>
              <a:ext cx="127800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33800" y="220968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73680" y="2209680"/>
              <a:ext cx="131760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51400" y="220968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91280" y="2209680"/>
              <a:ext cx="163656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79440" y="262080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004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19320" y="2620800"/>
              <a:ext cx="14763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55800" y="262080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mi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95680" y="2620800"/>
              <a:ext cx="12780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33800" y="262080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73680" y="2620800"/>
              <a:ext cx="13176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51400" y="262080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er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91280" y="2620800"/>
              <a:ext cx="16365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79440" y="3031920"/>
              <a:ext cx="13557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18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19320" y="3031920"/>
              <a:ext cx="147636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55800" y="3031920"/>
              <a:ext cx="11574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oh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95680" y="3031920"/>
              <a:ext cx="127800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33800" y="3031920"/>
              <a:ext cx="1197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87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3680" y="3031920"/>
              <a:ext cx="131760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51400" y="3031920"/>
              <a:ext cx="15163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lesre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91280" y="3031920"/>
              <a:ext cx="163656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9440" y="344160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1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19320" y="3441600"/>
              <a:ext cx="14763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55800" y="344160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mi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95680" y="3441600"/>
              <a:ext cx="12780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33800" y="344160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87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73680" y="3441600"/>
              <a:ext cx="13176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51400" y="344160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lesre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1280" y="3441600"/>
              <a:ext cx="16365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79440" y="385272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999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9320" y="3852720"/>
              <a:ext cx="14763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55800" y="385272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95680" y="3852720"/>
              <a:ext cx="12780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33800" y="385272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73680" y="3852720"/>
              <a:ext cx="13176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51400" y="385272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w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91280" y="3852720"/>
              <a:ext cx="16365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14000" y="153360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ly, an F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B67-04F1-4E3E-89C3-01A1A74C6C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heck  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erase all other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the remaining relation is many-one (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athema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438280" y="2666880"/>
          <a:ext cx="4330800" cy="231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666880"/>
                    <a:ext cx="4330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450000" y="5791320"/>
            <a:ext cx="68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Note: this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the mathematical definition of a function.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ook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D93-275C-496E-AA47-5BB805A796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0040" y="231948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29080" y="2336760"/>
            <a:ext cx="120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5080" y="231948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66640" y="2336760"/>
            <a:ext cx="97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1000" y="2336760"/>
            <a:ext cx="102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38560" y="2336760"/>
            <a:ext cx="1335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0040" y="230040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5720" y="230040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14800" y="230040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100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27720" y="230040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84920" y="230040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27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95720" y="231948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100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819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0040" y="280656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7640" y="282240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00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5080" y="280656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68080" y="282240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81000" y="282240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38920" y="2822400"/>
            <a:ext cx="906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Cl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527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0040" y="278604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95720" y="278604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14800" y="278604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100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27720" y="278604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278604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819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527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95720" y="280656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100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819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040" y="3282840"/>
            <a:ext cx="152568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27640" y="329868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8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5080" y="3282840"/>
            <a:ext cx="130500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3298680"/>
            <a:ext cx="77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J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81000" y="329868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37840" y="329868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527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0040" y="327348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95720" y="32734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5080" y="327348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100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18000" y="327348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672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75200" y="327348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819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527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95720" y="328284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100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672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819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0040" y="375912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27640" y="377676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5080" y="375912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68080" y="377676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81000" y="377676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37840" y="377676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527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70040" y="374976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95720" y="37497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5080" y="374976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18000" y="374976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75200" y="374976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819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527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95720" y="3759120"/>
            <a:ext cx="936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100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819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70040" y="423720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27640" y="425304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9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5080" y="423720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67720" y="4253040"/>
            <a:ext cx="88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81000" y="425304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38200" y="4253040"/>
            <a:ext cx="124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527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70040" y="4227480"/>
            <a:ext cx="1525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95720" y="4227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5080" y="4227480"/>
            <a:ext cx="1305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100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18000" y="4227480"/>
            <a:ext cx="1349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75200" y="4227480"/>
            <a:ext cx="1706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819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527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70040" y="4703760"/>
            <a:ext cx="15256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95720" y="423720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95720" y="4703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14800" y="4703760"/>
            <a:ext cx="1295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100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100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27720" y="4703760"/>
            <a:ext cx="13395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84920" y="4703760"/>
            <a:ext cx="16970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819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54864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486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562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AB5-EBD6-483D-ACCE-79D787032E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560" y="1676520"/>
            <a:ext cx="38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ar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ome instances they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thers they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914400" y="3505320"/>
          <a:ext cx="7391520" cy="24127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"/>
          <p:cNvSpPr/>
          <p:nvPr/>
        </p:nvSpPr>
        <p:spPr>
          <a:xfrm>
            <a:off x="530640" y="61722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instance satisfy all the F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720" y="19080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7A2-1F63-477A-9AC4-3DFB7263A5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685800" y="2514600"/>
          <a:ext cx="7391520" cy="321624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o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-sup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532800" y="6172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i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68000" y="91728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0AB-28C6-4420-9582-1D45BDCDA2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esting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0840" y="37339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hese FDs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5000" y="33555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280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is FD also ho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25000" y="5267520"/>
            <a:ext cx="311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2520" y="60958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y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516-A3FD-46F0-A003-B020B98B92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768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811080" y="2264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06880" y="4422960"/>
            <a:ext cx="266436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CFD-409C-4E56-BA73-A4A8FD395A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624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419720" y="4724280"/>
          <a:ext cx="308592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364284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4960" y="2416680"/>
            <a:ext cx="25923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511-0FBE-42BA-8CAE-FC10D415DA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307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8088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44440" y="3407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54880" y="4474080"/>
            <a:ext cx="4002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40480" y="5464800"/>
            <a:ext cx="39600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6B6-5CDF-4655-9C36-92C18C7358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533520" y="2514600"/>
          <a:ext cx="802476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  <a:gridCol w="617760"/>
                <a:gridCol w="617400"/>
                <a:gridCol w="615960"/>
                <a:gridCol w="617400"/>
                <a:gridCol w="617760"/>
                <a:gridCol w="617400"/>
                <a:gridCol w="617400"/>
                <a:gridCol w="6177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62E-2A27-4377-86FC-76FC1AD8BD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720" y="152388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3F8-1932-4F9B-8C54-52F89F73EF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9960" y="20574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4360" y="304812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29920" y="19839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838080" y="3581280"/>
          <a:ext cx="6782040" cy="3098880"/>
        </p:xfrm>
        <a:graphic>
          <a:graphicData uri="http://schemas.openxmlformats.org/drawingml/2006/table">
            <a:tbl>
              <a:tblPr/>
              <a:tblGrid>
                <a:gridCol w="472464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F37-9706-4D2D-B99F-1C48B64236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062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838080" y="3048120"/>
          <a:ext cx="7772400" cy="3098520"/>
        </p:xfrm>
        <a:graphic>
          <a:graphicData uri="http://schemas.openxmlformats.org/drawingml/2006/table">
            <a:tbl>
              <a:tblPr/>
              <a:tblGrid>
                <a:gridCol w="47246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4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/combine on 5,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3,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5106240" y="15267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8080" y="62406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OO HARD !  Let’s see an easie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67D-2E29-445D-AE7B-805969BAFC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9920" y="1676520"/>
            <a:ext cx="663192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t of attributes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is the set of attributes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t.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720" y="35841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4240" y="3581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6720" y="5029200"/>
            <a:ext cx="85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nam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{name, color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name, category, color, department, price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l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colo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412-A11C-4EA4-B992-C05A412EF2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8280" y="1946160"/>
            <a:ext cx="4658760" cy="27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is a F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all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50292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{                                       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800" y="25938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800" y="1981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08200" y="539424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category, 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36440" y="60260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07880" y="6023160"/>
            <a:ext cx="542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5F6-A1B1-4586-AAA9-5CE5F77389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, or at ho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A6D-654F-49D6-96FF-76F08AB94A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852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060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93A-01C2-4A7A-9673-08E4A90DF4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losure to Infer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71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4040" y="34290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6640" y="3965040"/>
            <a:ext cx="7962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 ABCD,   AC+ = AC,  A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1200" y="56707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624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537-70A0-475F-BB95-36A2B0B6BA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885-B082-4E1D-A118-9A57E12412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79160" y="3309840"/>
            <a:ext cx="1920960" cy="91872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723760" y="37688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37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98240" y="5221440"/>
            <a:ext cx="1920960" cy="9183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742840" y="56800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8280" y="5680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7160" y="44956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448-C81B-4219-99AC-36572FDB59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86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1905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8954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48006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48006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4197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954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9760" y="4800600"/>
            <a:ext cx="5320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99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995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4520" y="3276720"/>
            <a:ext cx="56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at most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ducts made by no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88560" y="6019920"/>
            <a:ext cx="56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4C4-8144-4F20-804E-6FD9C6CC42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3352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352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971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7400" y="3089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69440" y="5222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94B-5784-4305-84EC-35E05CB82B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0440" y="16765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comes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0481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5105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962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581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8576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3840" y="5943600"/>
            <a:ext cx="73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encountered this when conver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way relationships to binary relationships (last le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31F-4B67-440E-BF77-A457FFC1FA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7524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371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4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819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76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1295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19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705360" y="251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1960" y="407988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to a relational schema (in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458-B5C9-4FD7-80AF-2468B38898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01-19T02:18:41Z</dcterms:modified>
  <cp:revision>358</cp:revision>
  <dc:subject/>
  <dc:title>PowerPoint Presentation</dc:title>
</cp:coreProperties>
</file>