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700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59B3-B72F-409E-8564-799602B01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: color,categor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ice doesn’t 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533B-E428-43B5-BEAD-7A47C8F5C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8530-2BD9-4668-88C6-000863C4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8CC4-9E91-4E2B-8F32-AB016126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1A52-D5A9-4BFD-A932-58D2AE97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0259-BEE1-4400-B2D2-6FC553CC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3775-BA0C-464E-A6F7-8D73AB23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D451-7A2B-43C5-8D04-E19CD9D5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BABB-A6C9-47C2-BBAD-B5BDFF92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CB5B-905D-414A-9F76-26FB6F6F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C49A-2306-448E-A6B8-42AD85BB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DB4C-DF85-44E5-9A1E-7967B0A8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8CBB-E1E3-47F7-97B8-858616B2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834D-A663-4C3A-B0FC-04D0B226A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8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/R Diagrams and 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January 21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64DC-0A16-4CEA-9473-E45FE76804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lational Dat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200" y="2063880"/>
            <a:ext cx="1368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33680" y="1981080"/>
            <a:ext cx="15127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40080" y="1981080"/>
            <a:ext cx="1215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24382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080" y="461340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3320" y="4648320"/>
            <a:ext cx="348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 names: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ws: tu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7960" y="4343400"/>
            <a:ext cx="219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nde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200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3048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91520" y="3048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56600" y="3276720"/>
            <a:ext cx="1756800" cy="912600"/>
          </a:xfrm>
          <a:prstGeom prst="wedgeEllipseCallout">
            <a:avLst>
              <a:gd name="adj1" fmla="val -36421"/>
              <a:gd name="adj2" fmla="val -81819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s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n SQ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9640" y="5638680"/>
            <a:ext cx="1603800" cy="912600"/>
          </a:xfrm>
          <a:prstGeom prst="wedgeEllipseCallout">
            <a:avLst>
              <a:gd name="adj1" fmla="val 11601"/>
              <a:gd name="adj2" fmla="val -11119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s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t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36720" y="5772240"/>
            <a:ext cx="1908720" cy="523080"/>
          </a:xfrm>
          <a:prstGeom prst="wedgeEllipseCallout">
            <a:avLst>
              <a:gd name="adj1" fmla="val -21245"/>
              <a:gd name="adj2" fmla="val -8321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uss 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4748-81CB-4918-B4A1-4F4DBA0362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96760" y="1793880"/>
            <a:ext cx="729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Price              Category           Manufactu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$19.99            gadgets   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gizmo   $29.99            gadgets   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Touch    $149.99          photography     Ca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Touch      $203.99          household         Hita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22860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43828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19051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6080" y="59850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upl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6040" y="99072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85800" y="5562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85800" y="464832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85800" y="3962160"/>
            <a:ext cx="228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85800" y="32767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447920" y="1447920"/>
            <a:ext cx="449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895120" y="1447920"/>
            <a:ext cx="3048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648320" y="144792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14479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0480" y="838080"/>
            <a:ext cx="36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ab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name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l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640" y="13716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AD5D-EE1C-4A7D-A612-5F983ABC17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al Sch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 name plus attribut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 we add the domain for each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bas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of relational 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Manufacturer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Name, Address, Phone),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. 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ll mathematics, not to be confused with SQL tabl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929-0D5A-4992-B54B-7268A20105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ional sch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…,A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relation with k attributes (of “type” 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of corresponding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base sch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…), 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…), …, 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…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 relations, of types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298D-DAFF-4EAB-ABBA-D731E86119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930240" y="2514600"/>
            <a:ext cx="7467480" cy="3844800"/>
            <a:chOff x="930240" y="2514600"/>
            <a:chExt cx="7467480" cy="3844800"/>
          </a:xfrm>
        </p:grpSpPr>
        <p:sp>
          <p:nvSpPr>
            <p:cNvPr id="178" name=""/>
            <p:cNvSpPr/>
            <p:nvPr/>
          </p:nvSpPr>
          <p:spPr>
            <a:xfrm>
              <a:off x="988920" y="2514600"/>
              <a:ext cx="729036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Name              Price              Category           Manufactur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izmo              $19.99            gadgets            GizmoWor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wer gizmo   $29.99            gadgets            GizmoWor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ngleTouch    $149.99          photography     Can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ultiTouch      $203.99          household         Hitach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30240" y="300672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30240" y="315900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59040" y="262584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40320" y="270180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59240" y="270180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80880" y="1600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al schema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1B06-C96C-4D1F-B8DF-E03E83BEB2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Normal Form (1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atabase schema is in First Normal Form if all tables are fl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09480" y="3200400"/>
          <a:ext cx="2743200" cy="34286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</a:tblGrid>
              <a:tr h="91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2666880" y="4172040"/>
          <a:ext cx="457200" cy="728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2666880" y="5153040"/>
          <a:ext cx="457200" cy="485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2676600" y="5972040"/>
          <a:ext cx="457200" cy="485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213840" y="2708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410080" y="2743200"/>
          <a:ext cx="1828800" cy="13730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36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5411160" y="22096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7772400" y="4876920"/>
          <a:ext cx="914400" cy="12128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486400" y="4583160"/>
          <a:ext cx="1828800" cy="212256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ud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5411160" y="41814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4440" y="4267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48006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06560" y="5505480"/>
            <a:ext cx="1740240" cy="912600"/>
          </a:xfrm>
          <a:prstGeom prst="wedgeEllipseCallout">
            <a:avLst>
              <a:gd name="adj1" fmla="val 2263"/>
              <a:gd name="adj2" fmla="val -9936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ne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add ke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995E-6BAB-4315-81B4-B7066B55B8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orm of constra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part of the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them is part of the database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used in normalizing the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3C32-D1A3-4856-865C-B6126BC37D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ning: this is the most abstract, and “hardest” part of the cour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hapter in the book (3.4) is not very go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 TO CLASS, PAY ATTENTION, READ THE LECTURE NOTE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44CD-3098-4AAF-A292-969DC79B84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360" y="19191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2400" y="1752480"/>
            <a:ext cx="57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wo tuples agree on the attrib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67280" y="3581280"/>
            <a:ext cx="54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y must also agree on the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360" y="461340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mall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01440" y="561708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99520" y="3040560"/>
            <a:ext cx="186696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02760" y="4093200"/>
            <a:ext cx="18648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59D3-C2FC-471E-8A4A-9E2D4BA3EC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Examples of F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88800" y="2209680"/>
            <a:ext cx="518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nam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, manufacturer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sn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p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, stat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C16F-2927-4E3B-9F7A-B4128BC7C8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 E/R diagrams (Chapter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E/R diagrams to relations (3.2, 3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onal data model: 3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: 3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B78C-BF55-4F5F-BBAF-7F23EDBE6E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Phone,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but  not   Phone  </a:t>
            </a:r>
            <a:r>
              <a:rPr b="0" lang="en-US" sz="2400" spc="-1" strike="noStrike">
                <a:solidFill>
                  <a:srgbClr val="ff7c8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219320" y="2209680"/>
            <a:ext cx="5708520" cy="2054160"/>
            <a:chOff x="1219320" y="2209680"/>
            <a:chExt cx="5708520" cy="2054160"/>
          </a:xfrm>
        </p:grpSpPr>
        <p:sp>
          <p:nvSpPr>
            <p:cNvPr id="217" name=""/>
            <p:cNvSpPr/>
            <p:nvPr/>
          </p:nvSpPr>
          <p:spPr>
            <a:xfrm>
              <a:off x="1279440" y="2209680"/>
              <a:ext cx="13557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mp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19320" y="2209680"/>
              <a:ext cx="1476360" cy="411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209680"/>
              <a:ext cx="1157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95680" y="2209680"/>
              <a:ext cx="1278000" cy="411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33800" y="2209680"/>
              <a:ext cx="1197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h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73680" y="2209680"/>
              <a:ext cx="1317600" cy="411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51400" y="2209680"/>
              <a:ext cx="151632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i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91280" y="2209680"/>
              <a:ext cx="1636560" cy="411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79440" y="2620800"/>
              <a:ext cx="13557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004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19320" y="2620800"/>
              <a:ext cx="147636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55800" y="2620800"/>
              <a:ext cx="1157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mit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95680" y="2620800"/>
              <a:ext cx="127800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33800" y="2620800"/>
              <a:ext cx="1197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3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73680" y="2620800"/>
              <a:ext cx="131760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51400" y="2620800"/>
              <a:ext cx="151632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er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91280" y="2620800"/>
              <a:ext cx="163656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79440" y="3031920"/>
              <a:ext cx="13557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184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19320" y="3031920"/>
              <a:ext cx="1476360" cy="4096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55800" y="3031920"/>
              <a:ext cx="11574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oh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95680" y="3031920"/>
              <a:ext cx="1278000" cy="4096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33800" y="3031920"/>
              <a:ext cx="1197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87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73680" y="3031920"/>
              <a:ext cx="1317600" cy="4096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51400" y="3031920"/>
              <a:ext cx="15163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lesre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91280" y="3031920"/>
              <a:ext cx="1636560" cy="4096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79440" y="3441600"/>
              <a:ext cx="13557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11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19320" y="3441600"/>
              <a:ext cx="147636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55800" y="3441600"/>
              <a:ext cx="1157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mit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95680" y="3441600"/>
              <a:ext cx="127800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33800" y="3441600"/>
              <a:ext cx="1197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87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73680" y="3441600"/>
              <a:ext cx="131760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51400" y="3441600"/>
              <a:ext cx="151632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lesre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1280" y="3441600"/>
              <a:ext cx="163656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79440" y="3852720"/>
              <a:ext cx="13557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999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19320" y="3852720"/>
              <a:ext cx="147636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55800" y="3852720"/>
              <a:ext cx="1157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95680" y="3852720"/>
              <a:ext cx="127800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33800" y="3852720"/>
              <a:ext cx="1197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3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73680" y="3852720"/>
              <a:ext cx="131760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51400" y="3852720"/>
              <a:ext cx="151632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wy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291280" y="3852720"/>
              <a:ext cx="163656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414000" y="153360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ly, an F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h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an inst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8A9B-22FD-4F37-A036-62CDCBA4C4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heck  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, erase all other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if the remaining relation is many-one (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unc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mathema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438280" y="2666880"/>
          <a:ext cx="4330800" cy="231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666880"/>
                    <a:ext cx="4330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450000" y="5791320"/>
            <a:ext cx="68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Note: this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is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 the mathematical definition of a function.</a:t>
            </a:r>
            <a:br>
              <a:rPr sz="2400"/>
            </a:b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Book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E5D-5705-4F3A-BAFB-795EC44212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70040" y="2319480"/>
            <a:ext cx="1525680" cy="46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29080" y="2336760"/>
            <a:ext cx="1200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05080" y="2319480"/>
            <a:ext cx="1305000" cy="46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66640" y="2336760"/>
            <a:ext cx="974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81000" y="2336760"/>
            <a:ext cx="1020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938560" y="2336760"/>
            <a:ext cx="1335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52760" y="230040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52760" y="230040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70040" y="2300400"/>
            <a:ext cx="15256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70040" y="231948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05080" y="231948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95720" y="231948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95720" y="230040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14800" y="2300400"/>
            <a:ext cx="1295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14800" y="231948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100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10080" y="230040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27720" y="2300400"/>
            <a:ext cx="133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230040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84920" y="2300400"/>
            <a:ext cx="16970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81960" y="230040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81960" y="230040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52760" y="2319480"/>
            <a:ext cx="1728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95720" y="2319480"/>
            <a:ext cx="936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10080" y="231948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67280" y="231948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81960" y="2319480"/>
            <a:ext cx="1728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70040" y="2806560"/>
            <a:ext cx="1525680" cy="468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7640" y="2822400"/>
            <a:ext cx="106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E00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05080" y="2806560"/>
            <a:ext cx="1305000" cy="468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68080" y="2822400"/>
            <a:ext cx="97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Sm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81000" y="2822400"/>
            <a:ext cx="817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12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38920" y="2822400"/>
            <a:ext cx="906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Cle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52760" y="2786040"/>
            <a:ext cx="172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0040" y="2786040"/>
            <a:ext cx="15256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70040" y="280512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05080" y="280512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95720" y="280512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95720" y="278604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14800" y="2786040"/>
            <a:ext cx="1295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14800" y="280512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100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10080" y="278604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27720" y="2786040"/>
            <a:ext cx="133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672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278604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84920" y="2786040"/>
            <a:ext cx="16970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81960" y="2786040"/>
            <a:ext cx="172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52760" y="2806560"/>
            <a:ext cx="1728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95720" y="2806560"/>
            <a:ext cx="936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10080" y="280656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67280" y="280656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81960" y="2806560"/>
            <a:ext cx="1728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70040" y="3282840"/>
            <a:ext cx="1525680" cy="466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27640" y="3298680"/>
            <a:ext cx="106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E18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05080" y="3282840"/>
            <a:ext cx="1305000" cy="466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67000" y="3298680"/>
            <a:ext cx="771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Joh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81000" y="3298680"/>
            <a:ext cx="817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987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37840" y="3298680"/>
            <a:ext cx="1381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Salesr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52760" y="3273480"/>
            <a:ext cx="17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70040" y="3273480"/>
            <a:ext cx="15256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95720" y="327348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5080" y="3273480"/>
            <a:ext cx="13050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10080" y="32734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18000" y="3273480"/>
            <a:ext cx="1349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67280" y="32734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75200" y="3273480"/>
            <a:ext cx="17067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581960" y="3273480"/>
            <a:ext cx="17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52760" y="3282840"/>
            <a:ext cx="1728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95720" y="3282840"/>
            <a:ext cx="936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10080" y="328284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867280" y="328284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581960" y="3282840"/>
            <a:ext cx="1728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70040" y="3759120"/>
            <a:ext cx="1525680" cy="468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27640" y="3776760"/>
            <a:ext cx="106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E1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05080" y="3759120"/>
            <a:ext cx="1305000" cy="468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68080" y="3776760"/>
            <a:ext cx="97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Sm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81000" y="3776760"/>
            <a:ext cx="817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987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37840" y="3776760"/>
            <a:ext cx="1381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Salesr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52760" y="3749760"/>
            <a:ext cx="17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70040" y="3749760"/>
            <a:ext cx="15256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95720" y="374976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05080" y="3749760"/>
            <a:ext cx="13050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10080" y="374976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18000" y="3749760"/>
            <a:ext cx="1349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867280" y="374976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875200" y="3749760"/>
            <a:ext cx="17067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581960" y="3749760"/>
            <a:ext cx="17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52760" y="3759120"/>
            <a:ext cx="1728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95720" y="3759120"/>
            <a:ext cx="936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10080" y="3759120"/>
            <a:ext cx="792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3759120"/>
            <a:ext cx="792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81960" y="3759120"/>
            <a:ext cx="1728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670040" y="4237200"/>
            <a:ext cx="1525680" cy="46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27640" y="4253040"/>
            <a:ext cx="106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E9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05080" y="4237200"/>
            <a:ext cx="1305000" cy="46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67720" y="4253040"/>
            <a:ext cx="88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81000" y="4253040"/>
            <a:ext cx="817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12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38200" y="4253040"/>
            <a:ext cx="124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Law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652760" y="4227480"/>
            <a:ext cx="17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70040" y="4227480"/>
            <a:ext cx="15256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95720" y="42274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05080" y="4227480"/>
            <a:ext cx="1305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10080" y="42274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18000" y="4227480"/>
            <a:ext cx="1349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67280" y="42274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875200" y="4227480"/>
            <a:ext cx="1706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581960" y="4227480"/>
            <a:ext cx="17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52760" y="4237200"/>
            <a:ext cx="1728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52760" y="470376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52760" y="470376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70040" y="4703760"/>
            <a:ext cx="15256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95720" y="4237200"/>
            <a:ext cx="936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95720" y="4703760"/>
            <a:ext cx="190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14800" y="4703760"/>
            <a:ext cx="1295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10080" y="423720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10080" y="470376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27720" y="4703760"/>
            <a:ext cx="13395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67280" y="423720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867280" y="470376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84920" y="4703760"/>
            <a:ext cx="16970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81960" y="4237200"/>
            <a:ext cx="1728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81960" y="470376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81960" y="470376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48640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54864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4864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556272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6DC9-125A-4BC6-A9E2-C63B636F49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4560" y="1676520"/>
            <a:ext cx="387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’s are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some instances they 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others they don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914400" y="3505320"/>
          <a:ext cx="7391520" cy="241272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9600"/>
                <a:gridCol w="1477800"/>
                <a:gridCol w="1478160"/>
              </a:tblGrid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par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ea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" name=""/>
          <p:cNvSpPr/>
          <p:nvPr/>
        </p:nvSpPr>
        <p:spPr>
          <a:xfrm>
            <a:off x="530640" y="617220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is instance satisfy all the FD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15720" y="190800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5A75-4E40-4CD7-8C45-061F0B3F77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685800" y="2514600"/>
          <a:ext cx="7391520" cy="321624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9600"/>
                <a:gridCol w="1477800"/>
                <a:gridCol w="1478160"/>
              </a:tblGrid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par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ea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on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ice-sup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0" name=""/>
          <p:cNvSpPr/>
          <p:nvPr/>
        </p:nvSpPr>
        <p:spPr>
          <a:xfrm>
            <a:off x="532800" y="61722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this 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68000" y="91728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3E66-D9B7-4B90-8798-C8E32E7D20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eresting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40840" y="3733920"/>
            <a:ext cx="31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ll these FDs are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5000" y="335556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5280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is FD also hol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725000" y="5267520"/>
            <a:ext cx="311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82520" y="609588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Why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1CE2-0FC8-41A0-9319-3919900310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s for FD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14400" y="335268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quivalen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7680" y="2638440"/>
            <a:ext cx="228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plitt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mb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5562720" y="4419720"/>
          <a:ext cx="3222360" cy="1752480"/>
        </p:xfrm>
        <a:graphic>
          <a:graphicData uri="http://schemas.openxmlformats.org/drawingml/2006/table">
            <a:tbl>
              <a:tblPr/>
              <a:tblGrid>
                <a:gridCol w="358560"/>
                <a:gridCol w="357120"/>
                <a:gridCol w="358920"/>
                <a:gridCol w="357120"/>
                <a:gridCol w="358920"/>
                <a:gridCol w="358560"/>
                <a:gridCol w="357480"/>
                <a:gridCol w="358560"/>
                <a:gridCol w="3571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412" name=""/>
          <p:cNvSpPr/>
          <p:nvPr/>
        </p:nvSpPr>
        <p:spPr>
          <a:xfrm>
            <a:off x="811080" y="226440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06880" y="4422960"/>
            <a:ext cx="2664360" cy="17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068E-8E4E-412B-8291-51084064A4C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s for FD’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6240" y="236232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ivial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80520" y="50706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4419720" y="4724280"/>
          <a:ext cx="3085920" cy="1819440"/>
        </p:xfrm>
        <a:graphic>
          <a:graphicData uri="http://schemas.openxmlformats.org/drawingml/2006/table">
            <a:tbl>
              <a:tblPr/>
              <a:tblGrid>
                <a:gridCol w="617400"/>
                <a:gridCol w="617400"/>
                <a:gridCol w="615960"/>
                <a:gridCol w="617760"/>
                <a:gridCol w="61740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>
            <a:off x="3642840" y="316548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 = 1, 2, ...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14960" y="2416680"/>
            <a:ext cx="259236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4380-4797-49B4-9FD0-AE540E89AED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s for FD’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30760" y="2505240"/>
            <a:ext cx="38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ransitive Closure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80520" y="34704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57200" y="446076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80880" y="5527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353760" y="609588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44440" y="340740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954880" y="4474080"/>
            <a:ext cx="40021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940480" y="5464800"/>
            <a:ext cx="39600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D5FF-388B-4F3C-85BA-C364B4182B1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533520" y="2514600"/>
          <a:ext cx="8024760" cy="1819440"/>
        </p:xfrm>
        <a:graphic>
          <a:graphicData uri="http://schemas.openxmlformats.org/drawingml/2006/table">
            <a:tbl>
              <a:tblPr/>
              <a:tblGrid>
                <a:gridCol w="617400"/>
                <a:gridCol w="617400"/>
                <a:gridCol w="615960"/>
                <a:gridCol w="617760"/>
                <a:gridCol w="617400"/>
                <a:gridCol w="617760"/>
                <a:gridCol w="617400"/>
                <a:gridCol w="615960"/>
                <a:gridCol w="617400"/>
                <a:gridCol w="617760"/>
                <a:gridCol w="617400"/>
                <a:gridCol w="617400"/>
                <a:gridCol w="61776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37C1-986F-4031-BCDF-C2292B3F293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720" y="1523880"/>
            <a:ext cx="802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constraints is part of the modeling proc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ly used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cial security number uniquely identifies a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ngle-value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 person can have only one fa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erential integrity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you work for a company,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exist in the data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oples’ ages are between 0 and 1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F006-9F0F-4584-8944-45C4CC97BB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59960" y="205740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from the following F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4360" y="304812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 the following F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029920" y="1983960"/>
            <a:ext cx="338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.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 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838080" y="3581280"/>
          <a:ext cx="6782040" cy="3098880"/>
        </p:xfrm>
        <a:graphic>
          <a:graphicData uri="http://schemas.openxmlformats.org/drawingml/2006/table">
            <a:tbl>
              <a:tblPr/>
              <a:tblGrid>
                <a:gridCol w="472464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red F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ch Ru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we apply 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,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D234-041D-4F54-BB93-E6EF5C021EE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06200" y="1981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838080" y="3048120"/>
          <a:ext cx="7772400" cy="3098520"/>
        </p:xfrm>
        <a:graphic>
          <a:graphicData uri="http://schemas.openxmlformats.org/drawingml/2006/table">
            <a:tbl>
              <a:tblPr/>
              <a:tblGrid>
                <a:gridCol w="4724640"/>
                <a:gridCol w="304776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red F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ch Ru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we apply 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vial ru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itivity on 4,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vial ru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,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lit/combine on 5,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itivity on 3,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8" name=""/>
          <p:cNvSpPr/>
          <p:nvPr/>
        </p:nvSpPr>
        <p:spPr>
          <a:xfrm>
            <a:off x="5106240" y="1526760"/>
            <a:ext cx="338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.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 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8080" y="624060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OO HARD !  Let’s see an easier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AC19-5874-44B6-9241-ACD3E2BBD18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of a set of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09920" y="1676520"/>
            <a:ext cx="6631920" cy="17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set of attributes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 is the set of attributes 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t.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6720" y="358416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4240" y="3581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6720" y="5029200"/>
            <a:ext cx="85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ur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nam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{name, color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{name, category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name, category, color, department, price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colo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colo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095C-1430-46EB-96B9-8D623419927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8280" y="1946160"/>
            <a:ext cx="4658760" cy="275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X={A1, …, An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 unt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doesn’t change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   is a F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re all i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dd C to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90720" y="50292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name, category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{                                       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800" y="259380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800" y="19810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08200" y="539424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, category, color, department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036440" y="602604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07880" y="6023160"/>
            <a:ext cx="542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, department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353D-3D6C-4B7C-AB6D-FE9A3711298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rollment(student, major, course, room, ti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, 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else can we infer ? [in class, or at hom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51E3-DD01-4B09-9B9B-1F41A49D0C1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48520" y="4572000"/>
            <a:ext cx="63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{A,B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X = {A, B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{A, F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X = {A, F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0600" y="236232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,B,C,D,E,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99640" y="2288520"/>
            <a:ext cx="1593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B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 F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62120" y="1600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DF05-F6D3-43C9-9DE6-29D5244C223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Closure to Infer ALL F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604160" y="2014200"/>
            <a:ext cx="1593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B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C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37160" y="1717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64040" y="3429000"/>
            <a:ext cx="42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Compute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or every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76640" y="3965040"/>
            <a:ext cx="79621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 = A,   B+ = BD,   C+ = C,   D+ =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+ = ABCD,   AC+ = AC,  AD+ = A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+ = ABD+ = A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BCD (no need to compute– 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BCD,    ABCD+ = A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1200" y="5670720"/>
            <a:ext cx="79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Enumerate all FD’s 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, s.t.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6240" y="6228000"/>
            <a:ext cx="7222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D, A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,  AB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, AB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, AC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926A-ACC3-4E8F-BBDA-D469C046110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16002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16002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25146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733920" y="31237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495680" y="2285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105520" y="228564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2133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10280" y="6400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657600"/>
            <a:ext cx="30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formal 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specify mult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eys in E/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946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015F-E8F3-4607-B0C1-A3E34B613E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Valu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79160" y="3309840"/>
            <a:ext cx="1920960" cy="91872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723760" y="376884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376884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98240" y="5221440"/>
            <a:ext cx="1920960" cy="9183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742840" y="56800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48280" y="568008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7160" y="449568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C0B9-A7B7-4773-9B60-2C191C5E14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tial Integrit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228600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190512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89548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48006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480060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441972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895480" y="5105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5105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9760" y="4800600"/>
            <a:ext cx="5320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29953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29953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4520" y="3276720"/>
            <a:ext cx="56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duct made by at most one 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roducts made by no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88560" y="6019920"/>
            <a:ext cx="56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duct made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ct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e 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85D6-D51C-47C7-BAAF-34A574703E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33526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33526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2971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89548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657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7400" y="308916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69440" y="522288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is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8AF2-D5B3-4DD3-9D6C-24B23F9116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0440" y="1676520"/>
            <a:ext cx="675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sets are weak when their key comes from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to which they are 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4038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4038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04812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5105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5105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5105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3962520"/>
            <a:ext cx="2286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3581280"/>
            <a:ext cx="1828800" cy="1524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5562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371240" y="4876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48769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857640" y="4800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3840" y="5943600"/>
            <a:ext cx="73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we encountered this when conver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way relationships to binary relationships (last le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7A20-0AEE-4D5D-A1E2-C165CB34AC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Weak Entit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1752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17524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13716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89548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4120" y="2057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2819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2819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2819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676520"/>
            <a:ext cx="2286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1295280"/>
            <a:ext cx="1828800" cy="1524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219320" y="2590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2590920"/>
            <a:ext cx="7617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705360" y="2514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1960" y="4079880"/>
            <a:ext cx="51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to a relational schema (in cl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2367-76B2-4042-BD89-34E37FB06A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5-01-19T02:18:41Z</dcterms:modified>
  <cp:revision>358</cp:revision>
  <dc:subject/>
  <dc:title>PowerPoint Presentation</dc:title>
</cp:coreProperties>
</file>