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B30-4409-4FDD-B32A-0DEAEE77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A0A-D766-469E-B7DD-807C0C84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4E2-69C6-453C-A594-3A53E90D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D45-4EAE-46F6-8FF9-B68EDB9D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C31-438A-45F7-9628-608D626D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566-11C0-4ED6-907C-B8647361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3A9-A59F-46CA-8967-151CBEB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112-F5F5-42DA-9707-587B817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1F7-703A-4EF0-A556-9B8C9170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5B0-7C91-4840-B021-B140EDB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D04-E6DF-4365-97FC-AB9FDCE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0AB-85FE-4545-A2E1-BB6DDACD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4C10-E5EC-4F93-A1BF-33C560805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9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028-1101-46EE-AF9A-8931BA78D0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6" idx="0"/>
            <a:endCxn id="157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7" idx="2"/>
            <a:endCxn id="161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3697200" y="3200400"/>
            <a:ext cx="2099520" cy="1172520"/>
          </a:xfrm>
          <a:prstGeom prst="wedgeEllipseCallout">
            <a:avLst>
              <a:gd name="adj1" fmla="val 77254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A1C-E7CB-4AF2-ACFF-14EC7DEA47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56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2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6564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76A-426E-492D-96C8-6D33B81A47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192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6BD-059F-43FC-8CF0-C79BBBA624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F68-F367-4C7D-9414-BF5A41C52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215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3D1-3512-4EDF-A392-7CEAA85D74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368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30E-C1D9-44C4-8E69-6C896F57F9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F1F-2569-4455-8338-AB7DD713C1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4D1-A759-4C28-AA5D-B30233BB0C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3FA-74C0-4F47-AA17-AA62A788AF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16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D88-8731-47D0-8BEA-B74F653282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854-329E-4B9B-8BB6-88FEA90FCE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0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0"/>
            <a:endCxn id="29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2" idx="0"/>
            <a:endCxn id="28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82" idx="0"/>
            <a:endCxn id="28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80" idx="0"/>
            <a:endCxn id="29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0" idx="3"/>
            <a:endCxn id="28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04948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C69-304E-43FF-B1ED-A592CD6E74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916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8" idx="0"/>
            <a:endCxn id="323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08" idx="0"/>
            <a:endCxn id="309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08" idx="0"/>
            <a:endCxn id="310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06" idx="0"/>
            <a:endCxn id="317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06" idx="3"/>
            <a:endCxn id="307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0D9-3995-43D9-A907-7EA0A75DB9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918-F10A-4896-B197-FB8125EAE1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636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608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931-D896-4852-B470-5C94A155F3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108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5F3-AAAC-46F5-83A3-7A8F7C307D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8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36E-68AC-4D57-8788-675A4C955E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60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764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158-DA25-46A2-B0A8-1C3AFA1571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949-7C57-43EE-8E26-9E155E098E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2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25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28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4960" y="2479680"/>
            <a:ext cx="893880" cy="916920"/>
            <a:chOff x="5394960" y="2479680"/>
            <a:chExt cx="893880" cy="916920"/>
          </a:xfrm>
        </p:grpSpPr>
        <p:sp>
          <p:nvSpPr>
            <p:cNvPr id="440" name=""/>
            <p:cNvSpPr/>
            <p:nvPr/>
          </p:nvSpPr>
          <p:spPr>
            <a:xfrm>
              <a:off x="539496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496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10800" y="3733920"/>
            <a:ext cx="893880" cy="916920"/>
            <a:chOff x="5410800" y="3733920"/>
            <a:chExt cx="893880" cy="916920"/>
          </a:xfrm>
        </p:grpSpPr>
        <p:sp>
          <p:nvSpPr>
            <p:cNvPr id="443" name=""/>
            <p:cNvSpPr/>
            <p:nvPr/>
          </p:nvSpPr>
          <p:spPr>
            <a:xfrm>
              <a:off x="541080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080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800" y="5257800"/>
            <a:ext cx="893880" cy="916920"/>
            <a:chOff x="5410800" y="5257800"/>
            <a:chExt cx="893880" cy="916920"/>
          </a:xfrm>
        </p:grpSpPr>
        <p:sp>
          <p:nvSpPr>
            <p:cNvPr id="446" name=""/>
            <p:cNvSpPr/>
            <p:nvPr/>
          </p:nvSpPr>
          <p:spPr>
            <a:xfrm>
              <a:off x="541080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80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512-9F04-45EF-8C4E-F98FEF3769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53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2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72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0696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19B-C0D9-4D04-9C5E-2A94382837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318-0E88-43BF-8C38-F93AF485A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0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902-AFA3-47D5-8C26-EE8F0AC89B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00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477-E85A-43D4-82A3-94AC4B4086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16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7EE-0521-4F15-897B-6645A0F979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6692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3" idx="0"/>
            <a:endCxn id="542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42" idx="0"/>
            <a:endCxn id="531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1" idx="2"/>
            <a:endCxn id="540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3"/>
            <a:endCxn id="532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3" idx="2"/>
            <a:endCxn id="541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3"/>
            <a:endCxn id="534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0"/>
            <a:endCxn id="532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4" idx="0"/>
            <a:endCxn id="539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6" idx="2"/>
            <a:endCxn id="533" idx="0"/>
          </p:cNvCxnSpPr>
          <p:nvPr/>
        </p:nvCxnSpPr>
        <p:spPr>
          <a:xfrm>
            <a:off x="1146240" y="3260880"/>
            <a:ext cx="7977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5" idx="2"/>
            <a:endCxn id="532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2FA-B2C5-4134-A90E-30CDF99397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55" name=""/>
            <p:cNvSpPr/>
            <p:nvPr/>
          </p:nvSpPr>
          <p:spPr>
            <a:xfrm>
              <a:off x="358560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E8B-C2F1-4267-9F42-4E6EC86235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62" name=""/>
            <p:cNvSpPr/>
            <p:nvPr/>
          </p:nvSpPr>
          <p:spPr>
            <a:xfrm>
              <a:off x="366192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C9E-346D-4359-8A40-5552EC4D85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192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2236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5" idx="0"/>
            <a:endCxn id="573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6" idx="0"/>
            <a:endCxn id="579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3" idx="0"/>
            <a:endCxn id="578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9" idx="0"/>
            <a:endCxn id="578" idx="3"/>
          </p:cNvCxnSpPr>
          <p:nvPr/>
        </p:nvCxnSpPr>
        <p:spPr>
          <a:xfrm flipV="1" rot="16200000">
            <a:off x="6038280" y="2075400"/>
            <a:ext cx="453240" cy="2253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9C9-EDC8-401B-8A2C-7F50246150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finition Language (ODL) - se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/Relationship model (E/R) -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495-0B5B-498F-8E58-8D3FA7A0F8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740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898-124B-492C-832B-FA57A8FD53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3" idx="0"/>
            <a:endCxn id="64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4" idx="2"/>
            <a:endCxn id="68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589-F934-42E6-84B4-138376AFF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728-B058-4D40-A2A1-C3C547248E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97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843520"/>
            <a:ext cx="3810240" cy="709200"/>
            <a:chOff x="2438280" y="5843520"/>
            <a:chExt cx="3810240" cy="709200"/>
          </a:xfrm>
        </p:grpSpPr>
        <p:sp>
          <p:nvSpPr>
            <p:cNvPr id="112" name=""/>
            <p:cNvSpPr/>
            <p:nvPr/>
          </p:nvSpPr>
          <p:spPr>
            <a:xfrm>
              <a:off x="3820320" y="58435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5280" y="59929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61794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67320" y="61794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483720" y="61794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ABC-C06E-4156-9BCB-D9C6790BE8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29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5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38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061-7BD9-4921-97BF-F460A0AD69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19T02:17:13Z</dcterms:modified>
  <cp:revision>293</cp:revision>
  <dc:subject/>
  <dc:title>PowerPoint Presentation</dc:title>
</cp:coreProperties>
</file>