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17A-5761-4B21-BB4B-FD5368CC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457-E7B5-4785-9863-1C0A5EB3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182-210C-4515-A098-FA65C92A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EB1-468F-4C42-9FBE-5740DC75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A2B-4FA5-4EDD-80DE-3C433AD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65C-E116-4412-B634-A745008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607-F144-485E-9E3C-3F634F7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66F-45E0-48AF-A479-9469DB92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C9B-DDA7-40CF-93B4-5F5D6B7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C74-2633-41B0-8F2A-C1108DC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664-DCB6-4DBD-A714-0270718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2E9-EA51-4DEF-A068-CD42B1C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C13-6406-4B27-86C8-23700ADC4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B9A-5309-41AE-AE99-BEB743FD4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7200" y="3200400"/>
            <a:ext cx="2099520" cy="1172520"/>
          </a:xfrm>
          <a:prstGeom prst="wedgeEllipseCallout">
            <a:avLst>
              <a:gd name="adj1" fmla="val 77254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8EA-562D-43A9-95B6-ECD351167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56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564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30C-008E-4C9E-BF0C-B69E018CFD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805-E882-4916-AE5B-412E2B271E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79A-4634-4316-906D-F4444B4DA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366-5F2A-4E79-BA3E-9BF01EECD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368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77F-FB3D-439E-8373-17D042E2F4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C2B-C4C6-4B79-9238-586D68C8E8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510-3A77-4049-8FE6-0D695772B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904-7884-46B3-A965-D398DE1DD3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16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93F-D751-41ED-83E5-FF77EE0F8E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869-5E5D-4193-A3BE-E5DD61217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0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948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04F-1BD5-4B40-A014-B4A13D4B70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16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C50-0571-4994-951F-60A22B4825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F2D-E461-4EDB-AAF3-D6697DF63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636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08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7A9-6F0F-46C6-93EC-321CBFD76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108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EC8-3A0E-444C-8AF3-1D71EA5B57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8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B7B-C430-46FB-B8CB-DB42858D98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60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64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DC5-C760-4767-9CA1-8BE4150539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47E-BAA2-4DA2-8180-1EF616EDC5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960" y="2479680"/>
            <a:ext cx="893880" cy="916920"/>
            <a:chOff x="539496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96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96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800" y="3733920"/>
            <a:ext cx="893880" cy="916920"/>
            <a:chOff x="541080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80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80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800" y="5257800"/>
            <a:ext cx="893880" cy="916920"/>
            <a:chOff x="541080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80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80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C4C-A0E5-482A-A54B-09CDE3648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72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96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103-D2A9-4F22-8AC0-2A0E7E08C0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590-B496-4CA5-A35C-E4A6C470D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76C-4008-4445-BF9F-5437B11B70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B1E-956E-43B3-90ED-342F5FE351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1E3-990C-4B50-B621-AADE4708B5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692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6240" y="3260880"/>
            <a:ext cx="7977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BEF-2DED-4294-A866-061CD45D57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560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C41-7A54-4213-A0B3-384D540D56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92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80E-BD6B-4CE2-BF9B-42FEF5B1AF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92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236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8280" y="2075400"/>
            <a:ext cx="453240" cy="225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B70-76A0-4B6A-A728-4EF3033592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finition Language (ODL) -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/Relationship model (E/R) -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5D6-59F9-4F5A-A0DA-0A4A44ACA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40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CFD-EB7A-4BE8-A966-572578BB80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9E0-5AA7-4DFB-80D6-5F0BD6493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2E9-6F4E-4569-BD90-31F5319264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4A7-C26B-493D-90A9-954385B85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F07-A29C-4908-8727-14C27D648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19T02:17:13Z</dcterms:modified>
  <cp:revision>293</cp:revision>
  <dc:subject/>
  <dc:title>PowerPoint Presentation</dc:title>
</cp:coreProperties>
</file>