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8C1-9D3E-4F73-8880-B682D677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6BB-0C64-4949-AE46-5CADAADB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838-0790-4DAA-9249-050A434D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298-4BF8-44C5-A330-C8DFE0EF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8D6-A363-450B-8606-6DDDF61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26D-859D-454F-92C8-355E827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FEA-8765-4D8B-8A8C-11E7491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C9A-ADBD-49C8-80BB-82855C4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2D4-D3CB-417A-AEF7-6B1788B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CC6-2BE3-4B1B-BBB0-83A88502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E71-ABF6-45A1-912E-A8D9DE9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816-B539-4634-A2BB-FB72D32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84C3-7338-432C-999B-D003510BE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844-E178-4D20-A4A7-A66C214838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1C7-EBB7-4AFB-A040-78ACA1993F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7C6-1D3C-48D1-927E-4D58954B72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9EB-F179-4E77-A86D-955A43E12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669-489F-4591-8AD0-766052EF6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120" y="1192320"/>
            <a:ext cx="60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SN,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0160" y="4114800"/>
            <a:ext cx="342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, “Joe”, NULL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1FB-64F7-45BE-B842-C02CA17A2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440" y="198108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6280" y="2743200"/>
            <a:ext cx="5137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.SSN, x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x, Employee y, Employe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managerSSN = x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z.managerSSN = y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520" y="4952880"/>
            <a:ext cx="3580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400" y="60199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to execu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66A-C316-4F5E-89FF-60999B224E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792-B6A0-4D23-9B39-78B9DE128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773-6C4B-4FEA-B583-F0DBC7F7E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EED-59AA-409D-8814-CBE9853258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0C9-1772-43DC-8E71-87A0374D31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25E-2F5A-47DD-AE25-A846A0D04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D68-61D2-48F2-893D-54BD4E87A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0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B40-37C3-4556-AD72-312E42C08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32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29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DDD-2D32-4E2A-B799-D2B0F64A2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2C6-68C5-403E-82BE-5CC5CBEFB2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75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BAB-02E8-4B0D-8E52-BC766A9C80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196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DD4-A57D-4FAE-87D1-631EA26C70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CA0-BD7A-4CAC-95F7-4B7EF836EB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111-936E-4DFC-9C65-C3C939F7F4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566-3423-4340-8C9D-8FEC4B39E6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F03-14DD-402A-B395-5E8C480F70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EFF-5209-46AB-97C1-BE8CE3E96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2A1-B6A7-4F37-A96D-D8D95215E4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0AC-726E-4FDC-B88A-FC88871851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E2A-82BA-4388-A2CB-D42B245BD4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D93-4D5A-4D37-B116-3EA9B66AA3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476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5D7-C6F0-4518-9641-C38E6261A2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F3D-8248-41F3-B94A-1AFF18FC77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2AC-BCA1-4A8E-8435-B09BC60ECA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52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7B3-22C7-4AE8-90B8-0C2C735F6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458-377D-4E6C-AC7A-10076352C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C09-033C-4864-B8D3-7E16181B5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80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83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86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89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DF4-130C-421A-AA43-F237576F41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FDE-53FE-43A2-8B81-4BA0E9A04A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F32-E42F-4948-A3EE-BADFE3964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4T02:35:31Z</dcterms:modified>
  <cp:revision>280</cp:revision>
  <dc:subject/>
  <dc:title>PowerPoint Presentation</dc:title>
</cp:coreProperties>
</file>