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D28-1D50-4034-89DC-E87134CE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C78-5DD9-40D6-80AE-2A31F21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3C8-9910-4EC3-BFF6-5B748702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927-FC5D-441B-8321-95C2C5E5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E63-3583-4713-9E7B-E4349D4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760-04C9-4C8C-8A52-9CA6025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C00-288F-4F22-9695-5FA14DEC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94E-0CD0-48E4-A081-372B68F4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158-E272-42DE-921E-B909B5A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ECC-C7D4-4254-8F89-0356612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A04-30AB-45F6-A712-B2A1169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9E4-023B-45A2-9D69-2AF4E1B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310-66E8-4D36-A5D3-EB4C9132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9C0-B83B-452C-9A67-5FE0E27989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0E6-8859-4B2F-B1EB-1906F50B27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DFC-55CB-451E-922D-D6A8F2A0C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35F-FC04-4383-BC5B-977096CD9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1D1-F815-4340-AC5D-1DD87F2B23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120" y="1192320"/>
            <a:ext cx="60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SN,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0160" y="4114800"/>
            <a:ext cx="342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, “Joe”, NULL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7AA-C447-4097-B13C-FD818C989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440" y="198108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managerSSN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6280" y="2743200"/>
            <a:ext cx="5137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.SSN, x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x, Employee y, Employe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managerSSN = x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z.managerSSN = y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520" y="4952880"/>
            <a:ext cx="3580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HighManag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123456789”, “Jo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400" y="60199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to execu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447-F4C5-45A3-9809-28D047E1E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974-4959-44AC-97CB-730892A37B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9920" y="1447920"/>
            <a:ext cx="52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7680" y="274320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2B2-53F1-4C86-95EB-6A15255429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9080" y="3200400"/>
            <a:ext cx="685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AEA-ED76-4B5F-B193-4A7C85514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232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EF8-6E02-4EB8-B558-2D89D5E245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437-0D2F-4F6F-8773-7C9BDE3483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8B0-7B08-4D36-BFFE-B71771B08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0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128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26E-1A1F-4081-8D43-F45770E61E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32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29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D4D-9ECB-4626-9C48-7CAD6F7A82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349-A7C4-46D3-84ED-75B62BB83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75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E28-F167-4A20-9557-7D5BB2C41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196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4B5-F0CA-46C2-BA1E-D1751ABE5D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DA3-8595-4B93-8F17-AFDB7F5EA7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5C4-CE91-4907-99AB-8456BD23E0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585-8CE2-4CFA-B52F-4FAF8E6BB1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D4C-BC6F-4F06-88A1-334A74B8B8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6A1-1085-49FE-8BD2-BD09B6B54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E7A-B8A6-4D24-93E0-5482A0AA5F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607-7278-43FF-A088-BD2E2A0A1B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0FA-4C8F-4B16-B727-23F4EB104B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991-A86D-4B44-9ABA-F11853186C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476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E23-D85E-40AE-8C5F-958DE92A26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405-94D3-457D-AF2F-299C2D1561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F8D-97D8-4663-9F32-3AAE0D28DB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52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96F-611C-4209-B04A-E945053A7B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7BE-9B9A-4FF8-8351-C54DD8D2F7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574-C546-4F2E-9B26-7B75AD651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80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83" name="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86" name="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89" name="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89E-D16D-4DFC-BA7C-032AB0167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A1C-16BB-4FFA-8BF3-D27795771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F01-4842-44BC-9ACC-28DB2DD501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4T02:35:31Z</dcterms:modified>
  <cp:revision>280</cp:revision>
  <dc:subject/>
  <dc:title>PowerPoint Presentation</dc:title>
</cp:coreProperties>
</file>