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6BF-20B9-4164-9954-E7EAF730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7F5-BBE2-4FE1-BF8C-F0EFACB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9F8-B3DC-43D6-AC49-F4262A2D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71C-8052-4195-BBC1-C1F283A8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17A-3B70-41E3-A2E3-D7B49ED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547-A541-4F7A-845B-83DDD5D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DC2-6C36-4459-AD37-5C0F7E9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3F2-ED09-47CE-8A20-396E811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5A8-B6CE-4BFF-8997-00DD36F7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2C8-F819-4664-8947-E1CC9C2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F51-CBFD-40FD-9ADF-A2980C1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CCD-E66F-4B4F-BBE6-340AD5D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CD09-DFE0-4B86-801D-2383C3648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4F8-3F71-4999-A952-956028F25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52C-0498-40A4-A233-87A26093E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247-5362-434C-8CC7-4490A7763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775-2F5F-4885-886A-F2C80D1D0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E8E-272D-4DC4-9D6B-33A8B0B63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286-5B29-4759-8951-EE7A25235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F64-0A16-460F-BFDB-E5E36FA5A6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432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656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A07-5DAE-45D3-A1E6-2164FD6E11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004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48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38A-A145-4CDC-9716-DB0188758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449-1D4D-441D-BA23-C732D1145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A93-C034-4857-BFE9-68CBEEB116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84F-A476-47BA-B1F5-747189971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52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288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0008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00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30D-8331-401C-8823-5ADF78417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968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0E9-12BA-4A33-A5F9-9E017877A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8076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22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A17-2676-4A9A-B3B1-9B64D68462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04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53F-2948-44B4-9673-0312D478C7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72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72212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845-5391-4DCF-995D-E502CE6053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400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080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652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F6D-8A38-4B86-B2D6-32254B3D54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70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700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DEF-AD74-44B7-A457-17A8FE82EE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D76-1DF4-4FFC-B61C-4AEAC723BF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7D4-4C7B-48D0-9A96-01479D7A39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700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3C8-A5D5-439B-950F-131D540899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4560" y="3317760"/>
            <a:ext cx="68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quivalent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FB2-8729-4829-9031-5A5361387F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86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2D2-E393-4CC4-8A75-E20410990C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0284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7FF-238F-486F-A443-446A064AA6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1880" y="15228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192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816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08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pi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614-A290-475A-BDA8-C2C248B4D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0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4560" y="33177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ore, find the Product ID of its most expensiv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29F-806D-4981-9117-D8B6526F1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4680" y="1981080"/>
            <a:ext cx="5274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980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x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560" y="1565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76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080" y="552780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62E-9526-4A9B-A528-52C0D4E8F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892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x.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752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804-CB2C-49F6-8FE6-B7E76D7F4D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D88-1345-4355-A949-0E31B6FBB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F03-BAC0-462B-B92F-43542AF86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2T05:06:00Z</dcterms:modified>
  <cp:revision>256</cp:revision>
  <dc:subject/>
  <dc:title>PowerPoint Presentation</dc:title>
</cp:coreProperties>
</file>