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356-9694-4E87-9348-E15EDB4D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CC7-C0F6-4EDE-9F38-AF1D5823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C18-DE94-47B5-A530-91B95B54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569-ABFD-40C0-841C-9BCA67F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3EB-1F57-49C0-9DC3-24BD448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66B-D211-4C2E-8D32-23FD286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FA8-E9EF-46FD-B6DD-F10D844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99B-1B84-409D-AB56-0DD2FAF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33D-AF5A-4232-8A58-6AE1D50E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AC7-5B25-4B41-9188-5A8B947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4F9-FA88-4973-810A-514BBD2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CC9-9808-47C4-A570-21C1AAA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ECB9-8CBD-488D-B643-7341F0FE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A69-A0A1-46AE-B5F6-99423B40C7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206-BEE6-4D5A-B9C5-BBD0575AA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B06-B47F-467A-8386-14A0159B6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775-52D8-47BB-BF61-18E88FD96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156-37AA-4CF9-9B41-B042BC0739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15D-9E18-476A-BB48-6B9EC6B149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344-9210-4CE1-B7FB-2BA489B0A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432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656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733-1A0F-413F-9EE3-6E4D6B843C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004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48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ABC-7A98-45C0-B62D-EBD24A3659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650-E5C4-4211-B0D0-1863BD4FA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7C8-961C-48EF-A88A-B0B195980E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D46-2F3E-4A84-84B3-4F4A0CF3C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B9F-17FC-4601-B959-457FF6F60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D69-DDE1-4F7C-86A9-EDC768C5E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D7E-42F9-4581-8DA5-65FA77C883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B45-E496-4982-9416-1A2D5CBEF8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79B-E64E-43CD-99C6-2881B8B46C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541-CA3B-4801-83A1-1C6ED47E23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764-8298-430B-8F19-D76C862B04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923-37EA-4A75-B534-7407935D48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9FA-B44F-45CC-AC27-5A19869CDC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700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E58-3218-437C-9466-96945568DD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4560" y="3317760"/>
            <a:ext cx="68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quivalent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63C-CC92-4939-A74F-10828DCDE1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86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C06-C136-42AA-8E8A-A9059048F6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0284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5E2-B3A7-487F-BC9B-B537FD473E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1880" y="15228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192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816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08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pi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721-F8FB-4F62-9ABB-312EA06B34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0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4560" y="33177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ore, find the Product ID of its most expensiv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50E-1C11-4210-AA49-7FBDFFF743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4680" y="1981080"/>
            <a:ext cx="5274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980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x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560" y="1565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76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080" y="552780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4A8-5E05-4451-B8A9-5AC158B91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892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x.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752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5DA-1342-42BD-AF31-0E35C9FD1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2EB-3406-4122-85F9-246A4B5D7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7D0-BA7E-4BA5-906E-9C4062522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2T05:06:00Z</dcterms:modified>
  <cp:revision>256</cp:revision>
  <dc:subject/>
  <dc:title>PowerPoint Presentation</dc:title>
</cp:coreProperties>
</file>