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21E-7E5C-4AC0-BB75-5065C400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D2D-BFE0-445A-B562-16AB387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1C3-D852-4288-A0D3-B3F6E7D0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24E-4E41-49FE-90DF-7344F56C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394-F417-4AF4-9169-27649CD6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025-3765-45F4-9D39-436EE3D6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C23-9F61-4FA9-83BC-0DE95B6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3B6-CAC3-4AE2-AFC1-231CEBB2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9A6-9F88-49AA-82C3-AAA45B4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DA9-D706-4536-BF43-2FBFA89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B1F-D0A2-4A71-B979-65B62BD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C41-D567-4A00-BA74-A18ABD8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E66-30DF-4FA2-BDFB-1CBC1C21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1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FE2-D3A5-4286-A957-31E7ECB589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E8C-81F0-4464-9117-5B6A5E968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368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096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274-086C-4FD7-9C25-EEF47D5B9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08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9C9-40B6-4285-B8B4-2752A62339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B89-2946-4E8B-A0E5-427BECC19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464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6F2-B3DC-4081-B156-BA89CD79B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96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0B7-73B1-4243-889D-02209E0D3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4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935-5CC7-4D2A-9424-D8B0F69356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552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E34-2A88-4F9A-9487-EB8E658A4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some of group-by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9760" y="5029200"/>
            <a:ext cx="1399680" cy="652680"/>
          </a:xfrm>
          <a:prstGeom prst="wedgeEllipseCallout">
            <a:avLst>
              <a:gd name="adj1" fmla="val -102425"/>
              <a:gd name="adj2" fmla="val -239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8F4-F342-4DEC-A3CF-FAF782FAF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898-9D2C-483B-B525-D3281A8680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 (out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1: Inventory - Allen to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2: Billing - Krell to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3: Shipping - Pop to W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1: Relational Schema for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6: Project Phase I  d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course website: check regularly for possible changes (all changes are announced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88D-B81C-40B4-A094-2955C2EBEC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Queries with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, and their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8A6-61CC-4B32-AFF3-F0EA405585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 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0400" y="2666880"/>
            <a:ext cx="2411280" cy="1692360"/>
          </a:xfrm>
          <a:prstGeom prst="wedgeEllipseCallout">
            <a:avLst>
              <a:gd name="adj1" fmla="val -98004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rit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857-7AA4-4C49-A4A7-70D68576D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640" y="3962520"/>
            <a:ext cx="51076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,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9964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CC3-4390-4629-A7E5-CD6129AD8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44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24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3DF-D0B9-4956-AA51-CC77F0639F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011-8CEF-4245-BFB2-1A5396C19A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956-631D-4598-9984-8D6DE3F7F2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00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685-757A-4CF6-8375-73755B89AB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080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EDF-AD75-48E4-881F-C8B3077770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0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AF9-39A9-4C98-A621-D21B978B94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573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168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25A-8C6C-453A-857A-EF9E880B72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 populate the database, send us the sche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January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a Webpage: due January 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orking on the Webp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21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 ?  Ask me or Victor T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161-CB30-4418-A4E5-0D873C4AE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9F9-A96A-4623-A3CF-1F569F2E8E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835-280E-4E2F-8E52-4E294F11DE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6D7-C8DB-4C98-B53A-0C56B657B8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209-04EC-4D55-9360-AF2ED0FBF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03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664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480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256-BFD9-4B06-B71D-F0C5AAC497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544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F19-4A05-40C8-B183-AAE545F99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63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308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229-2B61-4163-9BA0-32DFEBA5B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4800" y="1946160"/>
            <a:ext cx="700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1400" y="2917800"/>
            <a:ext cx="3449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800" y="449568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240" y="28954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06C-A4C8-4499-8B2C-D6AE22974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920" y="1946160"/>
            <a:ext cx="629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14200" y="328284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8240" y="464832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F40-EA4D-4EA7-BEBE-A7C745C62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Trial User</cp:lastModifiedBy>
  <dcterms:modified xsi:type="dcterms:W3CDTF">2005-01-10T06:57:04Z</dcterms:modified>
  <cp:revision>193</cp:revision>
  <dc:subject/>
  <dc:title>PowerPoint Presentation</dc:title>
</cp:coreProperties>
</file>