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BB1-93BE-4947-9268-D1E76D9A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DFC-99CA-4AB1-8D46-BE0152D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19C-C8F2-4FD4-95CB-11F0CBF2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F34-6184-4F61-8D80-43E8349B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752-D209-4EE2-ADFE-FFC990B4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394-4E41-411C-AC8F-FEF24736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DB5-87FB-4BC4-AD65-7A954554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EA1-DCD7-4DA9-AE7D-9560064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FCB-DBE6-4272-A4A4-E83E2028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F01-457B-4364-A4F3-244E98CB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1CE-4A00-4D1F-B456-1ECF539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D9E-DC5E-40C5-BD0D-E9E9396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C7E-1A9B-4897-9B51-48281D3E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10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05E-5AAA-46AB-92FD-E92B2D7B6D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F93-14A7-4666-B222-102384FF7D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17F-C4A1-4AFF-B6BB-18ED83486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79B-874C-4B57-9D7E-94A13DA961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1BD-3396-40F3-AC1A-ADFA99E3E2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0C4-40CD-491C-97E9-5E3E04E421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A2B-36CD-4244-B76A-77C52AF19F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019-2142-4734-BE82-AD60EF1104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1C0-86E8-4298-B932-50FC5E777F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some of group-by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9760" y="5029200"/>
            <a:ext cx="1399680" cy="652680"/>
          </a:xfrm>
          <a:prstGeom prst="wedgeEllipseCallout">
            <a:avLst>
              <a:gd name="adj1" fmla="val -102425"/>
              <a:gd name="adj2" fmla="val -239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8B6-075A-4312-A81D-42FE0457CF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A96-35ED-41BB-83F2-F841A5A221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 (out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1: Inventory - Allen to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2: Billing - Krell to Phil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3: Shipping - Pop to W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1: Relational Schema for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6: Project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course website: check regularly for possible changes (all changes are announced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178-1ECC-4D93-BBE7-1FA255CFDE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Queries with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, and their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7F7-391B-4555-9CF8-083D241B40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 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0400" y="2666880"/>
            <a:ext cx="2411280" cy="1692360"/>
          </a:xfrm>
          <a:prstGeom prst="wedgeEllipseCallout">
            <a:avLst>
              <a:gd name="adj1" fmla="val -98004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writ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CBD-87BB-49A1-9648-1A0D114999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640" y="3962520"/>
            <a:ext cx="51076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,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588-5468-4A46-845F-A795822994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C0C-C518-4075-A8C3-DD71828162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546-D521-4ABA-B46C-8938142FEB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D9E-CB29-4305-B9A2-308AAFB341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400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08A-ACFD-409B-A797-0EFB7FCD87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080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DA2-4F8F-4D0D-AAF8-CA1C0BA6D5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0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F9C-7B1F-45B7-A68E-7254E26FE2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075-0E5E-4196-80A9-02EA80DF22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domain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Schema, populate the database, send us the sche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th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January 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reate a Webpage: due January 2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orking on the Webp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21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?  Ask me or Victor T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1B2-7545-4921-9AAE-F93180DD43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C8F-95D9-483E-B705-200999A343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8FD-9F28-4E43-86E2-5FD70DA9B2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D04-13D3-4FCA-AFD4-44FCB4427F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DD5-58A7-4A81-BDE2-0130FC9E7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 and EXCEP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292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03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8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664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34800" y="1143000"/>
            <a:ext cx="2540880" cy="1862280"/>
          </a:xfrm>
          <a:prstGeom prst="wedgeEllipseCallout">
            <a:avLst>
              <a:gd name="adj1" fmla="val -57490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2EA-5A66-4E45-9A75-5931A88B5F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544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111-98B4-498C-89FE-E82488DC94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003-7A98-4DE8-9D89-7F3E01B3C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4800" y="1946160"/>
            <a:ext cx="700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1400" y="2917800"/>
            <a:ext cx="3449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800" y="449568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240" y="28954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921-5976-4EEA-B687-0114D2348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920" y="1946160"/>
            <a:ext cx="629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14200" y="328284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8240" y="464832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6BE-5D4B-43E5-9D2C-A400FE9C0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Trial User</cp:lastModifiedBy>
  <dcterms:modified xsi:type="dcterms:W3CDTF">2005-01-10T06:57:04Z</dcterms:modified>
  <cp:revision>193</cp:revision>
  <dc:subject/>
  <dc:title>PowerPoint Presentation</dc:title>
</cp:coreProperties>
</file>