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3F2-7095-40B1-A13E-9207C27A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BAB-660A-48A5-8A7C-4F360B0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A43-3724-491C-BE9F-8C5376BC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19A-50A1-4493-A223-C67C8034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69D-034E-4799-893F-31082A02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F1B-385B-42AF-A7DF-69CD1640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058-C633-4A0B-B2C1-A54889F9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B69-6C61-419A-95F0-8C960037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02A-503D-43E4-93AE-F747D58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53D-8BA9-4234-B2E0-7387F086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D99-EAB2-4055-885B-8C60EBD5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E6B-F848-4530-ACCF-96AA4B1F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3516-7ADF-4955-8607-91385355E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9F8-E580-4B34-B93C-F94C70A795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8560" y="25909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96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" y="502920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492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A09-5676-4DA0-99C7-11DF771851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0120" y="46483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1560" y="1600200"/>
            <a:ext cx="70434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‘Joe Blow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56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663-096A-4546-B189-693791AE4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572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444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060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516-C55B-4CE2-8053-527CA1180D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715-5BEF-45C8-8D2D-A32CD0A431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924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624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648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406-95E7-4910-A570-68671D9109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08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008-94D5-4DF0-8134-71353B1538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720" y="3276720"/>
            <a:ext cx="78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6760" y="4191120"/>
            <a:ext cx="7448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24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D20-02F8-4B6D-8645-1A9DEEDE63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6000" y="3352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39960" y="41911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120" y="5257800"/>
            <a:ext cx="784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English for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only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E9F-A6D6-46E6-ACA4-6DBB207BE0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56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720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BC5-C5AC-4606-9452-AD15422613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5440" y="2362320"/>
            <a:ext cx="3495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Toyo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136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C6A-F326-4E8F-912E-B520423DE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you logged in IISQLSRV ye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YOU CHANGED YOUR PASSW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now posted.  Due: 1/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459-3377-4DD5-946F-540C96D2CD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263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308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275-CB45-4A3F-A76D-DC089D5AAC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4800" y="1946160"/>
            <a:ext cx="700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         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3F5-5E0F-46FB-B1A6-481D6955F6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920" y="1946160"/>
            <a:ext cx="629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5D0-F57D-46C6-81B1-0636DA8024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228-9A43-4472-B0D6-1A85B188DE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368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096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FBB-25BC-4407-B507-E84360F03F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708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679-8059-48E8-8016-226EC06D05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D84-E824-4C92-8FDC-CE48661112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B2C-3B32-4ADA-A612-3732F5228E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96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C01-F319-47AE-B468-56736A7004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904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416-C643-46D7-9768-18FCA51CD4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, intersections, differen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6.2.5, 6.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8120" y="47242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for reading the textbook: read the entire chapter 6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7520" y="5527800"/>
            <a:ext cx="77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 from “SQL for Nerds”: chapter 4, “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ies”  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891-9FE9-42E5-A582-C2129EDF69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8CD-8E70-4520-836C-A342149AAE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890-7612-4301-B170-C3738A46B0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D15-6F27-453A-B5B0-1ACCC2E9F3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104-695D-43CE-BE9C-D2CE1A0D1E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56000" y="2666880"/>
            <a:ext cx="1713960" cy="1692360"/>
          </a:xfrm>
          <a:prstGeom prst="wedgeEllipseCallout">
            <a:avLst>
              <a:gd name="adj1" fmla="val -96847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908-8055-4509-9D18-81E2D13055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312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964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A00-03E6-4248-B16C-E4928AFCB2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444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24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AE9-CD63-464D-BD10-B595DC8624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33280" y="3809880"/>
            <a:ext cx="654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k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4038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76920" y="5181480"/>
          <a:ext cx="270504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k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97680" y="5319000"/>
            <a:ext cx="220716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718-DFD9-4421-B734-E11F46CB90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3800" y="1717560"/>
            <a:ext cx="60375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uyer=name AND store=‘The Bo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28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B1C-956F-47CE-9F4A-D0862163E2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1400" y="2209680"/>
            <a:ext cx="60375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‘The Bo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AC3-9C32-42D1-A667-5D7927A8E0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query producing a singl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24360" y="2514600"/>
            <a:ext cx="5417280" cy="20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‘123456789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CA6-64CD-4751-919E-E5DE6B46AC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quivalent to the previous one when the ssn is a k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‘123456789’ exists in the databas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y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9800" y="2666880"/>
            <a:ext cx="619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‘123456789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787-EA76-4743-BDB1-58FF4478E7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9440" y="2590920"/>
            <a:ext cx="7205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3720" y="20224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that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840" y="571500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: no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6D4-64C2-4276-869B-2146D90EA2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07T02:43:25Z</dcterms:modified>
  <cp:revision>283</cp:revision>
  <dc:subject/>
  <dc:title>PowerPoint Presentation</dc:title>
</cp:coreProperties>
</file>