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10E-D5CC-4D9A-8E13-CD7DF37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1A0-108D-413B-AB36-AAF69C5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DD7-2963-4A45-8B22-88927540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6F8-7E5E-4FBF-942F-8D7E9405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A7D-CA96-49F6-8C37-FEC665C0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CC2-2AD7-42BB-938D-21902E55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DDF-103D-4567-98C9-934E3C2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4FF-D433-429F-AE01-F2BBC165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3D6-50D3-4419-9AAF-48C7866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B9E-AB7F-4536-A594-9A69828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DB3-3EA2-4A50-9B89-33BE03F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F41-2509-4055-A9E6-F801ED6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9B7-0DCB-4ED0-89DD-AAC0D654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A83-025F-4265-A6C2-9191F34D37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856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96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" y="502920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AA9-E64C-41A6-B022-17FFE09BF1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012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5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A53-606C-4D2B-ABAC-D60742AB3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6E0-3B74-443F-ABDC-802D07CAC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A4C-EF1E-4039-A489-63E9D9D5D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924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504-FF17-4A3C-8C9F-AFE44472D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08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619-E47A-490B-A42D-A49425654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720" y="327672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6760" y="4191120"/>
            <a:ext cx="7448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F7C-C417-496A-A30D-D99B34B61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000" y="3352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39960" y="4191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25780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English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only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91D-30A8-4172-8273-02374A5F95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93B-98EB-487A-9C31-9AE6066DB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5440" y="2362320"/>
            <a:ext cx="3495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Toyo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B58-3186-4AA7-B00C-50409E711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you logged in IISQLSRV ye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YOU CHANGED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now posted.  Due: 1/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BB8-35BE-4273-82E9-625ABD5B5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99D-97CA-46E0-B473-516B7CCBC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480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826-886D-49A1-80E8-2C4753B39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92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30F-CC99-4083-976E-2134634B52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B29-7EBE-49A4-9F93-7B51371126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D89-F041-4EB4-B601-518EAD8BC3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6D2-63B7-458C-9F01-34E9DAEFF5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8C6-4BE4-4BE3-985D-287BFC1042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444-6AAE-492E-9DDA-BF79E9A0A5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650-56F4-4784-904B-C5FA4EFCB0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F64-451B-4685-A0E5-E1A8FF8DC4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812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752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04C-235C-4434-B402-293FD7A2A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27B-BCC6-4D04-B193-09FD427439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9BB-6F29-4D54-8B07-3F6FC79FBD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507-B21C-4EA6-AC10-5264F22BD4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5E3-BF56-4326-9680-D7512A1EAF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D8C-305C-4E4C-8AFD-8C32184B2B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8FF-12CF-40CF-904A-7152F72AB7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0AA-E95E-406D-BE73-E642A6DEF7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3328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AED-D6A0-4C94-93DA-C7D444EFB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3800" y="1717560"/>
            <a:ext cx="60375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‘The Bo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28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7FC-906F-41C8-86D1-A641ACFFC5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1400" y="2209680"/>
            <a:ext cx="60375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‘The Bo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39F-D88F-48B3-B858-7FF974ACD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CBE-DF10-44FC-BCBF-B7607587C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5E9-33E0-4CAE-AE6E-B7AAE699C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94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3720" y="20224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that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84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DFA-53AD-47DC-B20C-FF836E210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07T02:43:25Z</dcterms:modified>
  <cp:revision>283</cp:revision>
  <dc:subject/>
  <dc:title>PowerPoint Presentation</dc:title>
</cp:coreProperties>
</file>