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4E52-F22A-4644-ADF2-06E31428D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odd, 197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405-18AE-487D-8ACC-8BD3E6B0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24D-275E-4954-BEDB-F7821D4C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40F-987D-4E35-9334-7BAE907A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9BD-CAF6-47E2-889C-2C3E33F3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B20-53E8-4EDE-80AE-BAAD43F9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0F4-82C1-4151-9C67-EECFF435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F97-E22A-4BCC-8E5D-B3A14634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A97-1190-4B23-8712-21C03D8D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3D3-2407-4807-B99F-AC3C8B50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36D-4265-43AB-AA67-54FD130C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C8D-2102-4A8E-93DB-D335917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D3F-BB43-4D4C-B49D-D8DF0B69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ADD3-ABB8-4766-9228-1367AE906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cse444/CurrentQtr/Domain1.htm" TargetMode="External"/><Relationship Id="rId2" Type="http://schemas.openxmlformats.org/officeDocument/2006/relationships/hyperlink" Target="http://www.cs.washington.edu/education/courses/cse444/CurrentQtr/Domain1.htm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6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735-CA1D-48C5-8ADD-29CD22AD90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ble is the table name and its 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PName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ibute whose values are uniqu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nderlin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687-83D7-42DD-9ACE-50007A7266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160" y="2666880"/>
            <a:ext cx="686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plus many many more bells and whis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8520" y="3957480"/>
            <a:ext cx="6080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ttribu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relations, possibly multiple, joine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ndi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6EC-BBEE-44BA-A724-9C99F24EFC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33280" y="3809880"/>
            <a:ext cx="3919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76720" y="5257800"/>
          <a:ext cx="541008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71440" y="5852160"/>
            <a:ext cx="217512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A4E-C50E-4CCF-A522-DA7E5D69A6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325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114800" y="5257800"/>
          <a:ext cx="405756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46320" y="5319000"/>
            <a:ext cx="29062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2F1-653F-42A1-9971-9610839BA5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tation for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2920" y="3809880"/>
            <a:ext cx="4848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4960" y="3200400"/>
            <a:ext cx="49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3280" y="52578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swer(PName, Price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10360" y="1752480"/>
            <a:ext cx="2653560" cy="652680"/>
          </a:xfrm>
          <a:prstGeom prst="wedgeEllipseCallout">
            <a:avLst>
              <a:gd name="adj1" fmla="val -37972"/>
              <a:gd name="adj2" fmla="val 1689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52840" y="6019920"/>
            <a:ext cx="2941560" cy="652680"/>
          </a:xfrm>
          <a:prstGeom prst="wedgeEllipseCallout">
            <a:avLst>
              <a:gd name="adj1" fmla="val 20055"/>
              <a:gd name="adj2" fmla="val -10347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A5F-1CF9-40ED-B853-85631D1044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oes in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y, x &lt; y, x &lt;= y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umber, they have the usual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HAR and VARCHAR: lexicographic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conversion between CHAR and VAR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ates and times, what you expe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 matching on strings: s LIKE p (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D17-7C36-4F56-87C6-D9D556AF1F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products whose name mentions ‘gizmo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5029200"/>
            <a:ext cx="4022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Product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%gizmo%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775-7AFC-4D66-9DE2-3141EBA67D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320" y="2133720"/>
            <a:ext cx="403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4560" y="4876920"/>
            <a:ext cx="25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324480" y="4343400"/>
          <a:ext cx="1352520" cy="167472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B4D-48D8-43E7-BD59-AE484134A8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6440" y="2133720"/>
            <a:ext cx="5734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izmo’ AND 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812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626-A8C1-44CF-B965-C19864CE78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680" y="2133720"/>
            <a:ext cx="275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40384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6095880" y="4648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3840" y="41911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183-CAB7-4F7A-B2B5-1B28906A86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Reading Assi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read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nvented relational database _x0008__x0008__x0008_system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9A7-2CA3-423B-8727-22F72C9912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320" y="213372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320" y="457200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3120" y="44956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852-81D4-4715-AA8C-D20611A73E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wo or mor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2590920"/>
          <a:ext cx="6553080" cy="182556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  <a:gridCol w="1638360"/>
                <a:gridCol w="1638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5349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8480" y="47242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00400" y="4724280"/>
          <a:ext cx="5410080" cy="1930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45960" y="5158080"/>
            <a:ext cx="24469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F7C-07AC-4200-92C4-D4A532D22E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under $200 manufactured in Japa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ir names and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8040" y="4191120"/>
            <a:ext cx="7139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438280" y="3200400"/>
            <a:ext cx="6395040" cy="2209680"/>
            <a:chOff x="2438280" y="3200400"/>
            <a:chExt cx="6395040" cy="2209680"/>
          </a:xfrm>
        </p:grpSpPr>
        <p:sp>
          <p:nvSpPr>
            <p:cNvPr id="138" name=""/>
            <p:cNvSpPr/>
            <p:nvPr/>
          </p:nvSpPr>
          <p:spPr>
            <a:xfrm>
              <a:off x="2438280" y="4876920"/>
              <a:ext cx="2743200" cy="533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75040" y="3200400"/>
              <a:ext cx="3158280" cy="1692360"/>
            </a:xfrm>
            <a:prstGeom prst="wedgeEllipseCallout">
              <a:avLst>
                <a:gd name="adj1" fmla="val -77064"/>
                <a:gd name="adj2" fmla="val 5506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i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ween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0B6-0014-40AD-A262-F1799AA286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45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49" name=""/>
          <p:cNvGraphicFramePr/>
          <p:nvPr/>
        </p:nvGraphicFramePr>
        <p:xfrm>
          <a:off x="5943600" y="5638680"/>
          <a:ext cx="1904760" cy="546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19320" y="2362320"/>
            <a:ext cx="7619760" cy="1066680"/>
            <a:chOff x="1219320" y="2362320"/>
            <a:chExt cx="7619760" cy="1066680"/>
          </a:xfrm>
        </p:grpSpPr>
        <p:sp>
          <p:nvSpPr>
            <p:cNvPr id="152" name=""/>
            <p:cNvSpPr/>
            <p:nvPr/>
          </p:nvSpPr>
          <p:spPr>
            <a:xfrm>
              <a:off x="7772400" y="2666880"/>
              <a:ext cx="1066680" cy="76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19320" y="2362320"/>
              <a:ext cx="83808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1134400">
              <a:off x="3346200" y="2746080"/>
              <a:ext cx="29718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16440" y="4330800"/>
            <a:ext cx="48074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339-464A-4318-948D-2136427D3E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untries that manufacture some product in the ‘Gadgets’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2760" y="4191120"/>
            <a:ext cx="756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E02-1D59-41B2-80AB-5A9ACC9F6A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65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553080" y="5181480"/>
          <a:ext cx="1270080" cy="109224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51440" y="5158080"/>
            <a:ext cx="22381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208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731-68A0-4410-A46A-8DA0631D7F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rs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names of people living in Seattle that bought some  product in the ‘Gadgets’ category, and the names of the stores they bought such produc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25440" y="4952880"/>
            <a:ext cx="71456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name, stor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,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name=buyer AND product = pnam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city=‘Seattle’ 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7A6-9EC8-4A8A-B9B2-81FE1481A1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mbiguat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wo relations have the same attr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pname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c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6680" y="35053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0000" y="5486400"/>
            <a:ext cx="7038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pname, Company.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worksfor = Company.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05160" y="30463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48769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8A1-0CA9-4E23-889E-7C3F11E7F9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4520" y="3962520"/>
            <a:ext cx="7351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AS x, Purchase 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AND y.store = ‘BestBu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760" y="289548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old at least one product that the st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BestBuy’ also so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60199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swer (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2520" y="16002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p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persname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13D-97AC-4EA5-9F0E-6841E6B373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066680"/>
            <a:ext cx="7130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ru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variables introduced automatically by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work when Product occurs more than o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at case the user needs to define variables explici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7040" y="2666880"/>
            <a:ext cx="288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73000" y="4343400"/>
            <a:ext cx="3864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AS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2A8-0F6F-42BE-9398-D87CCDA5C4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6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3, “Simple Queries” fr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hilip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reenspu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B1B-6B98-431F-B1B9-92AB0FA288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ested lo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0" y="3809880"/>
            <a:ext cx="787392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045-D567-4A2A-BCC1-C0BC8B2245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rallel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impose any ord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960" y="3886200"/>
            <a:ext cx="79531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assignments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, …,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764-075C-4CB6-86A2-C687DEBD9DB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8680" y="1793880"/>
            <a:ext cx="465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    (S  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514600" y="3733920"/>
                <a:ext cx="3808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200400" y="3733920"/>
                <a:ext cx="387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D84-E1FE-427C-8E56-867E4991E3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072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7760" y="3241800"/>
            <a:ext cx="555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2 (a.k.a. SQL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9 (a.k.a. SQL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 of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discuss is common to all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4EC-0177-431C-8DA9-19043F0E3F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/alter/delete tables and their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lectu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one or more tables – discussed nex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/delete/modify tuples in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-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package a sequence of SQL statem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0E3-FCA9-425A-ADF2-548E41604D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ypes, a.k.a.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built from atom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B1D-EA11-4BAA-9CA0-912C627F2E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INT, INT, SMALLINT, TINY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, FLO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differ in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  All are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6C4-F8DF-4178-9A77-968AE8646B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43000" y="2209680"/>
          <a:ext cx="7696080" cy="355572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610200" y="1676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01120" y="304920"/>
            <a:ext cx="3041280" cy="652680"/>
          </a:xfrm>
          <a:prstGeom prst="wedgeEllipseCallout">
            <a:avLst>
              <a:gd name="adj1" fmla="val 546"/>
              <a:gd name="adj2" fmla="val 2791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8520" y="228600"/>
            <a:ext cx="2292120" cy="652680"/>
          </a:xfrm>
          <a:prstGeom prst="wedgeEllipseCallout">
            <a:avLst>
              <a:gd name="adj1" fmla="val -22365"/>
              <a:gd name="adj2" fmla="val 19839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480" y="6095880"/>
            <a:ext cx="2856960" cy="652680"/>
          </a:xfrm>
          <a:prstGeom prst="wedgeEllipseCallout">
            <a:avLst>
              <a:gd name="adj1" fmla="val -1861"/>
              <a:gd name="adj2" fmla="val -11681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o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058-B5E9-4E82-BCB8-D46930448F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uple = a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tion: all attributes are of atomic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= a set of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a l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t is unorderd: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sted tables, only flat tables are allowe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see later how to decompose complex structures into multiple flat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7AA-35E1-4E39-ABBC-AF60109B94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01-05T04:25:18Z</dcterms:modified>
  <cp:revision>198</cp:revision>
  <dc:subject/>
  <dc:title>PowerPoint Presentation</dc:title>
</cp:coreProperties>
</file>