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614B-BBE6-4FDC-B4E5-C40639219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odd, 197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0F0-D39C-4D38-93A3-FB5BCB2D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A54-6FAA-4FC6-818A-23EF1535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3F9-7BBC-42FF-B094-DCF43D53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961-7A9B-4FA1-9E4E-EB143FC7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4CE-AE73-4935-9422-6D625B73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F49-1905-4871-95FF-7646B64E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92CB-20D9-404E-A264-B6197615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7F8-F9F5-4748-9ECA-F6A8B5F7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6C3-C848-4CB5-B3B4-FF3979C5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D7C-13C1-4D8B-96E1-4E49D45C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90B-391E-49AA-AAAB-840DE3D8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485-2340-45B8-A604-6FA5178B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8F6A-8C6C-4281-B2F3-5C63251E9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washington.edu/education/courses/cse444/CurrentQtr/Domain1.htm" TargetMode="External"/><Relationship Id="rId2" Type="http://schemas.openxmlformats.org/officeDocument/2006/relationships/hyperlink" Target="http://www.cs.washington.edu/education/courses/cse444/CurrentQtr/Domain1.htm" TargetMode="Externa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2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January 6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819-7806-4BAD-8D82-6CE588A844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table is the table name and its 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PName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attribute whose values are uniqu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nderlin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072-5838-4083-B63D-C600D60863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2160" y="2666880"/>
            <a:ext cx="686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orm: (plus many many more bells and whis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8520" y="3957480"/>
            <a:ext cx="6080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attribut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relations, possibly multiple, joine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condi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8DF-324E-4EDD-8B4C-3D6F83B092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33280" y="3809880"/>
            <a:ext cx="3919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276720" y="5257800"/>
          <a:ext cx="541008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71440" y="5852160"/>
            <a:ext cx="2175120" cy="6498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E06-BA4F-4438-B45D-6CC2021854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325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114800" y="5257800"/>
          <a:ext cx="405756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346320" y="5319000"/>
            <a:ext cx="29062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482-50C4-4AFC-B4DA-AB43AF1578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tation for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2920" y="3809880"/>
            <a:ext cx="4848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4960" y="3200400"/>
            <a:ext cx="49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3280" y="52578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swer(PName, Price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10360" y="1752480"/>
            <a:ext cx="2653560" cy="652680"/>
          </a:xfrm>
          <a:prstGeom prst="wedgeEllipseCallout">
            <a:avLst>
              <a:gd name="adj1" fmla="val -37972"/>
              <a:gd name="adj2" fmla="val 1689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52840" y="6019920"/>
            <a:ext cx="2941560" cy="652680"/>
          </a:xfrm>
          <a:prstGeom prst="wedgeEllipseCallout">
            <a:avLst>
              <a:gd name="adj1" fmla="val 20055"/>
              <a:gd name="adj2" fmla="val -10347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549-6AD6-4F18-9CC3-69B8436BB1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goes in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y, x &lt; y, x &lt;= y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number, they have the usual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HAR and VARCHAR: lexicographic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conversion between CHAR and VAR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ates and times, what you expe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ern matching on strings: s LIKE p (n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C73-F5A1-4433-A9DA-549CEF60DF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:  pattern matching on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may contain two special symb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 = any sequence of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  = any single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products whose name mentions ‘gizmo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5029200"/>
            <a:ext cx="4022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Product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%gizmo%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823-2910-4BEA-9C27-3E94E38F82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320" y="2133720"/>
            <a:ext cx="403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4560" y="4876920"/>
            <a:ext cx="257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324480" y="4343400"/>
          <a:ext cx="1352520" cy="167472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7CE-6866-40DC-A67A-BBB109B09C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6440" y="2133720"/>
            <a:ext cx="5734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izmo’ AND 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8120" y="4079880"/>
            <a:ext cx="84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is ascending, unless you specify the DESC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 are broken by the second attribute on the ORDER BY lis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D83-5E4F-4988-950B-E7B4674649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680" y="2133720"/>
            <a:ext cx="2759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40384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6095880" y="4648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3840" y="419112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9ED-CE14-4758-B255-272F30BCEC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Reading Assi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read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nvented relational database _x0008__x0008__x0008_system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k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415-8477-40CF-9577-C6FFD51D0D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320" y="213372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320" y="457200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3120" y="44956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81D-543D-49DC-8D2E-6BC7925F8B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two or more 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76520" y="2590920"/>
          <a:ext cx="6553080" cy="182556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  <a:gridCol w="1638360"/>
                <a:gridCol w="1638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5349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8480" y="47242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00400" y="4724280"/>
          <a:ext cx="5410080" cy="1930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45960" y="5158080"/>
            <a:ext cx="2446920" cy="15966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F09-1871-4EAA-A703-42ED439D56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under $200 manufactured in Japa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heir names and pr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8040" y="4191120"/>
            <a:ext cx="71395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438280" y="3200400"/>
            <a:ext cx="6395040" cy="2209680"/>
            <a:chOff x="2438280" y="3200400"/>
            <a:chExt cx="6395040" cy="2209680"/>
          </a:xfrm>
        </p:grpSpPr>
        <p:sp>
          <p:nvSpPr>
            <p:cNvPr id="138" name=""/>
            <p:cNvSpPr/>
            <p:nvPr/>
          </p:nvSpPr>
          <p:spPr>
            <a:xfrm>
              <a:off x="2438280" y="4876920"/>
              <a:ext cx="2743200" cy="5331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75040" y="3200400"/>
              <a:ext cx="3158280" cy="1692360"/>
            </a:xfrm>
            <a:prstGeom prst="wedgeEllipseCallout">
              <a:avLst>
                <a:gd name="adj1" fmla="val -77064"/>
                <a:gd name="adj2" fmla="val 55060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oi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ween 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E7D-E689-4DD3-B6BA-5D1C4F7041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3028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45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49" name=""/>
          <p:cNvGraphicFramePr/>
          <p:nvPr/>
        </p:nvGraphicFramePr>
        <p:xfrm>
          <a:off x="5943600" y="5638680"/>
          <a:ext cx="1904760" cy="546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19320" y="2362320"/>
            <a:ext cx="7619760" cy="1066680"/>
            <a:chOff x="1219320" y="2362320"/>
            <a:chExt cx="7619760" cy="1066680"/>
          </a:xfrm>
        </p:grpSpPr>
        <p:sp>
          <p:nvSpPr>
            <p:cNvPr id="152" name=""/>
            <p:cNvSpPr/>
            <p:nvPr/>
          </p:nvSpPr>
          <p:spPr>
            <a:xfrm>
              <a:off x="7772400" y="2666880"/>
              <a:ext cx="1066680" cy="7621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19320" y="2362320"/>
              <a:ext cx="83808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1134400">
              <a:off x="3346200" y="2746080"/>
              <a:ext cx="29718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16440" y="4330800"/>
            <a:ext cx="480744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9AD-1C07-4539-BC54-1C8EFD05C2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untries that manufacture some product in the ‘Gadgets’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2760" y="4191120"/>
            <a:ext cx="7563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ED0-2A32-4941-98F9-9F2AD50007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3028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65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2209680" y="2438280"/>
            <a:ext cx="76212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553080" y="5181480"/>
          <a:ext cx="1270080" cy="1092240"/>
        </p:xfrm>
        <a:graphic>
          <a:graphicData uri="http://schemas.openxmlformats.org/drawingml/2006/table">
            <a:tbl>
              <a:tblPr/>
              <a:tblGrid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451440" y="5158080"/>
            <a:ext cx="2238120" cy="15966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’s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2080" y="3962520"/>
            <a:ext cx="50878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675-F93F-46FD-AE74-CCAEEBAF27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rs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hone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names of people living in Seattle that bought some  product in the ‘Gadgets’ category, and the names of the stores they bought such produc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25440" y="4952880"/>
            <a:ext cx="71456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name, stor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,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name=buyer AND product = pname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city=‘Seattle’ 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F18-066B-4800-B7C2-BDD480DB18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mbiguating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wo relations have the same attr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son(pname, address, worksfo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c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6680" y="3505320"/>
            <a:ext cx="4870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 = 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0000" y="5486400"/>
            <a:ext cx="7038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.pname, Company.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worksfor = Company.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05160" y="3046320"/>
            <a:ext cx="1859400" cy="1172520"/>
          </a:xfrm>
          <a:prstGeom prst="wedgeEllipseCallout">
            <a:avLst>
              <a:gd name="adj1" fmla="val -78587"/>
              <a:gd name="adj2" fmla="val 10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48769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212-FE3F-4C96-B29C-2E29597A5D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4520" y="3962520"/>
            <a:ext cx="7351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AS x, Purchase A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AND y.store = ‘BestBu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760" y="2895480"/>
            <a:ext cx="71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that sold at least one product that the st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BestBuy’ also so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60199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swer (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2520" y="160020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p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persname, phone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D5C-618B-45FD-B7C2-B861C70CB4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1066680"/>
            <a:ext cx="7130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rul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 variables introduced automatically by th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work when Product occurs more than o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at case the user needs to define variables explici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7040" y="2666880"/>
            <a:ext cx="2884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73000" y="4343400"/>
            <a:ext cx="3864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AS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E44-465B-4DE2-8336-C69DD89867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Queries in SQL (6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with more than one relation (6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3, “Simple Queries” fr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hilip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reenspu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philip.greenspun.com/sq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CEDA-3599-4C7E-94E4-E190A87272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ested lo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0" y="3809880"/>
            <a:ext cx="7873920" cy="27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B29-10FE-404D-BC0E-298DEAEA4F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arallel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impose any orde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960" y="3886200"/>
            <a:ext cx="795312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assignments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, …,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7FB-4D07-4497-B437-FA5C286893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Unintuitive SQ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8680" y="1793880"/>
            <a:ext cx="4658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     (S     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happens if T is 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514600" y="3733920"/>
                <a:ext cx="3808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200400" y="3733920"/>
                <a:ext cx="387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824-1A01-438B-8EA1-B3E4D92138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0720" y="1717560"/>
            <a:ext cx="68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anguage for querying and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ctured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ry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7760" y="3241800"/>
            <a:ext cx="555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ndards out the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I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92 (a.k.a. SQL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99 (a.k.a. SQL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support various subsets of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discuss is common to all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2C4-B3DB-40AE-864A-59E05FA9D3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Definition Language (D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/alter/delete tables and their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lectu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anipulation Language (D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one or more tables – discussed nex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/delete/modify tuples in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-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package a sequence of SQL stateme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’t discuss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467-F271-4E13-9474-CFFE8860B5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types, a.k.a.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 built from atom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A95-9D40-4335-834B-79F1D99EB9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(2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fixed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CHAR(4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variabl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INT, INT, SMALLINT, TINY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, FLO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differ in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and d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SQ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...  All are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BE3-D717-4612-A797-2143A546AB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43000" y="2209680"/>
          <a:ext cx="7696080" cy="355572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610200" y="16765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01120" y="304920"/>
            <a:ext cx="3041280" cy="652680"/>
          </a:xfrm>
          <a:prstGeom prst="wedgeEllipseCallout">
            <a:avLst>
              <a:gd name="adj1" fmla="val 546"/>
              <a:gd name="adj2" fmla="val 2791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8520" y="228600"/>
            <a:ext cx="2292120" cy="652680"/>
          </a:xfrm>
          <a:prstGeom prst="wedgeEllipseCallout">
            <a:avLst>
              <a:gd name="adj1" fmla="val -22365"/>
              <a:gd name="adj2" fmla="val 19839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480" y="6095880"/>
            <a:ext cx="2856960" cy="652680"/>
          </a:xfrm>
          <a:prstGeom prst="wedgeEllipseCallout">
            <a:avLst>
              <a:gd name="adj1" fmla="val -1861"/>
              <a:gd name="adj2" fmla="val -11681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or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EEE-A388-4C5F-ADCB-5F915F6A71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uple = a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ction: all attributes are of atomic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= a set of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a l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t is unorderd: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sted tables, only flat tables are allowed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see later how to decompose complex structures into multiple flat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58E-127A-4F31-B568-9DD1CDB13D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01-05T04:25:18Z</dcterms:modified>
  <cp:revision>198</cp:revision>
  <dc:subject/>
  <dc:title>PowerPoint Presentation</dc:title>
</cp:coreProperties>
</file>