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1CE-42CF-4507-A3B5-9425743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2EF-4D43-4CAA-92EE-EF8C1CA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93F-AC3C-4567-99A2-0B3A8A90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377-B6F4-405C-B470-69A5453B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DCC-9290-4847-ACA5-495BB45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221-E8DB-4212-9BB3-49A36C3B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8CB-35AD-486A-83AD-CE5DE42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753-7B73-43CD-BBF6-296C9F1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BC7-3E8E-4920-9910-64042F9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21B-7A70-4C48-AA65-9212836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980-5A53-4BB0-9415-415BBE7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95B-F4DD-4B55-AC42-BE08D25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5EE-3209-4252-BB28-45E1EAF8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6.pct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3E0-F551-4D48-997D-5EA62FB39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1CC-6C86-4800-84CE-CF7A82F1D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1CF-CAAC-4778-9797-891A4C94BE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5440" y="3124080"/>
            <a:ext cx="6464520" cy="33980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972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0840" y="4952880"/>
            <a:ext cx="1949760" cy="652680"/>
          </a:xfrm>
          <a:prstGeom prst="wedgeEllipseCallout">
            <a:avLst>
              <a:gd name="adj1" fmla="val -171226"/>
              <a:gd name="adj2" fmla="val 2590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F0D-ADB5-47F0-A806-F31B98D16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a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students.txt – 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920" y="2209680"/>
            <a:ext cx="1949760" cy="652680"/>
          </a:xfrm>
          <a:prstGeom prst="wedgeEllipseCallout">
            <a:avLst>
              <a:gd name="adj1" fmla="val -121976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1ED-A719-4532-8440-5EE0B8AEC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2160" y="5207040"/>
            <a:ext cx="3041280" cy="1692360"/>
          </a:xfrm>
          <a:prstGeom prst="wedgeEllipseCallout">
            <a:avLst>
              <a:gd name="adj1" fmla="val -29157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00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89A-1448-47A0-82C2-E0EB2F530A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BFB-FE4E-4801-9426-2115CC77B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260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48D-B5AB-44AA-B14E-C95899D1DB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400480"/>
          <a:ext cx="389880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00480"/>
                    <a:ext cx="3898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29200" y="2400480"/>
          <a:ext cx="2743200" cy="1574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400480"/>
                    <a:ext cx="2743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96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12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1800" y="3924360"/>
          <a:ext cx="4889520" cy="1422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924360"/>
                    <a:ext cx="488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96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C9B-E4B2-4D45-806D-84D9B14C89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148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56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60-2A8B-47EC-9967-C88E716AE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D1B-3506-4CE8-8910-0EFA1466EF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Wednesday, 10:30-11:3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vanced email recomme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ish Gupta, akgupta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Tung, victort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116-714B-4C00-9C15-44CF36738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99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300-80BA-44B6-8D1F-48F3ABF79B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3008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28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240" y="1981080"/>
            <a:ext cx="4336200" cy="3388680"/>
            <a:chOff x="4422240" y="1981080"/>
            <a:chExt cx="433620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8840" y="2427120"/>
              <a:ext cx="126828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24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0856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6920" y="3668400"/>
              <a:ext cx="803880" cy="515160"/>
              <a:chOff x="541692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692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468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6920" y="36684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6920" y="3668400"/>
                <a:ext cx="803880" cy="515160"/>
                <a:chOff x="541692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6920" y="36684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692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1880" y="1992240"/>
              <a:ext cx="843120" cy="389520"/>
              <a:chOff x="6941880" y="1992240"/>
              <a:chExt cx="84312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292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40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188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620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400" y="298764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3720" y="198108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200" y="4354200"/>
              <a:ext cx="1472400" cy="381960"/>
              <a:chOff x="473220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200" y="4354200"/>
                <a:ext cx="161280" cy="158760"/>
                <a:chOff x="4732200" y="4354200"/>
                <a:chExt cx="16128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200" y="4354200"/>
                  <a:ext cx="11556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0880" y="4371840"/>
                  <a:ext cx="10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492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2200" y="2982600"/>
              <a:ext cx="803880" cy="515160"/>
              <a:chOff x="671220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20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3996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200" y="29826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2200" y="2982600"/>
                <a:ext cx="803880" cy="515160"/>
                <a:chOff x="671220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200" y="29826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220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616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6760" y="4049280"/>
              <a:ext cx="3045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16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16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6760" y="39729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9400" y="3972960"/>
              <a:ext cx="533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480" y="3135240"/>
              <a:ext cx="837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4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600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C26-19BB-4694-A714-08BFD34113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945-B6F8-4FF0-A412-1BA0C1570A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XML mess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60E-DDCB-48FF-9A72-6E6CD302BF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: Monday, February 7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8E2-0C4E-4C01-BF28-5FD7B7B69E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Access Control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Wednesday, March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:30-4:20, MGH 241 (this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9E5-CAFC-4697-90B2-D91980AC8D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be out of town during three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ish Gupta will be guest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9C2-094F-4542-8742-70C225A658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4DE-38B0-4C24-BF89-9B8BFE9117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A23-B230-4212-BB8F-44E41E9A8B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(Functional dependencies, normal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amming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562-853F-49CB-B021-8BDE4628B7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A1C-6A1F-46BF-A29D-4262D7403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Slides are good, and we discuss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17D-F5B7-45A3-8865-6422AA56E0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26C-4D0B-4900-9A39-BC6A8EDBA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1EE-D1CF-4B47-8EBB-42EEA34887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</a:t>
            </a:r>
            <a:br>
              <a:rPr sz="2800"/>
            </a:b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797-E53F-43AC-AFBD-8F329BD561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1DD-2FBD-42D6-8F9F-5AD3894EC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2E6-A6BB-4DB7-BDD4-1A66D4081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Dan Suciu</cp:lastModifiedBy>
  <cp:lastPrinted>1998-09-26T21:35:18Z</cp:lastPrinted>
  <dcterms:modified xsi:type="dcterms:W3CDTF">2005-01-02T17:50:48Z</dcterms:modified>
  <cp:revision>321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