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2CD-7EC2-43D0-8346-61144AC2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BC7-0BA3-4E72-A9A1-671D0FFE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F3B-0694-4973-A72F-98E99B5C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C24-21CE-470F-9377-86370E3A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5E9-D171-466F-8A34-60C2B6F6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DC2-A301-4C8F-AEF1-C982DD76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C8A-85E6-41C5-8EF2-6729E2F2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CFF-DC00-4474-89C4-34F748B7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221-5D2E-45FB-A79F-6B087A40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288-47DD-417C-9B04-F4B925B9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0D2-BAC8-4F63-8387-751313C1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792-C67B-4AE1-9E6F-DC5463A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8D81-6BFE-46FE-8FBA-618AEAEA0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4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5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6.pct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washington.edu/444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hilip.greenspun.com/sql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3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74A-370A-4DDB-A704-44DD071BA0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a Traditional Databas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23924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re building a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ore the information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takes what, who teaches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DEA-9B55-4D92-BDEA-9CEC165341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it without a DBM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e we can!  Start by storing the data in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.txt      courses.txt          professors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write C or Java programs to implement specific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046-67F2-43C5-919A-6D08C8EEAB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it without a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25440" y="3124080"/>
            <a:ext cx="6464520" cy="339804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9720" y="263196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C program to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0840" y="4952880"/>
            <a:ext cx="1949760" cy="652680"/>
          </a:xfrm>
          <a:prstGeom prst="wedgeEllipseCallout">
            <a:avLst>
              <a:gd name="adj1" fmla="val -171226"/>
              <a:gd name="adj2" fmla="val 2590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78B-E6CB-472B-9345-0FD919F8DA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out an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ras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data sets (say 50G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this a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taneous access by many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students.txt – 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057400"/>
            <a:ext cx="3566880" cy="131832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95920" y="2209680"/>
            <a:ext cx="1949760" cy="652680"/>
          </a:xfrm>
          <a:prstGeom prst="wedgeEllipseCallout">
            <a:avLst>
              <a:gd name="adj1" fmla="val -121976"/>
              <a:gd name="adj2" fmla="val 614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15C-769E-4B81-B564-25FACBB12B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114444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4160" y="6019920"/>
            <a:ext cx="1932840" cy="652680"/>
          </a:xfrm>
          <a:prstGeom prst="wedgeEllipseCallout">
            <a:avLst>
              <a:gd name="adj1" fmla="val -171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02160" y="5207040"/>
            <a:ext cx="3041280" cy="1692360"/>
          </a:xfrm>
          <a:prstGeom prst="wedgeEllipseCallout">
            <a:avLst>
              <a:gd name="adj1" fmla="val -29157"/>
              <a:gd name="adj2" fmla="val -623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384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581280" y="2209680"/>
            <a:ext cx="4267440" cy="3429000"/>
            <a:chOff x="3581280" y="2209680"/>
            <a:chExt cx="4267440" cy="34290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6553080" y="220968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6705720" y="3562200"/>
              <a:ext cx="9903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6858000" y="493380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flipV="1">
              <a:off x="3581280" y="27428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3886200"/>
              <a:ext cx="2743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9880" y="4572000"/>
              <a:ext cx="2895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18040" y="3429000"/>
              <a:ext cx="2125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ODBC, JDB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60080" y="16765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system” or “client-ser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7AF-564B-4269-A60C-BCBA477737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 of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er sees SQL, which has two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- D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- D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ind the scenes the DBM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Management (concurrency, recov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63E-6935-4EAD-87BC-5E1CD1360D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DD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with DM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pulat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2600" y="2590920"/>
            <a:ext cx="58410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ABLE Student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CHAR(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 CHAR(9) PRIMARY KEY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HAR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5040" y="5029200"/>
            <a:ext cx="55148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(‘Charles’, ‘123456789’, ‘undergraduat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8FC-4F4B-439D-94B3-2A3DF06B1E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mplemented as files, but behind the scenes can be quit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11280" y="5157720"/>
          <a:ext cx="42037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5157720"/>
                    <a:ext cx="42037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14400" y="2400480"/>
          <a:ext cx="3898800" cy="14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400480"/>
                    <a:ext cx="3898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029200" y="2400480"/>
          <a:ext cx="2743200" cy="1574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2400480"/>
                    <a:ext cx="2743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22960" y="1981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812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1800" y="3924360"/>
          <a:ext cx="4889520" cy="1422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1800" y="3924360"/>
                    <a:ext cx="48895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915120" y="3540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6960" y="5715000"/>
            <a:ext cx="665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= sepa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e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A7B-90B5-4774-A70A-7884D50888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1480" y="2590920"/>
            <a:ext cx="522828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EGIN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Students.SSN, Courses.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tudents,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Students.name = ‘Mary Johnson’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.name = ‘CSE444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More updates here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verything-went-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T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ROLL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3560" y="628956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ystem crashes, the transaction is still either committed or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2C5-B649-4C68-B0BA-0E6A4ABE27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quence of statements that either all succeed, or all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have the ACI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9AF-711B-4FD2-959D-59C22E0A9C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n, Room 662, suciu@cs.washington.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 Wednesday, 10:30-11:3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vanced email recommen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ish Gupta, akgupta@cs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 Tung, victort@cs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TBA (check mailing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E09-AC07-4C25-B06B-BA1B302517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courses that “Mary” t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behind the sce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processor figures out how to answer the query efficien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39960" y="2895480"/>
            <a:ext cx="611820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S.name=“Mary”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S.ssn = T.ssn and T.cid = C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62E-4D57-48DD-8B0E-45317DB437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, behind the sc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3008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360" y="2362320"/>
            <a:ext cx="4978080" cy="155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S.name=“Mary”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ssn = T.ssn and T.cid = C.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528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72392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86400" y="4114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866920" y="685800"/>
            <a:ext cx="1219320" cy="220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581280" y="2209680"/>
            <a:ext cx="22860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80720" y="220968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85800" y="220968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362320"/>
            <a:ext cx="3733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019560" y="2438280"/>
            <a:ext cx="7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422240" y="1981080"/>
            <a:ext cx="4336200" cy="3388680"/>
            <a:chOff x="4422240" y="1981080"/>
            <a:chExt cx="4336200" cy="3388680"/>
          </a:xfrm>
        </p:grpSpPr>
        <p:sp>
          <p:nvSpPr>
            <p:cNvPr id="136" name=""/>
            <p:cNvSpPr/>
            <p:nvPr/>
          </p:nvSpPr>
          <p:spPr>
            <a:xfrm flipH="1">
              <a:off x="5748840" y="2427120"/>
              <a:ext cx="126828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22240" y="5018040"/>
              <a:ext cx="11116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08560" y="5002200"/>
              <a:ext cx="79920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416920" y="3668400"/>
              <a:ext cx="803880" cy="515160"/>
              <a:chOff x="5416920" y="3668400"/>
              <a:chExt cx="803880" cy="515160"/>
            </a:xfrm>
          </p:grpSpPr>
          <p:sp>
            <p:nvSpPr>
              <p:cNvPr id="140" name=""/>
              <p:cNvSpPr/>
              <p:nvPr/>
            </p:nvSpPr>
            <p:spPr>
              <a:xfrm>
                <a:off x="5596920" y="36684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4680" y="36684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96920" y="36684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416920" y="3668400"/>
                <a:ext cx="803880" cy="515160"/>
                <a:chOff x="5416920" y="3668400"/>
                <a:chExt cx="803880" cy="515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596920" y="3668400"/>
                  <a:ext cx="34920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16920" y="38779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d=s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6941880" y="1992240"/>
              <a:ext cx="843120" cy="389520"/>
              <a:chOff x="6941880" y="1992240"/>
              <a:chExt cx="843120" cy="389520"/>
            </a:xfrm>
          </p:grpSpPr>
          <p:sp>
            <p:nvSpPr>
              <p:cNvPr id="147" name=""/>
              <p:cNvSpPr/>
              <p:nvPr/>
            </p:nvSpPr>
            <p:spPr>
              <a:xfrm>
                <a:off x="6982920" y="2008080"/>
                <a:ext cx="144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70400" y="2008080"/>
                <a:ext cx="108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41880" y="199224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110" h="1">
                    <a:moveTo>
                      <a:pt x="0" y="0"/>
                    </a:moveTo>
                    <a:lnTo>
                      <a:pt x="10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36200" y="2076120"/>
                <a:ext cx="7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6935400" y="2987640"/>
              <a:ext cx="183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3720" y="1981080"/>
              <a:ext cx="183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732200" y="4354200"/>
              <a:ext cx="1472400" cy="381960"/>
              <a:chOff x="4732200" y="4354200"/>
              <a:chExt cx="1472400" cy="3819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732200" y="4354200"/>
                <a:ext cx="161280" cy="158760"/>
                <a:chOff x="4732200" y="4354200"/>
                <a:chExt cx="161280" cy="158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732200" y="4354200"/>
                  <a:ext cx="115560" cy="158760"/>
                </a:xfrm>
                <a:custGeom>
                  <a:avLst/>
                  <a:gdLst/>
                  <a:ahLst/>
                  <a:rect l="l" t="t" r="r" b="b"/>
                  <a:pathLst>
                    <a:path w="73" h="100">
                      <a:moveTo>
                        <a:pt x="72" y="50"/>
                      </a:moveTo>
                      <a:lnTo>
                        <a:pt x="62" y="15"/>
                      </a:lnTo>
                      <a:lnTo>
                        <a:pt x="36" y="0"/>
                      </a:lnTo>
                      <a:lnTo>
                        <a:pt x="11" y="15"/>
                      </a:lnTo>
                      <a:lnTo>
                        <a:pt x="0" y="50"/>
                      </a:lnTo>
                      <a:lnTo>
                        <a:pt x="11" y="84"/>
                      </a:lnTo>
                      <a:lnTo>
                        <a:pt x="36" y="99"/>
                      </a:lnTo>
                      <a:lnTo>
                        <a:pt x="62" y="84"/>
                      </a:lnTo>
                      <a:lnTo>
                        <a:pt x="72" y="5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790880" y="4371840"/>
                  <a:ext cx="102600" cy="1440"/>
                </a:xfrm>
                <a:custGeom>
                  <a:avLst/>
                  <a:gdLst/>
                  <a:ahLst/>
                  <a:rect l="l" t="t" r="r" b="b"/>
                  <a:pathLst>
                    <a:path w="65" h="1">
                      <a:moveTo>
                        <a:pt x="0" y="0"/>
                      </a:moveTo>
                      <a:lnTo>
                        <a:pt x="6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804920" y="4430520"/>
                <a:ext cx="1399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me=“Mary”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712200" y="2982600"/>
              <a:ext cx="803880" cy="515160"/>
              <a:chOff x="6712200" y="2982600"/>
              <a:chExt cx="803880" cy="515160"/>
            </a:xfrm>
          </p:grpSpPr>
          <p:sp>
            <p:nvSpPr>
              <p:cNvPr id="159" name=""/>
              <p:cNvSpPr/>
              <p:nvPr/>
            </p:nvSpPr>
            <p:spPr>
              <a:xfrm>
                <a:off x="6892200" y="29826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39960" y="298260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92200" y="29826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6712200" y="2982600"/>
                <a:ext cx="803880" cy="515160"/>
                <a:chOff x="6712200" y="2982600"/>
                <a:chExt cx="803880" cy="515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892200" y="2982600"/>
                  <a:ext cx="34920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712200" y="31921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d=c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7706160" y="4964040"/>
              <a:ext cx="10522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urs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036760" y="4049280"/>
              <a:ext cx="3045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808160" y="4659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8160" y="4659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036760" y="397296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79400" y="3972960"/>
              <a:ext cx="533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027480" y="3135240"/>
              <a:ext cx="837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475400" y="3134880"/>
              <a:ext cx="68544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6000" y="606096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s the best execution plan for a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608-4938-4549-AB2C-42092D82CA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g commercial database vend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(DB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(SQL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ree database systems (Unix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SE444 we use SQL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45B-DF2A-4321-877A-823E1686DE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rends in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relational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mory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XML XM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bases with XM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 between XML and relation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XML mess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research here at UW on XML and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027-C1C0-4A29-B084-8105DCE7CC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 (Chapter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design (Chapters 2, 3,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erm: Monday, February 7 (in cl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90F-FC0E-44A1-AFB5-7B46A61930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Access Control (secu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orage, indexes (Chapters 11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 and optimization (Chapter 15,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(Chapter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Wednesday, March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:30-4:20, MGH 241 (this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DE5-70B9-461F-B06D-9525BCFC98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be out of town during three l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ish Gupta will be guest le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DBA-9E3D-4CBE-8F08-2FF3196B88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Data structures course (CSE-32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&amp; Gr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: 25%  (4 of them; some light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: 30%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1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2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s: 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050-37F8-44AF-96F3-D881F8B673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data management needs of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have three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 to Real World phases of system evolution i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529-95B1-4C74-AF22-BE3DD3DE34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is this course about, reall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t of everything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s: SQL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(Functional dependencies, normal fo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and data structures (in Part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programming and hacking for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mportantly: how to meet Real World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C40-9913-40AA-BA1A-A9A628DE45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s will be availab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s will be pos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description will b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ubscribe (see instructions on the Web 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32C-FA52-4F7C-B56F-39FB133DBC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ector Garcia-Molina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ffrey Ullm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7400" y="5562720"/>
            <a:ext cx="80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hapters are good.  Some are not (functional dependecies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TO CLASS !  Slides are good, and we discuss in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D02-6AF5-4A89-8213-71637E93EA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serve at the Engineering Libr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compreh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Query from the Expe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atz, 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erence on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widely used, but we don’t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theory of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and other new/advanced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7DF-9317-47A4-86C2-08EBC9D6C2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quired R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ill be reading assignments from the We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, especially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QL, a good source of information is the MSDN library (on your Windows mach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252-0BF2-46EC-B7C5-6ECEDBCD6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for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for Friday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for Web Nerds</a:t>
            </a:r>
            <a:br>
              <a:rPr sz="2800"/>
            </a:b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hilip.greenspun.com/sq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FA0-42B7-4308-9919-9F7282EC47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lational Database Management Syste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anagement System =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BMS =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that stor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C program written by someone else that accesses and updates those files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C05-5072-4EB7-9C87-872E9B79C4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RDBMS us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traditional “database”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large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AA8-BD78-4A9C-A12E-1541197088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Dan Suciu</cp:lastModifiedBy>
  <cp:lastPrinted>1998-09-26T21:35:18Z</cp:lastPrinted>
  <dcterms:modified xsi:type="dcterms:W3CDTF">2005-01-02T17:50:48Z</dcterms:modified>
  <cp:revision>321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