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02E-1FBF-47C5-BB75-5C2621CE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CF7-F13D-4E45-AAC3-FD852997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C28-195A-49A9-A1D2-99167884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28D-2B31-4813-AC2F-4BB5D8DE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DD9-1504-4071-9AF4-C060830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ED2-EC4D-45A3-9A8A-5EB035D3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285-F4D9-4414-BA5C-661D9697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59A-BADE-4E52-9F66-DBC6B3EA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398-B2EC-4D09-A35A-2B286C73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A29-4103-4F81-9DE6-45BAB855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8B2-1ED2-4025-9D94-5313697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C20-FBAA-455B-91C4-8571B47C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4E0E-FE47-49FE-ACEC-B902031D9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with Semijoi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DEA-8E0E-4482-AD96-24929742BD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full redu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590920"/>
            <a:ext cx="63864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PartialResult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id, E.sal, E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=D.did AND E.age &l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.budget &gt; 100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Filter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DISTINCT P.did FROM PartialResul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LimitedAvgSal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Filt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F.did 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A9F-DAC2-4C17-842D-C77AC7B654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1000" y="2971800"/>
            <a:ext cx="4867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.eid, P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artialResult P, Limited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.did = V.did AND P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6FA-A49F-442E-9FB3-217967D6EE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) |x S(B,C) = T(A,B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 |x|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: 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only nee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), not the entir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524-A80B-4EB3-9A95-17BC290067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9" idx="6"/>
            <a:endCxn id="50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28016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35680" y="4884840"/>
            <a:ext cx="73537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5512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920" y="5861160"/>
            <a:ext cx="28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94560" y="6216480"/>
            <a:ext cx="405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0EE-7102-4EBC-9BD8-79F6FCAD22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  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schema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R(A1,…An),  S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T(A1,…,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352680"/>
            <a:ext cx="304920" cy="15264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201280" y="32565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4F0-3E87-416E-A5B8-EA084D2BAE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joins: a bit of theory (see [AHV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ll reducer for Q is a progr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 no dangling tuples remain in any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88720" y="2743200"/>
            <a:ext cx="33184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. . .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77160" y="3733920"/>
            <a:ext cx="1663560" cy="13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 .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343400" y="3809880"/>
            <a:ext cx="228600" cy="952560"/>
            <a:chOff x="4343400" y="3809880"/>
            <a:chExt cx="228600" cy="952560"/>
          </a:xfrm>
        </p:grpSpPr>
        <p:sp>
          <p:nvSpPr>
            <p:cNvPr id="70" name=""/>
            <p:cNvSpPr/>
            <p:nvPr/>
          </p:nvSpPr>
          <p:spPr>
            <a:xfrm>
              <a:off x="4343400" y="38098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40384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3400" y="464796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4E0-8AA3-4D50-BA07-7B9CF82A86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reducer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1280" y="2133720"/>
            <a:ext cx="5697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A,E) :- R1(A,B) |x| R2(B,C) |x|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93400" y="3276720"/>
            <a:ext cx="46368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1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(C,D,E) := R3(C,D,E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(A,B) := R1(A,B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6920" y="6094800"/>
            <a:ext cx="82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ables have only the tuples necessary to compute Q(A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6A1-D206-4254-9106-EEAD3022FA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ve a full reducer (we can reduce for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query has a full reducer iff it is “acycl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4080" y="2895480"/>
            <a:ext cx="540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A,C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574-C5B5-4B66-A9D0-AF55CD9905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in [Chaudhuri’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0960" y="2819520"/>
            <a:ext cx="522072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DepAvgSal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1C3-59CD-4EDD-93AA-272624AB67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86640" y="2819520"/>
            <a:ext cx="57816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t D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WHERE E.did = D.did AND D.bu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AAF-371B-4FDB-823E-7A94942EB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2-07T06:03:23Z</dcterms:modified>
  <cp:revision>377</cp:revision>
  <dc:subject/>
  <dc:title>Lecture 09:</dc:title>
</cp:coreProperties>
</file>