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4D29-E5AB-4593-809D-C9985F83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CD1E-38F2-41D2-B103-DB46BDB7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E82C-F1DC-4527-86B0-C453EB23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0023-5153-4E4C-AB0B-97835BB97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E3AC-3EAC-4DFF-A5D0-52955388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2AE7-AD71-4E7D-91CE-CE567C26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F8C2-602A-4846-B014-AA0E9246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367E-3AF3-436B-A534-9DB66AB2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BADC-A776-4B85-8C8F-760D43FC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4750-BACD-48AA-BED6-917D5EF8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1BB8-02DA-402B-891F-33DDF581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7715-4918-442D-8B0E-D740270D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8483-17BE-425F-9336-803B40274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7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/Cost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December 5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761B-945E-4E1E-87D8-6556DDA653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(R) = 10000,  T(S) = 2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(R,A) = 100,  V(S,A) = 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arge is 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T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10000 20000/200 = 1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CBE0-B38E-4145-BF3E-EE8EB43697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s on more than one attribu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,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T(S)/(max(V(R,A),V(S,A))*max(V(R,B),V(S,B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B8F-24D5-425B-B25C-D365565243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 on data maintained by the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size estimation much more accurate (hence, cost estimations are more accur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3C1E-117F-4DC0-97F5-0F15AFCD3D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salary, ph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 a histogram on sal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Employee) = 25000, but now we know the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38080" y="3429000"/>
          <a:ext cx="7848720" cy="1270080"/>
        </p:xfrm>
        <a:graphic>
          <a:graphicData uri="http://schemas.openxmlformats.org/drawingml/2006/table">
            <a:tbl>
              <a:tblPr/>
              <a:tblGrid>
                <a:gridCol w="1120680"/>
                <a:gridCol w="1121040"/>
                <a:gridCol w="1122120"/>
                <a:gridCol w="1122480"/>
                <a:gridCol w="1120680"/>
                <a:gridCol w="1120680"/>
                <a:gridCol w="1121040"/>
              </a:tblGrid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2F8D-0AA3-48C8-8E0F-1AED2AD729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anks(rankName, sal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the size of Employee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38080" y="3276720"/>
          <a:ext cx="7162920" cy="76176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838080" y="4343400"/>
          <a:ext cx="7162920" cy="76212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BDDC-9B33-45A9-84ED-390E5D2B0B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wid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dep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200400" y="2133720"/>
          <a:ext cx="5410080" cy="790560"/>
        </p:xfrm>
        <a:graphic>
          <a:graphicData uri="http://schemas.openxmlformats.org/drawingml/2006/table">
            <a:tbl>
              <a:tblPr/>
              <a:tblGrid>
                <a:gridCol w="1081080"/>
                <a:gridCol w="1082520"/>
                <a:gridCol w="1082880"/>
                <a:gridCol w="1082520"/>
                <a:gridCol w="10810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.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..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..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.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200400" y="3629160"/>
          <a:ext cx="5410080" cy="790560"/>
        </p:xfrm>
        <a:graphic>
          <a:graphicData uri="http://schemas.openxmlformats.org/drawingml/2006/table">
            <a:tbl>
              <a:tblPr/>
              <a:tblGrid>
                <a:gridCol w="1081080"/>
                <a:gridCol w="1082520"/>
                <a:gridCol w="1082880"/>
                <a:gridCol w="1082520"/>
                <a:gridCol w="10810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.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.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..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310D-1EC5-4838-A1C7-512F0EFC5D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join:  R(A,B) |x|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=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(C,D) = T(A,B,C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al join: R(A,B) |x| S(B, C) = T(A,B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difference from eqjoi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ta join: |x|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E.g. R(A,B) |x|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 &gt;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(C,D) = T(A,B,C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ijoin: R(A,B) |x S(B,C) = T(A,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join R(A,B)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(B,C) = T(A,B,C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difference from eqjoi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123720" y="5866920"/>
            <a:ext cx="381600" cy="228960"/>
            <a:chOff x="3123720" y="5866920"/>
            <a:chExt cx="381600" cy="228960"/>
          </a:xfrm>
        </p:grpSpPr>
        <p:sp>
          <p:nvSpPr>
            <p:cNvPr id="46" name=""/>
            <p:cNvSpPr/>
            <p:nvPr/>
          </p:nvSpPr>
          <p:spPr>
            <a:xfrm>
              <a:off x="3124080" y="58672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3352680" y="586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3123720" y="58672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3124080" y="586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2680" y="58672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52680" y="60958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CD53-7EAC-4447-B514-D3D22B7489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estimation: 16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7593-7483-44AC-BF8D-690F0052AC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lem: Given an expression E, compute T(E) and V(E, 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hard without computing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‘estimate’ them inst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2637-E87C-4E13-BD15-775A9BB00C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a pro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: T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= T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because a projection doesn’t eliminate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2612-B812-41C8-B10F-BF8E3CF3C8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ing the size of a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=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(S) san be anything from 0 to T(R) – V(R,A)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: T(S) = T(R)/V(R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V(R,A) is not available, estimate T(S) = T(R)/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&lt;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(S) can be anything from 0 to T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: T(S) = (c - Low(R, A))/(High(R,A) - Low(R,A))T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Low, High unavailable, estimate T(S) = T(R)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05D3-5FE5-427D-B0DC-EC471DE530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a natural join, 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set of A values are disjoint, then T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is a key in S and a foreign key in R, then T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T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has a unique value, the same in R and S, then T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T(R) T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CEC0-257F-4C3D-9A03-CC089E8401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inment of 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V(R,A) &lt;= V(S,A), then the set of A values of R is included in the set of A values of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this indeed holds when A is a foreign key in R, and a key in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servation of 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or any other attribute B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R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, B) = V(R, B)   (or V(S, B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7E34-E4A4-48F4-AB6D-13E3D06C6C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V(R,A) &lt;= V(S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each tuple t in R joi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ple(s) i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average T(S)/V(S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will contribute T(S)/V(S,A) tuples in R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T(R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) = T(R) T(S) / V(S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: T(R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) = T(R) T(S) / max(V(R,A),V(S,A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C097-66EA-4FAC-A676-24B6479951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12-05T05:20:01Z</dcterms:modified>
  <cp:revision>478</cp:revision>
  <dc:subject/>
  <dc:title>Lecture 09:</dc:title>
</cp:coreProperties>
</file>