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C4A69A8-2093-47AC-90E2-3C0A21A61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st = B(R)+B(S)+B(T)+B(U)+2B(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S) + 2B(R ⋈ S ⋈ 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 = max(B(S), B(T), B(U)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= B(R)+B(S)+B(T)+B(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 = B(S) + B(T) + B(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2F7-B373-4922-B9FB-5DA94AA5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CA7-0BC0-41D9-B7FA-9892ABBE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AFE9-5321-460C-8A4C-A0342A64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AEE-2F40-4EC9-AA54-06B430A5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5DF-92D8-4352-88BE-24D2CDD2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C53-0391-40A4-833B-4DC6F797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7B2-B53E-47D9-B67C-5E72BBA2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3D1-5FF5-4878-AC9C-8487CF3B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4B3-B4FA-435E-9067-0CF47402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2DB-CB36-4F8A-8BB5-A6C77951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DD2-56BF-4E56-82DE-9F70A031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52D-E122-4868-9CA3-BEB31F4D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CFD3-D36D-445A-91B5-BD72EE409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6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December 2nd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8BE-52E1-4B78-AE55-00B0897E7D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EA2-F20E-468A-B8DA-EE76780990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for each subset of {R1, …, Rn}, compute the best plan for that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creasing order of set cardi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or {R1}, {R2}, …, {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for {R1,R2}, {R1,R3}, …, {Rn-1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n: for {R1, …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bottom-up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et of {R1, …, Rn}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853-7B4A-4EEC-91F4-D1D60B6CC5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subquery 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R1, …, Rn} compu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st plan for Q: Plan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at plan: Cost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35FA-831A-4389-AB24-9C6E97011D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B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(cost of scanning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669-4B49-44EF-9CB3-3C017541ED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of cardinality i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ize(Q)    (lat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air of subqueries Q’, Q’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t. Q = Q’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’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cost(Plan(Q’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lan(Q’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Q) = the smallest suc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Q) = the correspond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1E2-E497-4FDC-9529-4AC135D6CC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Plan(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85F-0B6B-4379-BBDE-479B2A9522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llustrate, we will make the following simpl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size(intermediate result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join, then the size of the intermediate result is size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therwise the siz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 for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 scan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B6F-E156-454D-95F3-4A8FD8EBEF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R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 = 0       (no intermediate res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Cost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+ Cost(R7) + size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size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944-52AB-4F1F-A3D5-E0D3D66AE5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: R, S, T,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uples: 2000, 5000, 3000,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: T(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) = 0.01*T(A)*T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735-5F16-4F39-A338-43ABEF4ABD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209680" y="152280"/>
          <a:ext cx="5410080" cy="645480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160"/>
                <a:gridCol w="135288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628-4DE5-4E99-B79F-F9B8A90D2F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based optimization 16.5, 16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740-0CBD-4608-BC63-34EB88870E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209680" y="152280"/>
          <a:ext cx="5486040" cy="6454800"/>
        </p:xfrm>
        <a:graphic>
          <a:graphicData uri="http://schemas.openxmlformats.org/drawingml/2006/table">
            <a:tbl>
              <a:tblPr/>
              <a:tblGrid>
                <a:gridCol w="1371600"/>
                <a:gridCol w="1371240"/>
                <a:gridCol w="1371600"/>
                <a:gridCol w="13716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+50k=11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(S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C5E-DF66-4806-8746-7374A99CD6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the Search 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-linear trees v.s. Bush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s without cartesia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B,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: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(C,D)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B,C) has a cartesian product – most query optimizers will not conside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FD2-F840-4694-AE58-43CB264492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s only join que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s are pushed down (i.e. ear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s are pulled up (i.e. 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exponential time in genera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linear joins may reduc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artesian products may reduce time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66B-C2CE-4A13-9884-7C12391E7A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Based Optimiz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ten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llection of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= Algebraic law with a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or firing thes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many alternative plans, in some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une by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 (later SQL Se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burst (later DB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AB6-0954-4A72-AEFC-94D2EAA1CD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lgorithm to implement each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ccount for more than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emory do we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nput operand(s) sor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for each intermediate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ter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9FFC-A774-4DD3-8612-BC2D7180CC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76040" y="4761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0" idx="3"/>
            <a:endCxn id="221" idx="7"/>
          </p:cNvCxnSpPr>
          <p:nvPr/>
        </p:nvCxnSpPr>
        <p:spPr>
          <a:xfrm flipH="1">
            <a:off x="2648880" y="2725200"/>
            <a:ext cx="6087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21" idx="3"/>
            <a:endCxn id="222" idx="7"/>
          </p:cNvCxnSpPr>
          <p:nvPr/>
        </p:nvCxnSpPr>
        <p:spPr>
          <a:xfrm flipH="1">
            <a:off x="1600920" y="4110120"/>
            <a:ext cx="64692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2" idx="3"/>
            <a:endCxn id="226" idx="7"/>
          </p:cNvCxnSpPr>
          <p:nvPr/>
        </p:nvCxnSpPr>
        <p:spPr>
          <a:xfrm flipH="1">
            <a:off x="758520" y="5447880"/>
            <a:ext cx="44208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2" idx="5"/>
            <a:endCxn id="227" idx="1"/>
          </p:cNvCxnSpPr>
          <p:nvPr/>
        </p:nvCxnSpPr>
        <p:spPr>
          <a:xfrm>
            <a:off x="1601640" y="5448240"/>
            <a:ext cx="3787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21" idx="5"/>
            <a:endCxn id="225" idx="1"/>
          </p:cNvCxnSpPr>
          <p:nvPr/>
        </p:nvCxnSpPr>
        <p:spPr>
          <a:xfrm>
            <a:off x="2649600" y="4110120"/>
            <a:ext cx="60372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220" idx="5"/>
            <a:endCxn id="228" idx="1"/>
          </p:cNvCxnSpPr>
          <p:nvPr/>
        </p:nvCxnSpPr>
        <p:spPr>
          <a:xfrm>
            <a:off x="3659040" y="2725200"/>
            <a:ext cx="62784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1847880" y="44197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3048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97600" y="1825560"/>
            <a:ext cx="3639960" cy="4289400"/>
          </a:xfrm>
          <a:custGeom>
            <a:avLst/>
            <a:gdLst>
              <a:gd name="textAreaLeft" fmla="*/ 177480 w 3639960"/>
              <a:gd name="textAreaRight" fmla="*/ 3462480 w 3639960"/>
              <a:gd name="textAreaTop" fmla="*/ 177480 h 4289400"/>
              <a:gd name="textAreaBottom" fmla="*/ 4111920 h 4289400"/>
            </a:gdLst>
            <a:ahLst/>
            <a:rect l="textAreaLeft" t="textAreaTop" r="textAreaRight" b="textAreaBottom"/>
            <a:pathLst>
              <a:path w="21600" h="25453">
                <a:moveTo>
                  <a:pt x="3600" y="0"/>
                </a:moveTo>
                <a:arcTo wR="3600" hR="3600" stAng="16200000" swAng="-5400000"/>
                <a:lnTo>
                  <a:pt x="0" y="21853"/>
                </a:lnTo>
                <a:arcTo wR="3600" hR="3600" stAng="10800000" swAng="-5400000"/>
                <a:lnTo>
                  <a:pt x="18000" y="25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1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1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2,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2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6880" y="38862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3560" y="236232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E65-C980-4D1B-99E1-D73DCF7BFC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9B4-B608-4FCD-9A73-6C94A668FD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76040" y="4761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4" idx="3"/>
            <a:endCxn id="245" idx="7"/>
          </p:cNvCxnSpPr>
          <p:nvPr/>
        </p:nvCxnSpPr>
        <p:spPr>
          <a:xfrm flipH="1">
            <a:off x="2648880" y="2725200"/>
            <a:ext cx="6087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45" idx="3"/>
            <a:endCxn id="246" idx="7"/>
          </p:cNvCxnSpPr>
          <p:nvPr/>
        </p:nvCxnSpPr>
        <p:spPr>
          <a:xfrm flipH="1">
            <a:off x="1600920" y="4110120"/>
            <a:ext cx="64692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6" idx="3"/>
            <a:endCxn id="250" idx="7"/>
          </p:cNvCxnSpPr>
          <p:nvPr/>
        </p:nvCxnSpPr>
        <p:spPr>
          <a:xfrm flipH="1">
            <a:off x="758520" y="5447880"/>
            <a:ext cx="44208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5"/>
            <a:endCxn id="251" idx="1"/>
          </p:cNvCxnSpPr>
          <p:nvPr/>
        </p:nvCxnSpPr>
        <p:spPr>
          <a:xfrm>
            <a:off x="1601640" y="5448240"/>
            <a:ext cx="3787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5" idx="5"/>
            <a:endCxn id="249" idx="1"/>
          </p:cNvCxnSpPr>
          <p:nvPr/>
        </p:nvCxnSpPr>
        <p:spPr>
          <a:xfrm>
            <a:off x="2649600" y="4110120"/>
            <a:ext cx="60372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" name=""/>
          <p:cNvCxnSpPr>
            <a:stCxn id="244" idx="5"/>
            <a:endCxn id="252" idx="1"/>
          </p:cNvCxnSpPr>
          <p:nvPr/>
        </p:nvCxnSpPr>
        <p:spPr>
          <a:xfrm>
            <a:off x="3659040" y="2725200"/>
            <a:ext cx="62784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5151240" y="2702520"/>
            <a:ext cx="3704040" cy="253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1, 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2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3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52280" y="1905120"/>
            <a:ext cx="2514600" cy="3047760"/>
            <a:chOff x="152280" y="1905120"/>
            <a:chExt cx="2514600" cy="3047760"/>
          </a:xfrm>
        </p:grpSpPr>
        <p:sp>
          <p:nvSpPr>
            <p:cNvPr id="262" name=""/>
            <p:cNvSpPr/>
            <p:nvPr/>
          </p:nvSpPr>
          <p:spPr>
            <a:xfrm flipV="1">
              <a:off x="152280" y="1905120"/>
              <a:ext cx="2514600" cy="3047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8570000">
              <a:off x="484920" y="324180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pe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B67-68A0-40D7-9CA1-D1C30A81B2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036-EB0A-4386-926C-E4D6D762478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in Bush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87320" y="485784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7" idx="3"/>
            <a:endCxn id="268" idx="7"/>
          </p:cNvCxnSpPr>
          <p:nvPr/>
        </p:nvCxnSpPr>
        <p:spPr>
          <a:xfrm flipH="1">
            <a:off x="2648880" y="2725200"/>
            <a:ext cx="6087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68" idx="3"/>
            <a:endCxn id="269" idx="7"/>
          </p:cNvCxnSpPr>
          <p:nvPr/>
        </p:nvCxnSpPr>
        <p:spPr>
          <a:xfrm flipH="1">
            <a:off x="1312200" y="4109760"/>
            <a:ext cx="93564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2" name=""/>
          <p:cNvSpPr/>
          <p:nvPr/>
        </p:nvSpPr>
        <p:spPr>
          <a:xfrm>
            <a:off x="3668040" y="584820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760" y="5848200"/>
            <a:ext cx="6386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561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9" idx="3"/>
            <a:endCxn id="273" idx="7"/>
          </p:cNvCxnSpPr>
          <p:nvPr/>
        </p:nvCxnSpPr>
        <p:spPr>
          <a:xfrm flipH="1">
            <a:off x="713520" y="5544720"/>
            <a:ext cx="197640" cy="43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6" name=""/>
          <p:cNvCxnSpPr>
            <a:stCxn id="269" idx="4"/>
            <a:endCxn id="274" idx="0"/>
          </p:cNvCxnSpPr>
          <p:nvPr/>
        </p:nvCxnSpPr>
        <p:spPr>
          <a:xfrm>
            <a:off x="1112760" y="5659200"/>
            <a:ext cx="13104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8" idx="5"/>
            <a:endCxn id="278" idx="1"/>
          </p:cNvCxnSpPr>
          <p:nvPr/>
        </p:nvCxnSpPr>
        <p:spPr>
          <a:xfrm>
            <a:off x="2649240" y="4110120"/>
            <a:ext cx="24372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67" idx="5"/>
            <a:endCxn id="280" idx="1"/>
          </p:cNvCxnSpPr>
          <p:nvPr/>
        </p:nvCxnSpPr>
        <p:spPr>
          <a:xfrm>
            <a:off x="3659040" y="2725200"/>
            <a:ext cx="1742400" cy="104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 flipH="1">
            <a:off x="2666880" y="4191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495680" y="32004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066680" y="5715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76520" y="3638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50227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0" idx="3"/>
            <a:endCxn id="284" idx="7"/>
          </p:cNvCxnSpPr>
          <p:nvPr/>
        </p:nvCxnSpPr>
        <p:spPr>
          <a:xfrm flipH="1">
            <a:off x="4791960" y="4325400"/>
            <a:ext cx="6087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" name=""/>
          <p:cNvCxnSpPr>
            <a:stCxn id="284" idx="3"/>
            <a:endCxn id="272" idx="7"/>
          </p:cNvCxnSpPr>
          <p:nvPr/>
        </p:nvCxnSpPr>
        <p:spPr>
          <a:xfrm flipH="1">
            <a:off x="4215600" y="5710320"/>
            <a:ext cx="17532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6332400" y="5103720"/>
            <a:ext cx="60192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0" idx="5"/>
            <a:endCxn id="287" idx="1"/>
          </p:cNvCxnSpPr>
          <p:nvPr/>
        </p:nvCxnSpPr>
        <p:spPr>
          <a:xfrm>
            <a:off x="5802120" y="4325760"/>
            <a:ext cx="61812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4842360" y="592452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4" idx="5"/>
            <a:endCxn id="289" idx="1"/>
          </p:cNvCxnSpPr>
          <p:nvPr/>
        </p:nvCxnSpPr>
        <p:spPr>
          <a:xfrm>
            <a:off x="4792680" y="5710320"/>
            <a:ext cx="1720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2768400" y="4248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78" idx="3"/>
            <a:endCxn id="292" idx="7"/>
          </p:cNvCxnSpPr>
          <p:nvPr/>
        </p:nvCxnSpPr>
        <p:spPr>
          <a:xfrm flipH="1">
            <a:off x="2760480" y="4935240"/>
            <a:ext cx="1324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3470760" y="50864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78" idx="5"/>
            <a:endCxn id="293" idx="1"/>
          </p:cNvCxnSpPr>
          <p:nvPr/>
        </p:nvCxnSpPr>
        <p:spPr>
          <a:xfrm>
            <a:off x="3293640" y="4935240"/>
            <a:ext cx="2991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1717920" y="5924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34880" y="51624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2" idx="3"/>
            <a:endCxn id="295" idx="7"/>
          </p:cNvCxnSpPr>
          <p:nvPr/>
        </p:nvCxnSpPr>
        <p:spPr>
          <a:xfrm flipH="1">
            <a:off x="2211120" y="5850000"/>
            <a:ext cx="1483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2820600" y="5924520"/>
            <a:ext cx="4467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92" idx="5"/>
            <a:endCxn id="297" idx="1"/>
          </p:cNvCxnSpPr>
          <p:nvPr/>
        </p:nvCxnSpPr>
        <p:spPr>
          <a:xfrm>
            <a:off x="2760840" y="5850000"/>
            <a:ext cx="15120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 flipH="1">
            <a:off x="2742840" y="5867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800240" y="57913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019560" y="4724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352680" y="50292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57200" y="2666520"/>
            <a:ext cx="220968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981080" y="480024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114800" y="419076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1A52-9220-448E-9061-BB0E56F114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apply algebraic laws, until estimated cost is mi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ly: start from partial plans, introduce operators one b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see in a few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there are too many ways to apply the laws, hence too many (partial)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630-D0D4-4D7B-BD08-88FF88019B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M = 101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419720" y="2590920"/>
            <a:ext cx="255600" cy="169920"/>
            <a:chOff x="4419720" y="2590920"/>
            <a:chExt cx="255600" cy="169920"/>
          </a:xfrm>
        </p:grpSpPr>
        <p:sp>
          <p:nvSpPr>
            <p:cNvPr id="309" name=""/>
            <p:cNvSpPr/>
            <p:nvPr/>
          </p:nvSpPr>
          <p:spPr>
            <a:xfrm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197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6753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581280" y="3276720"/>
            <a:ext cx="255600" cy="169920"/>
            <a:chOff x="3581280" y="3276720"/>
            <a:chExt cx="255600" cy="169920"/>
          </a:xfrm>
        </p:grpSpPr>
        <p:sp>
          <p:nvSpPr>
            <p:cNvPr id="314" name=""/>
            <p:cNvSpPr/>
            <p:nvPr/>
          </p:nvSpPr>
          <p:spPr>
            <a:xfrm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812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8368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175120" y="3962520"/>
            <a:ext cx="14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w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38520" y="39625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48200" y="32767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80988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242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97180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08960" y="312408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866-6F43-406B-818B-B36B162243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ïve evalu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29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30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35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9F4-A255-4728-A3C3-89695DE3DAF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hash R on x into 100 buckets, each of 50 block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hash S on x into 100 bucket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ad eac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memory (50 buffer) join with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 buffer); hash result on y into 50 buckets (50 buffers)   -- here w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so far: 3B(R) + 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51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52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57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DE9-7A07-42C9-9596-60B2E0D0FD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arge are the 50 buckets on y ?  Answer: k/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lt;= 50 then keep all 50 buckets in Step 3 in memory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read U from disk, hash on y and join with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 + 3B(S) + B(U) = 5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73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74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79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BD6-01DD-46F8-9283-B7F0DBC4F40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50 &lt; k &lt;= 5000 then send the 50 buckets in Step 3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ucket has size k/50 &l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partition U into 50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ad each partition and joi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: 3B(R) + 3B(S) + 2k + 3B(U) = 75,000 + 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95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96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401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BC7-B5D9-4126-95BD-A9CDAA1B2B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gt; 5000 then materialize instead of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417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418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423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698-0F4F-413C-A6F7-D146DCB78B7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lt;= 50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5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50 &lt; k &lt;=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gt; 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4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B7A-D53E-43FD-B590-252455A4149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top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tom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bottom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23BF-C00B-41EF-95C9-0484EAB2F3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proposed in System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ndles single block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selections down, projection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programming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oin re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25880" y="2819520"/>
            <a:ext cx="6196320" cy="12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. . . AND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DF5-39C4-4D38-B94A-84E3BA91A5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R2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….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lan = a joi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ial plan = a subtree of a joi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66" name="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71" name="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76" name="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2F1-010F-4C7F-9BC1-B9A8FA4BD8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89" name="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94" name="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99" name="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104" name="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FFC-6307-4400-9672-58E3699FA8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128" name="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133" name="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138" name="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149" name="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3BE-825A-40BD-8951-F62ACDC190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159" name="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164" name="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169" name="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174" name="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C49-5D02-4656-8F50-D274398EDE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2-02T04:32:08Z</dcterms:modified>
  <cp:revision>350</cp:revision>
  <dc:subject/>
  <dc:title>Lecture 09:</dc:title>
</cp:coreProperties>
</file>