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671-245F-4BED-8CCF-19AF1B09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641-E3C3-433F-AF86-5679EEF1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FD4-707E-4E6C-BEC9-D923FA18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494-1ED7-44F1-8DC5-379B9669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C3C-15EC-4891-8598-603B71FB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233-CD0A-4CA7-A337-7F94E7CA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A62-C772-4876-8F72-E6580387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0CB-FEE7-4057-9CC8-E00E6F6B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C1A-C932-461A-B9D5-81C4C630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05F-CC4E-4B69-A406-4862FB77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1E1-93CC-4919-A349-661C23D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0CE-AF69-43CF-8DCA-65EACCD7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4BEA-5A28-4D27-916B-D0ADBA3DF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1st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E8D-66D8-4282-B8AD-BEDE7C3B9D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D54-5B92-4E68-BC96-1F9779091F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49309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5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576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382-8D1D-4CDE-8879-C4B286FF0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0164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16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708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D45-9BAD-432B-BE13-ECFEE25726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9073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33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8956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16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48A-2955-406A-9967-B67FAFEFF4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70164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16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996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716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4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6256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85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028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DD2-ED74-470A-829A-4182BA5A9B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9073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33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460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3036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188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404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960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86F-E36D-4C62-921E-59FA0649ED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5116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8104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9652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1E9-03D1-4D3A-9626-4443759D5D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456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58A-9ED2-437E-97EA-9C20C185AB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844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140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E20-5E18-455B-8760-FFA25205FF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AD8-CF9B-408D-8434-ED4E784D04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4AF-09C1-4860-AE4E-DD6672BEE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SQL query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pla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quivalent plans P = P’ = P’’ =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“cheapest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48200" y="3336120"/>
            <a:ext cx="1783080" cy="652680"/>
          </a:xfrm>
          <a:prstGeom prst="wedgeEllipseCallout">
            <a:avLst>
              <a:gd name="adj1" fmla="val -35773"/>
              <a:gd name="adj2" fmla="val 1062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0C7-EA16-4194-B21F-8B28C844AC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1958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P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155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6240" y="5362200"/>
            <a:ext cx="4089960" cy="1172520"/>
          </a:xfrm>
          <a:prstGeom prst="wedgeEllipseCallout">
            <a:avLst>
              <a:gd name="adj1" fmla="val 42824"/>
              <a:gd name="adj2" fmla="val -1153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1160" y="20563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A9B-AF0C-43A9-8E71-8460B37408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80280" y="2251080"/>
            <a:ext cx="395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sum(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quantity)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quantity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93240" y="40384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93240" y="30481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6240" y="5362200"/>
            <a:ext cx="4089960" cy="1172520"/>
          </a:xfrm>
          <a:prstGeom prst="wedgeEllipseCallout">
            <a:avLst>
              <a:gd name="adj1" fmla="val 62425"/>
              <a:gd name="adj2" fmla="val -1495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0400" y="20563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6960" y="3123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BC7-3BF9-4CAA-A64D-F3EE602687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274-1564-4E1C-9F83-A9D1D18A43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61C-5BED-44F7-9269-9F1EEC9887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5EB-E3D0-4B7B-BC63-A7D3DA46A7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2A4-0FDD-4390-9157-BDD0E01889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8B8-FC81-4B9C-85EE-7FE1C32455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A74-E47B-4BDB-AE17-2DBE550B28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DVANCED STUFF; NOT ON THE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  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schema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R(A1,…An),  S(B1,…,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T(A1,…,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4149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lnTo>
                  <a:pt x="0" y="96"/>
                </a:lnTo>
                <a:lnTo>
                  <a:pt x="0" y="0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5201280" y="40536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584-57DD-41BC-BEF4-A78D00374B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39840" y="3965760"/>
            <a:ext cx="4112280" cy="459720"/>
            <a:chOff x="2139840" y="3965760"/>
            <a:chExt cx="4112280" cy="459720"/>
          </a:xfrm>
        </p:grpSpPr>
        <p:sp>
          <p:nvSpPr>
            <p:cNvPr id="48" name=""/>
            <p:cNvSpPr/>
            <p:nvPr/>
          </p:nvSpPr>
          <p:spPr>
            <a:xfrm>
              <a:off x="213984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4392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008-082C-4F34-88AD-E61DF5FC0B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joins: a bit of theory (see [AHV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ll reducer for Q is a progr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 no dangling tuples remain in any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88720" y="2743200"/>
            <a:ext cx="331848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: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x| . . . |x|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77160" y="3733920"/>
            <a:ext cx="1663560" cy="13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 .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343400" y="3809880"/>
            <a:ext cx="228600" cy="952560"/>
            <a:chOff x="4343400" y="3809880"/>
            <a:chExt cx="228600" cy="952560"/>
          </a:xfrm>
        </p:grpSpPr>
        <p:sp>
          <p:nvSpPr>
            <p:cNvPr id="209" name=""/>
            <p:cNvSpPr/>
            <p:nvPr/>
          </p:nvSpPr>
          <p:spPr>
            <a:xfrm>
              <a:off x="4343400" y="38098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43400" y="403848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400" y="4647960"/>
              <a:ext cx="228600" cy="1144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0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32C-12B2-4180-B3CF-48FCC3846A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reducer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1280" y="2133720"/>
            <a:ext cx="540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93400" y="3276720"/>
            <a:ext cx="46368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1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(C,D,E) := R3(C,D,E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(B,C) := R2(B,C) |x R3(C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(A,B) := R1(A,B) |x R2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6920" y="609480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ables have only the tuples necessary to compute Q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073-918B-4185-8BCD-1B83684936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ve a full reducer (we can reduce for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query has a full reducer iff it is “acycl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74080" y="2895480"/>
            <a:ext cx="5478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E) :- R1(A,B) |x| R2(B,C) |x| R3(A,C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E42-F4CD-444D-B37F-6612666B19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in [Chaudhuri’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0960" y="2819520"/>
            <a:ext cx="522072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DepAvgSal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BBB-2B4F-4948-813C-D58B4FB3DA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86640" y="2819520"/>
            <a:ext cx="57816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t D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WHERE E.did = D.did AND D.bu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.eid, E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Avg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D.did AND E.did = V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age &lt; 30 AND D.budget &gt; 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68D-4377-40BE-A244-201D32A707E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full redu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590920"/>
            <a:ext cx="63864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PartialResult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id, E.sal, E.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Dep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=D.did AND E.age &l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.budget &gt; 100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Filter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DISTINCT P.did FROM PartialResul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VIEW LimitedAvgSal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LECT E.did, Avg(E.Sal) AS 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mp E, Filt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.did = F.did GROUP BY E.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435-704C-482D-806D-0D8D06083F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 Based on Semi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1000" y="2971800"/>
            <a:ext cx="4867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.eid, P.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PartialResult P, LimitedDepAvgSal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.did = V.did AND P.sal &gt; V.avg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EFD-FB18-45DE-81FE-80D7CEA304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08F-2BFC-4B8E-87BB-623164229A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02320" y="152388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4884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47B-C3B3-43D0-8F58-582C305C4B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37E-7951-46F3-BF19-4C68A7ADE2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B89-BCF2-4B5E-A8B6-8DDE356932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Nested Loop Jo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S) + B(R)*B(S)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ed Hash Jo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min(B(R),B(S)) &lt;=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B(R)+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B(R)+B(S) &lt;=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R) + T(R)B(S)/V(S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986-2E1B-4859-AEBE-1283354505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243-ECD6-40A8-9968-EC2848C521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1-30T04:04:52Z</dcterms:modified>
  <cp:revision>367</cp:revision>
  <dc:subject/>
  <dc:title>Lecture 09:</dc:title>
</cp:coreProperties>
</file>