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F749-FA11-4D19-B12E-C95DBF4E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602-5179-4B5B-98E0-2D3A686F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CA1-D176-4246-9FDA-DC3CEA71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1AD-04C4-40E2-9FA6-6598E316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335-BD97-4328-B9AE-F318C866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931-45FB-4315-AE90-31BA557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25B-E034-462D-9DD9-2AD79DEB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6F4-FD94-409E-A7E9-9844319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743-058B-4B08-B777-0BE6E84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B78-86B0-4B90-B7AD-95266B5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792-E0CD-42D4-AAF2-C3A32E0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F8E-E758-48DE-8CC3-419AF87B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2D9-05B2-46C7-86D3-E460EC5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ADE-8D7F-4D13-878C-1C4E08EF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hoose k and 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k large but s.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/k large but s.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/k * B(S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:                        t/k * B(S) + k-t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/k * B(S) &gt;&gt; k-t:     t/k = M/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partitioned hash join:                    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2 I/Os for a t/k fraction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join saves   2t/k(B(R) + B(S))  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(3-2t/k)(B(R) + B(S)) =     (3-2M/B(S))(B(R) + B(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35200" y="5603760"/>
            <a:ext cx="272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38880" y="431964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38880" y="516420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32760" y="476712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58040" y="5716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6480" y="57452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273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276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120" y="3200400"/>
            <a:ext cx="3182040" cy="652680"/>
          </a:xfrm>
          <a:prstGeom prst="wedgeEllipseCallout">
            <a:avLst>
              <a:gd name="adj1" fmla="val 961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952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896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(R)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R in number of block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(in # of blo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lock size = 4KB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5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15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18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-base Has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 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 bytes (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250^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4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4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86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89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641600" y="2209680"/>
                <a:ext cx="35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ulti-way merge sort needs only two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0120" y="2133720"/>
            <a:ext cx="10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888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1456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272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4440" y="2900520"/>
            <a:ext cx="192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1456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900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99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5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9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178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8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9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t bucke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 buckets join immediately with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k-t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t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1:41:11Z</dcterms:created>
  <dc:creator>Dan Suciu</dc:creator>
  <dc:description/>
  <dc:language>en-US</dc:language>
  <cp:lastModifiedBy>Dan Suciu</cp:lastModifiedBy>
  <dcterms:modified xsi:type="dcterms:W3CDTF">2005-11-28T05:28:15Z</dcterms:modified>
  <cp:revision>29</cp:revision>
  <dc:subject/>
  <dc:title>Sorting</dc:title>
</cp:coreProperties>
</file>