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96115DE-970F-4CCE-B3FF-A65333D0D2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3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9557-87E9-4F31-977D-2D99BBBA3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6377-F323-4E6A-BB50-5DBAAAFB4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C944-A820-419A-B40D-3B29E1D83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89B5-F1D5-418E-9481-73728A601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D2FB-B058-4671-A483-8CA1DB37C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0E88-EAEB-43D8-9F11-D159D7416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054B-C496-4922-AED1-69746D007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4224-400C-4D37-8A09-7FBC382DC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36F3-B2F0-41E7-9BB9-FC23721C5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44A9-A927-4BD8-BEAF-CD113B555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1D95-8953-46FB-A724-E49168DC5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278E-8F37-4816-BC31-A8593BDF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CA158-31E8-42E0-BEFB-933BBCB5E6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23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 Execu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dnesday, November 23,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26B9-5ED0-4F8C-8D04-E710F05CD0B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database systems the data is 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isk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not in main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an operation = total number of I/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 paramet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(R) = number of blocks for relation 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(R) = number of tuples in relation 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(R, a) = number of distinct values of attribute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A513-53C9-4A8C-A1A1-023B8106EE0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luster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able 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cks consists only of records from this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(R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(R) / block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ncluster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able 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records are placed on blocks with other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R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cluster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B(R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 is a key, V(R,a) = T(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 is not a key, V(R,a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7AA7-4B28-432E-9A11-8CC08C9ADB2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of an operation =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of disk I/Os needed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 the oper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 the resu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of writing the result to disk i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t includ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n the following sl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3AA9-08AF-43D1-A097-F1BD9D4A7AA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anning a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ustered rel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 sc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 may be unsorted:  B(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 needs to be sorted:    3B(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 s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sorted: B(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rted: B(R) or 3B(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clustered re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sorted: T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ed: T(R) + 2B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C88D-B5C2-4071-8DAF-7B39FD5667A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-Pass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io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, projectio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h ar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uple-at-a-ti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lgorith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 B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99600" y="4499280"/>
            <a:ext cx="1648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62480" y="4499280"/>
            <a:ext cx="18511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 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05320" y="4343400"/>
            <a:ext cx="11430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971800" y="4724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648320" y="47242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AE45-C0E3-49F3-B640-2D06004B3B5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-pass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h join:  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|x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an S, build buckets in main mem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scan R and jo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 B(R) + B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B(S) &lt;=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072B-3708-4692-878B-C1F6F562719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-pass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plicate eliminatio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keep tuples in mem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new tuple arrives, need to compare it with previously seen tu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lanced search tree, or hash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 B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B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) &lt;=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0684-78BD-4DF0-A675-5F38E9691CB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 in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t(name, department, quantit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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department, sum(quantity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Product)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(department, su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stion: how do you compute it in main memory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6961-9447-41C6-976F-05463E38EE5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-pass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ing: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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department, sum(quantity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store all departments in mem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store the sum(quantity) for each depart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lanced search tree or hash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 B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number of departments fits in mem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110B-DEAF-49F4-98AA-AB171A2B670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-pass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operations: 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∩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, 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∪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, R –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umption: min(B(R), B(S)) &lt;=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n one table first, then the next, eliminate duplic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: B(R)+B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2624-A9AB-460D-AECA-A6322073290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ry execution: 15.1 – 15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5A2A-DD42-4059-9DC6-2F2AE8BFFF9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 in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664080" y="1676520"/>
            <a:ext cx="3990600" cy="484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mptyHashTable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scan R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x in R d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insert(H,  x )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scan S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y in S d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_____________________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collect result */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z in H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(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5120" y="1676520"/>
            <a:ext cx="2686680" cy="16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 w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in each o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ca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, 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∪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, R –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E29F-2D69-4102-A2AB-D24197DCE70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sted Loop 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ple-based nested loop 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(R) B(S) when S is cluste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(R) T(S) when S is uncluste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20000" y="3048120"/>
            <a:ext cx="6475320" cy="175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ach tuple r in R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ach tuple s in 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 and s join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th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utput (r,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A2C9-AC2A-4392-A18B-E6AAEC4E202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sted Loop 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be much more cle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Ques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how would you compute the join in the following cases ? What is the cost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(R) = 1000, B(S) = 2, M 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(R) = 1000, B(S) = 3, M 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(R) = 1000, B(S) = 6, M 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FD32-3A3A-4D06-A8CE-5C2410756FE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sted Loop 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ock-based Nested Loop Jo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8160" y="2743200"/>
            <a:ext cx="7961040" cy="29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ach (M-2) blocks bs of S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ach block br of R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ach tuple s in 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ach tuple r in br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“r and s join”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th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utput(r,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0781-5B24-452C-839F-458E2F465B2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sted Loop 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759040" y="50306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457280" y="2979720"/>
            <a:ext cx="844560" cy="2026440"/>
            <a:chOff x="1457280" y="2979720"/>
            <a:chExt cx="844560" cy="2026440"/>
          </a:xfrm>
        </p:grpSpPr>
        <p:sp>
          <p:nvSpPr>
            <p:cNvPr id="182" name=""/>
            <p:cNvSpPr/>
            <p:nvPr/>
          </p:nvSpPr>
          <p:spPr>
            <a:xfrm>
              <a:off x="1470240" y="2979720"/>
              <a:ext cx="825480" cy="139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463760" y="3049200"/>
              <a:ext cx="0" cy="18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1840" y="3049200"/>
              <a:ext cx="0" cy="18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57280" y="4766040"/>
              <a:ext cx="838080" cy="24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6" y="10515"/>
                  </a:moveTo>
                  <a:arcTo wR="10800" hR="10800" stAng="-90790" swAng="1089079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6" y="10515"/>
                  </a:moveTo>
                  <a:arcTo wR="10800" hR="10800" stAng="-90790" swAng="1089079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536920" y="2827440"/>
            <a:ext cx="3416040" cy="2197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98480" y="3284640"/>
            <a:ext cx="292320" cy="291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698480" y="3741840"/>
            <a:ext cx="292320" cy="29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98480" y="4503600"/>
            <a:ext cx="292320" cy="2923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525680" y="3935520"/>
            <a:ext cx="742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. .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46400" y="3360600"/>
            <a:ext cx="2197080" cy="52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222720" y="3436920"/>
            <a:ext cx="29196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679920" y="3436920"/>
            <a:ext cx="29196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6600" y="3247920"/>
            <a:ext cx="742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. .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22920" y="3436920"/>
            <a:ext cx="29196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146400" y="4351320"/>
            <a:ext cx="29196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051520" y="4351320"/>
            <a:ext cx="29196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301840" y="35830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301840" y="44974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49960" y="449748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469520" y="2625840"/>
            <a:ext cx="8006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R &amp;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219840" y="2819520"/>
            <a:ext cx="2331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h table for block of 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M-2 pag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669040" y="4651200"/>
            <a:ext cx="1765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put buffer for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4520" y="4648320"/>
            <a:ext cx="1404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buf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216240" y="3811680"/>
            <a:ext cx="306360" cy="534960"/>
          </a:xfrm>
          <a:custGeom>
            <a:avLst/>
            <a:gdLst/>
            <a:ahLst/>
            <a:rect l="l" t="t" r="r" b="b"/>
            <a:pathLst>
              <a:path w="193" h="337">
                <a:moveTo>
                  <a:pt x="48" y="336"/>
                </a:moveTo>
                <a:lnTo>
                  <a:pt x="144" y="144"/>
                </a:lnTo>
                <a:lnTo>
                  <a:pt x="0" y="192"/>
                </a:lnTo>
                <a:lnTo>
                  <a:pt x="2" y="166"/>
                </a:lnTo>
                <a:lnTo>
                  <a:pt x="19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6334200" y="2979720"/>
            <a:ext cx="887040" cy="2026440"/>
            <a:chOff x="6334200" y="2979720"/>
            <a:chExt cx="887040" cy="2026440"/>
          </a:xfrm>
        </p:grpSpPr>
        <p:grpSp>
          <p:nvGrpSpPr>
            <p:cNvPr id="207" name=""/>
            <p:cNvGrpSpPr/>
            <p:nvPr/>
          </p:nvGrpSpPr>
          <p:grpSpPr>
            <a:xfrm>
              <a:off x="6334200" y="2979720"/>
              <a:ext cx="844560" cy="2026440"/>
              <a:chOff x="6334200" y="2979720"/>
              <a:chExt cx="844560" cy="2026440"/>
            </a:xfrm>
          </p:grpSpPr>
          <p:sp>
            <p:nvSpPr>
              <p:cNvPr id="208" name=""/>
              <p:cNvSpPr/>
              <p:nvPr/>
            </p:nvSpPr>
            <p:spPr>
              <a:xfrm>
                <a:off x="6346800" y="2979720"/>
                <a:ext cx="825480" cy="139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340680" y="3049200"/>
                <a:ext cx="0" cy="1828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7178760" y="3049200"/>
                <a:ext cx="0" cy="1828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334200" y="4766040"/>
                <a:ext cx="837720" cy="240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0515"/>
                    </a:moveTo>
                    <a:arcTo wR="10800" hR="10800" stAng="-90790" swAng="1089079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0515"/>
                    </a:moveTo>
                    <a:arcTo wR="10800" hR="10800" stAng="-90790" swAng="1089079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2" name=""/>
            <p:cNvSpPr/>
            <p:nvPr/>
          </p:nvSpPr>
          <p:spPr>
            <a:xfrm>
              <a:off x="6651720" y="3284280"/>
              <a:ext cx="291960" cy="2916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651720" y="3741480"/>
              <a:ext cx="291960" cy="291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651720" y="4503600"/>
              <a:ext cx="291960" cy="2916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78560" y="3933720"/>
              <a:ext cx="7426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Book Antiqua"/>
                </a:rPr>
                <a:t>. . 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6020640" y="2624040"/>
            <a:ext cx="1434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Join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4A4A-C633-45DE-B582-8C2D8F48713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sted Loop 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ock-based Nested Loop Jo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 S once: cost B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er loop runs B(S)/(M-2) times, and each time need to read R: costs B(S)B(R)/(M-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 cost:  B(S)  +  B(S)B(R)/(M-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ice: it is better to iterate over the smaller relation fir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|x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:  R=outer relation, S=inner re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4508-FEC0-4542-8802-7DA06B4DB85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chitecture of a Database Eng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613320" y="2208960"/>
            <a:ext cx="1730160" cy="5094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176640" y="3066480"/>
            <a:ext cx="2604960" cy="5094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Logical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25520" y="3923640"/>
            <a:ext cx="2706840" cy="5094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Physical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325320" y="4780800"/>
            <a:ext cx="2306160" cy="5094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 Exec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98960" y="5638680"/>
            <a:ext cx="762120" cy="914400"/>
          </a:xfrm>
          <a:prstGeom prst="can">
            <a:avLst>
              <a:gd name="adj" fmla="val 3593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"/>
          <p:cNvCxnSpPr>
            <a:stCxn id="53" idx="2"/>
            <a:endCxn id="54" idx="0"/>
          </p:cNvCxnSpPr>
          <p:nvPr/>
        </p:nvCxnSpPr>
        <p:spPr>
          <a:xfrm>
            <a:off x="4478400" y="2717280"/>
            <a:ext cx="2160" cy="350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4" idx="2"/>
            <a:endCxn id="55" idx="0"/>
          </p:cNvCxnSpPr>
          <p:nvPr/>
        </p:nvCxnSpPr>
        <p:spPr>
          <a:xfrm>
            <a:off x="4479480" y="3575160"/>
            <a:ext cx="1080" cy="34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2"/>
            <a:endCxn id="56" idx="0"/>
          </p:cNvCxnSpPr>
          <p:nvPr/>
        </p:nvCxnSpPr>
        <p:spPr>
          <a:xfrm flipH="1">
            <a:off x="4478040" y="4432320"/>
            <a:ext cx="2160" cy="34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6" idx="2"/>
            <a:endCxn id="57" idx="1"/>
          </p:cNvCxnSpPr>
          <p:nvPr/>
        </p:nvCxnSpPr>
        <p:spPr>
          <a:xfrm>
            <a:off x="4478400" y="5289480"/>
            <a:ext cx="2160" cy="34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3716640" y="1447920"/>
            <a:ext cx="152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 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62" idx="2"/>
            <a:endCxn id="53" idx="0"/>
          </p:cNvCxnSpPr>
          <p:nvPr/>
        </p:nvCxnSpPr>
        <p:spPr>
          <a:xfrm flipH="1">
            <a:off x="4478040" y="1905120"/>
            <a:ext cx="216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2666880" y="2971800"/>
            <a:ext cx="533520" cy="1523880"/>
          </a:xfrm>
          <a:custGeom>
            <a:avLst/>
            <a:gdLst>
              <a:gd name="textAreaLeft" fmla="*/ 340920 w 533520"/>
              <a:gd name="textAreaRight" fmla="*/ 533880 w 53352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74520" y="3241800"/>
            <a:ext cx="172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27640" y="2725200"/>
            <a:ext cx="1582200" cy="1172520"/>
          </a:xfrm>
          <a:prstGeom prst="wedgeEllipseCallout">
            <a:avLst>
              <a:gd name="adj1" fmla="val -157912"/>
              <a:gd name="adj2" fmla="val 368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ic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057800" y="4096800"/>
            <a:ext cx="1726560" cy="1172520"/>
          </a:xfrm>
          <a:prstGeom prst="wedgeEllipseCallout">
            <a:avLst>
              <a:gd name="adj1" fmla="val -157064"/>
              <a:gd name="adj2" fmla="val -58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209C-4073-417A-8EEA-4E1AA5BA335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gical Algebra Op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on, intersection, differ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ion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ctio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i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|x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plicate eliminatio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6E89-1539-456C-B7EE-5577CA06CC4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gical Query 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80280" y="2251080"/>
            <a:ext cx="356256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ity, count(*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V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um(price) &g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07560" y="5486400"/>
            <a:ext cx="32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les(product, city, 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952880" y="4519440"/>
            <a:ext cx="324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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ity, sum(price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→p, count(*) → 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871240" y="3452760"/>
            <a:ext cx="1058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 &g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785560" y="2438280"/>
            <a:ext cx="100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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ity,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6095880" y="5105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6095880" y="39621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095880" y="2895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292880" y="403848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1(city,p,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292880" y="304812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2(city,p,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292880" y="1905120"/>
            <a:ext cx="14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3(city, 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18440" y="6236280"/>
            <a:ext cx="39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1, T2, T3  = temporary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77F3-C961-4EA9-8DC5-E1FAFF25235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gical Query 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35080" y="1295280"/>
            <a:ext cx="3734640" cy="1799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Book Antiqua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S.bu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Book Antiqua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Purchase P, Person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Book Antiqua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P.buyer=Q.name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Q.city=‘seattle’ AND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Q.phone &gt; ‘5430000’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78400" y="2797200"/>
            <a:ext cx="1800" cy="173160"/>
          </a:xfrm>
          <a:custGeom>
            <a:avLst/>
            <a:gdLst/>
            <a:ahLst/>
            <a:rect l="l" t="t" r="r" b="b"/>
            <a:pathLst>
              <a:path w="1" h="109">
                <a:moveTo>
                  <a:pt x="0" y="0"/>
                </a:moveTo>
                <a:lnTo>
                  <a:pt x="0" y="10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65880" y="2797200"/>
            <a:ext cx="1440" cy="173160"/>
          </a:xfrm>
          <a:custGeom>
            <a:avLst/>
            <a:gdLst/>
            <a:ahLst/>
            <a:rect l="l" t="t" r="r" b="b"/>
            <a:pathLst>
              <a:path w="1" h="109">
                <a:moveTo>
                  <a:pt x="0" y="0"/>
                </a:moveTo>
                <a:lnTo>
                  <a:pt x="0" y="10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7000" y="2781360"/>
            <a:ext cx="174960" cy="1440"/>
          </a:xfrm>
          <a:custGeom>
            <a:avLst/>
            <a:gdLst/>
            <a:ahLst/>
            <a:rect l="l" t="t" r="r" b="b"/>
            <a:pathLst>
              <a:path w="110" h="1">
                <a:moveTo>
                  <a:pt x="0" y="0"/>
                </a:moveTo>
                <a:lnTo>
                  <a:pt x="109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5495760" y="4794120"/>
            <a:ext cx="349200" cy="123840"/>
            <a:chOff x="5495760" y="4794120"/>
            <a:chExt cx="349200" cy="123840"/>
          </a:xfrm>
        </p:grpSpPr>
        <p:sp>
          <p:nvSpPr>
            <p:cNvPr id="89" name=""/>
            <p:cNvSpPr/>
            <p:nvPr/>
          </p:nvSpPr>
          <p:spPr>
            <a:xfrm>
              <a:off x="5495760" y="4794120"/>
              <a:ext cx="1440" cy="123840"/>
            </a:xfrm>
            <a:custGeom>
              <a:avLst/>
              <a:gdLst/>
              <a:ahLst/>
              <a:rect l="l" t="t" r="r" b="b"/>
              <a:pathLst>
                <a:path w="1" h="78">
                  <a:moveTo>
                    <a:pt x="0" y="0"/>
                  </a:moveTo>
                  <a:lnTo>
                    <a:pt x="0" y="7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43520" y="4794120"/>
              <a:ext cx="1440" cy="123840"/>
            </a:xfrm>
            <a:custGeom>
              <a:avLst/>
              <a:gdLst/>
              <a:ahLst/>
              <a:rect l="l" t="t" r="r" b="b"/>
              <a:pathLst>
                <a:path w="1" h="78">
                  <a:moveTo>
                    <a:pt x="0" y="0"/>
                  </a:moveTo>
                  <a:lnTo>
                    <a:pt x="0" y="7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495760" y="4794120"/>
              <a:ext cx="349200" cy="123840"/>
            </a:xfrm>
            <a:custGeom>
              <a:avLst/>
              <a:gdLst/>
              <a:ahLst/>
              <a:rect l="l" t="t" r="r" b="b"/>
              <a:pathLst>
                <a:path w="220" h="78">
                  <a:moveTo>
                    <a:pt x="0" y="0"/>
                  </a:moveTo>
                  <a:lnTo>
                    <a:pt x="219" y="7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495760" y="4794120"/>
              <a:ext cx="349200" cy="123840"/>
            </a:xfrm>
            <a:custGeom>
              <a:avLst/>
              <a:gdLst/>
              <a:ahLst/>
              <a:rect l="l" t="t" r="r" b="b"/>
              <a:pathLst>
                <a:path w="220" h="78">
                  <a:moveTo>
                    <a:pt x="0" y="77"/>
                  </a:moveTo>
                  <a:lnTo>
                    <a:pt x="219" y="0"/>
                  </a:lnTo>
                  <a:lnTo>
                    <a:pt x="0" y="7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4900680" y="5305320"/>
            <a:ext cx="669960" cy="357120"/>
          </a:xfrm>
          <a:custGeom>
            <a:avLst/>
            <a:gdLst/>
            <a:ahLst/>
            <a:rect l="l" t="t" r="r" b="b"/>
            <a:pathLst>
              <a:path w="422" h="225">
                <a:moveTo>
                  <a:pt x="0" y="224"/>
                </a:moveTo>
                <a:lnTo>
                  <a:pt x="421" y="0"/>
                </a:lnTo>
                <a:lnTo>
                  <a:pt x="0" y="2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16520" y="5305320"/>
            <a:ext cx="684360" cy="357120"/>
          </a:xfrm>
          <a:custGeom>
            <a:avLst/>
            <a:gdLst/>
            <a:ahLst/>
            <a:rect l="l" t="t" r="r" b="b"/>
            <a:pathLst>
              <a:path w="431" h="225">
                <a:moveTo>
                  <a:pt x="0" y="0"/>
                </a:moveTo>
                <a:lnTo>
                  <a:pt x="430" y="22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72160" y="4081320"/>
            <a:ext cx="1440" cy="560520"/>
          </a:xfrm>
          <a:custGeom>
            <a:avLst/>
            <a:gdLst/>
            <a:ahLst/>
            <a:rect l="l" t="t" r="r" b="b"/>
            <a:pathLst>
              <a:path w="1" h="353">
                <a:moveTo>
                  <a:pt x="0" y="0"/>
                </a:moveTo>
                <a:lnTo>
                  <a:pt x="0" y="35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672160" y="3154320"/>
            <a:ext cx="1440" cy="512640"/>
          </a:xfrm>
          <a:custGeom>
            <a:avLst/>
            <a:gdLst/>
            <a:ahLst/>
            <a:rect l="l" t="t" r="r" b="b"/>
            <a:pathLst>
              <a:path w="1" h="323">
                <a:moveTo>
                  <a:pt x="0" y="0"/>
                </a:moveTo>
                <a:lnTo>
                  <a:pt x="0" y="32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27520" y="3794040"/>
            <a:ext cx="87480" cy="158760"/>
          </a:xfrm>
          <a:custGeom>
            <a:avLst/>
            <a:gdLst/>
            <a:ahLst/>
            <a:rect l="l" t="t" r="r" b="b"/>
            <a:pathLst>
              <a:path w="55" h="100">
                <a:moveTo>
                  <a:pt x="0" y="99"/>
                </a:moveTo>
                <a:lnTo>
                  <a:pt x="54" y="0"/>
                </a:lnTo>
                <a:lnTo>
                  <a:pt x="0" y="9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713560" y="3807000"/>
            <a:ext cx="75960" cy="145800"/>
          </a:xfrm>
          <a:custGeom>
            <a:avLst/>
            <a:gdLst/>
            <a:ahLst/>
            <a:rect l="l" t="t" r="r" b="b"/>
            <a:pathLst>
              <a:path w="48" h="92">
                <a:moveTo>
                  <a:pt x="0" y="0"/>
                </a:moveTo>
                <a:lnTo>
                  <a:pt x="47" y="91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41240" y="5745240"/>
            <a:ext cx="11602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urchas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127560" y="5729400"/>
            <a:ext cx="9194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ers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26400" y="4998960"/>
            <a:ext cx="1257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yer=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17200" y="3774960"/>
            <a:ext cx="1291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ity=‘seattle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13200" y="3774960"/>
            <a:ext cx="171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one&gt;’5430000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432040" y="2865600"/>
            <a:ext cx="669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9440" y="3714840"/>
            <a:ext cx="1843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27760" y="2708280"/>
            <a:ext cx="1843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268520" y="347040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BB2A-4742-4FD7-9842-2767FFBFD3F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ysical Query 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35080" y="1295280"/>
            <a:ext cx="3734640" cy="1799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Book Antiqua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S.bu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Book Antiqua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Purchase P, Person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Book Antiqua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P.buyer=Q.name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Q.city=‘seattle’ AND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Q.phone &gt; ‘5430000’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3200400"/>
            <a:ext cx="32925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Query Pla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ical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ementation choice at every n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eduling of oper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4105080" y="1447920"/>
            <a:ext cx="5038920" cy="3802320"/>
            <a:chOff x="4105080" y="1447920"/>
            <a:chExt cx="5038920" cy="3802320"/>
          </a:xfrm>
        </p:grpSpPr>
        <p:sp>
          <p:nvSpPr>
            <p:cNvPr id="112" name=""/>
            <p:cNvSpPr/>
            <p:nvPr/>
          </p:nvSpPr>
          <p:spPr>
            <a:xfrm>
              <a:off x="5421240" y="1536840"/>
              <a:ext cx="1440" cy="173160"/>
            </a:xfrm>
            <a:custGeom>
              <a:avLst/>
              <a:gdLst/>
              <a:ahLst/>
              <a:rect l="l" t="t" r="r" b="b"/>
              <a:pathLst>
                <a:path w="1" h="109">
                  <a:moveTo>
                    <a:pt x="0" y="0"/>
                  </a:moveTo>
                  <a:lnTo>
                    <a:pt x="0" y="10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508360" y="1536840"/>
              <a:ext cx="1800" cy="173160"/>
            </a:xfrm>
            <a:custGeom>
              <a:avLst/>
              <a:gdLst/>
              <a:ahLst/>
              <a:rect l="l" t="t" r="r" b="b"/>
              <a:pathLst>
                <a:path w="1" h="109">
                  <a:moveTo>
                    <a:pt x="0" y="0"/>
                  </a:moveTo>
                  <a:lnTo>
                    <a:pt x="0" y="10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379840" y="1521000"/>
              <a:ext cx="174600" cy="1800"/>
            </a:xfrm>
            <a:custGeom>
              <a:avLst/>
              <a:gdLst/>
              <a:ahLst/>
              <a:rect l="l" t="t" r="r" b="b"/>
              <a:pathLst>
                <a:path w="110" h="1">
                  <a:moveTo>
                    <a:pt x="0" y="0"/>
                  </a:moveTo>
                  <a:lnTo>
                    <a:pt x="109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5538600" y="3534120"/>
              <a:ext cx="349200" cy="123840"/>
              <a:chOff x="5538600" y="3534120"/>
              <a:chExt cx="349200" cy="123840"/>
            </a:xfrm>
          </p:grpSpPr>
          <p:sp>
            <p:nvSpPr>
              <p:cNvPr id="116" name=""/>
              <p:cNvSpPr/>
              <p:nvPr/>
            </p:nvSpPr>
            <p:spPr>
              <a:xfrm>
                <a:off x="5538600" y="3534120"/>
                <a:ext cx="1440" cy="123840"/>
              </a:xfrm>
              <a:custGeom>
                <a:avLst/>
                <a:gdLst/>
                <a:ahLst/>
                <a:rect l="l" t="t" r="r" b="b"/>
                <a:pathLst>
                  <a:path w="1" h="78">
                    <a:moveTo>
                      <a:pt x="0" y="0"/>
                    </a:moveTo>
                    <a:lnTo>
                      <a:pt x="0" y="77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886360" y="3534120"/>
                <a:ext cx="1440" cy="123840"/>
              </a:xfrm>
              <a:custGeom>
                <a:avLst/>
                <a:gdLst/>
                <a:ahLst/>
                <a:rect l="l" t="t" r="r" b="b"/>
                <a:pathLst>
                  <a:path w="1" h="78">
                    <a:moveTo>
                      <a:pt x="0" y="0"/>
                    </a:moveTo>
                    <a:lnTo>
                      <a:pt x="0" y="77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538600" y="3534120"/>
                <a:ext cx="349200" cy="123840"/>
              </a:xfrm>
              <a:custGeom>
                <a:avLst/>
                <a:gdLst/>
                <a:ahLst/>
                <a:rect l="l" t="t" r="r" b="b"/>
                <a:pathLst>
                  <a:path w="220" h="78">
                    <a:moveTo>
                      <a:pt x="0" y="0"/>
                    </a:moveTo>
                    <a:lnTo>
                      <a:pt x="219" y="77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538600" y="3534120"/>
                <a:ext cx="349200" cy="123840"/>
              </a:xfrm>
              <a:custGeom>
                <a:avLst/>
                <a:gdLst/>
                <a:ahLst/>
                <a:rect l="l" t="t" r="r" b="b"/>
                <a:pathLst>
                  <a:path w="220" h="78">
                    <a:moveTo>
                      <a:pt x="0" y="77"/>
                    </a:moveTo>
                    <a:lnTo>
                      <a:pt x="219" y="0"/>
                    </a:lnTo>
                    <a:lnTo>
                      <a:pt x="0" y="7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4943160" y="4045320"/>
              <a:ext cx="669960" cy="357120"/>
            </a:xfrm>
            <a:custGeom>
              <a:avLst/>
              <a:gdLst/>
              <a:ahLst/>
              <a:rect l="l" t="t" r="r" b="b"/>
              <a:pathLst>
                <a:path w="422" h="225">
                  <a:moveTo>
                    <a:pt x="0" y="224"/>
                  </a:moveTo>
                  <a:lnTo>
                    <a:pt x="421" y="0"/>
                  </a:lnTo>
                  <a:lnTo>
                    <a:pt x="0" y="2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859360" y="4045320"/>
              <a:ext cx="684000" cy="357120"/>
            </a:xfrm>
            <a:custGeom>
              <a:avLst/>
              <a:gdLst/>
              <a:ahLst/>
              <a:rect l="l" t="t" r="r" b="b"/>
              <a:pathLst>
                <a:path w="431" h="225">
                  <a:moveTo>
                    <a:pt x="0" y="0"/>
                  </a:moveTo>
                  <a:lnTo>
                    <a:pt x="430" y="22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15000" y="2821320"/>
              <a:ext cx="1440" cy="560160"/>
            </a:xfrm>
            <a:custGeom>
              <a:avLst/>
              <a:gdLst/>
              <a:ahLst/>
              <a:rect l="l" t="t" r="r" b="b"/>
              <a:pathLst>
                <a:path w="1" h="353">
                  <a:moveTo>
                    <a:pt x="0" y="0"/>
                  </a:moveTo>
                  <a:lnTo>
                    <a:pt x="0" y="35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15000" y="1894320"/>
              <a:ext cx="1440" cy="512640"/>
            </a:xfrm>
            <a:custGeom>
              <a:avLst/>
              <a:gdLst/>
              <a:ahLst/>
              <a:rect l="l" t="t" r="r" b="b"/>
              <a:pathLst>
                <a:path w="1" h="323">
                  <a:moveTo>
                    <a:pt x="0" y="0"/>
                  </a:moveTo>
                  <a:lnTo>
                    <a:pt x="0" y="32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670360" y="2534040"/>
              <a:ext cx="87480" cy="158760"/>
            </a:xfrm>
            <a:custGeom>
              <a:avLst/>
              <a:gdLst/>
              <a:ahLst/>
              <a:rect l="l" t="t" r="r" b="b"/>
              <a:pathLst>
                <a:path w="55" h="100">
                  <a:moveTo>
                    <a:pt x="0" y="99"/>
                  </a:moveTo>
                  <a:lnTo>
                    <a:pt x="54" y="0"/>
                  </a:lnTo>
                  <a:lnTo>
                    <a:pt x="0" y="9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756040" y="2546640"/>
              <a:ext cx="76320" cy="146160"/>
            </a:xfrm>
            <a:custGeom>
              <a:avLst/>
              <a:gdLst/>
              <a:ahLst/>
              <a:rect l="l" t="t" r="r" b="b"/>
              <a:pathLst>
                <a:path w="48" h="92">
                  <a:moveTo>
                    <a:pt x="0" y="0"/>
                  </a:moveTo>
                  <a:lnTo>
                    <a:pt x="47" y="9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84080" y="4484880"/>
              <a:ext cx="116028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Purchas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170400" y="4469040"/>
              <a:ext cx="91944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Pers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69240" y="3738960"/>
              <a:ext cx="1257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uyer=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59680" y="2514960"/>
              <a:ext cx="12913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ity=‘seattle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756040" y="2514960"/>
              <a:ext cx="171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hone&gt;’5430000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474520" y="1605240"/>
              <a:ext cx="669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uy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615000" y="3738960"/>
              <a:ext cx="252900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(Simple Nested Loops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902280" y="2454480"/>
              <a:ext cx="18432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870600" y="1447920"/>
              <a:ext cx="18396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11360" y="221004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05080" y="4881960"/>
              <a:ext cx="151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(Table sca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10200" y="4881960"/>
              <a:ext cx="151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(Index sca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3414600" y="5486400"/>
            <a:ext cx="489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Some operators are from rela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algebra, and others (e.g., sc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are n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0C7D-F0D0-4B86-8FDA-22289F6C7E8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 in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ical operat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duct(pname, cname)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|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| Company(cname, cit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ropose three physical operators for the join, assuming the tables are in main memor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206B-8F89-4FE3-BFF9-076DD5E5A33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 in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(pname, cname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|x| Company(cname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000000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000 compan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uch time do the following physical operators take if the data i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 main mem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ested loop jo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ime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ort and merge = merge-jo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ime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Hash jo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ime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39F0-9F82-448D-8CD4-DCC5F781D9C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Dan Suciu</cp:lastModifiedBy>
  <dcterms:modified xsi:type="dcterms:W3CDTF">2005-11-23T04:37:39Z</dcterms:modified>
  <cp:revision>313</cp:revision>
  <dc:subject/>
  <dc:title>Lecture 09:</dc:title>
</cp:coreProperties>
</file>