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DAE4-04C5-4759-8FAD-432093BD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B954-8A0F-4610-A44C-A54491AA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B735-8624-4AB9-89C5-6626ACB65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627A-686F-4AFD-B91F-F0ACA3C2E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85B2-DE04-4046-93EE-DD86358A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82A1-671D-434E-8131-EED1F0D1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6057-2933-4687-80C1-069E89C8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3A6B-9414-42C1-B9C0-78A387B6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ADEE-D4B2-41E1-9F9A-25C8C298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A79F-3A0C-4CB5-9F3D-C4EC46CA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BFF9-1243-4ABC-927D-B6FF1F32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0498-209D-4623-8A8A-24F0DA24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7CAB-C137-4B12-9F49-A3D6AACBB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2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November 21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71360" y="3276720"/>
            <a:ext cx="378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ame,Sal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mploy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514600" y="533520"/>
          <a:ext cx="6019920" cy="2184120"/>
        </p:xfrm>
        <a:graphic>
          <a:graphicData uri="http://schemas.openxmlformats.org/drawingml/2006/table">
            <a:tbl>
              <a:tblPr/>
              <a:tblGrid>
                <a:gridCol w="2006640"/>
                <a:gridCol w="2006640"/>
                <a:gridCol w="2006640"/>
              </a:tblGrid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5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233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523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3505320" y="4267080"/>
          <a:ext cx="4012920" cy="1638360"/>
        </p:xfrm>
        <a:graphic>
          <a:graphicData uri="http://schemas.openxmlformats.org/drawingml/2006/table">
            <a:tbl>
              <a:tblPr/>
              <a:tblGrid>
                <a:gridCol w="2006640"/>
                <a:gridCol w="200628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Cartesian Produ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uple in R1 with each tuple in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pen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rare in practice; mainly used to express jo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74840" y="274680"/>
            <a:ext cx="6357960" cy="62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ve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o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ce: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tesian Product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d or auxiliary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ction, comp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s (natural,equi-join, theta join, semi-jo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ming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s the schema, not the in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B1,…,B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astName, SocSoc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schema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(LastName, SocSocN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naming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0120" y="1946160"/>
            <a:ext cx="128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9400" y="2317680"/>
            <a:ext cx="72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05360" y="231768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2287440"/>
            <a:ext cx="331488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24360" y="228744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46680" y="2287440"/>
            <a:ext cx="329220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90480" y="267192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05000" y="267192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2652840"/>
            <a:ext cx="331488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652840"/>
            <a:ext cx="111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35520" y="2652840"/>
            <a:ext cx="33033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90120" y="301608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05000" y="30160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3352680"/>
            <a:ext cx="331488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24360" y="335268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46680" y="3352680"/>
            <a:ext cx="329220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2040" y="5060880"/>
            <a:ext cx="125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57640" y="5060880"/>
            <a:ext cx="1287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Soc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5030640"/>
            <a:ext cx="33145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76640" y="503064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98960" y="5030640"/>
            <a:ext cx="329256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42760" y="541512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57280" y="541512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5396040"/>
            <a:ext cx="331452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76640" y="5396040"/>
            <a:ext cx="111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87800" y="5396040"/>
            <a:ext cx="330372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42760" y="575928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57280" y="57592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6095880"/>
            <a:ext cx="33145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6640" y="609588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98960" y="6095880"/>
            <a:ext cx="329256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3505320"/>
            <a:ext cx="746748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Symbol" charset="2"/>
              <a:buChar char="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LastName, SocSocNo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ural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R1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aning:  R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R2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)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selecti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hecks equality of all common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projection eliminates the duplicate common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22560" y="407880"/>
            <a:ext cx="288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ural Join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63160" y="878040"/>
            <a:ext cx="128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62440" y="1249200"/>
            <a:ext cx="72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78400" y="124920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82520" y="1219320"/>
            <a:ext cx="331488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97400" y="121932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1219320"/>
            <a:ext cx="329220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63520" y="160344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78040" y="160344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82520" y="1584360"/>
            <a:ext cx="331488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97400" y="1584360"/>
            <a:ext cx="111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08560" y="1584360"/>
            <a:ext cx="33033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63160" y="194796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78040" y="194796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82520" y="2284560"/>
            <a:ext cx="331488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97400" y="228456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2284560"/>
            <a:ext cx="329220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63520" y="2654280"/>
            <a:ext cx="152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e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63880" y="302580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77320" y="3025800"/>
            <a:ext cx="88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82520" y="2995560"/>
            <a:ext cx="331488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97400" y="299556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19720" y="2995560"/>
            <a:ext cx="329220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63160" y="33796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76960" y="3379680"/>
            <a:ext cx="747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82520" y="3363840"/>
            <a:ext cx="331488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97400" y="3363840"/>
            <a:ext cx="1116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08560" y="3363840"/>
            <a:ext cx="330336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63160" y="372420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78040" y="372420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82520" y="4062240"/>
            <a:ext cx="331488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97400" y="406224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19720" y="4062240"/>
            <a:ext cx="329220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22920" y="5022720"/>
            <a:ext cx="72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86240" y="502272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800" y="5022720"/>
            <a:ext cx="88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4992840"/>
            <a:ext cx="136224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05240" y="4992840"/>
            <a:ext cx="205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25760" y="4992840"/>
            <a:ext cx="16621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87880" y="499284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10200" y="4992840"/>
            <a:ext cx="163656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24000" y="537696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85520" y="537696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67440" y="5376960"/>
            <a:ext cx="747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5359320"/>
            <a:ext cx="136224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05240" y="5359320"/>
            <a:ext cx="1080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16040" y="5359320"/>
            <a:ext cx="167184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87880" y="5359320"/>
            <a:ext cx="1116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99040" y="5359320"/>
            <a:ext cx="164772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23640" y="572148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85520" y="57214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8520" y="572148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6058080"/>
            <a:ext cx="136224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05240" y="6058080"/>
            <a:ext cx="205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25760" y="6058080"/>
            <a:ext cx="16621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87880" y="605808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10200" y="6058080"/>
            <a:ext cx="163656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41800" y="4191120"/>
            <a:ext cx="7674480" cy="782280"/>
            <a:chOff x="541800" y="4191120"/>
            <a:chExt cx="7674480" cy="782280"/>
          </a:xfrm>
        </p:grpSpPr>
        <p:sp>
          <p:nvSpPr>
            <p:cNvPr id="172" name=""/>
            <p:cNvSpPr/>
            <p:nvPr/>
          </p:nvSpPr>
          <p:spPr>
            <a:xfrm>
              <a:off x="541800" y="4191120"/>
              <a:ext cx="7674480" cy="7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mployee         Dependents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ame, SSN, Dna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SN=SSN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Employee 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SN2, Dna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Dependents)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6200000">
              <a:off x="1848600" y="4247280"/>
              <a:ext cx="193680" cy="38556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ural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=                                S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S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752480" y="2133720"/>
          <a:ext cx="2514600" cy="1825560"/>
        </p:xfrm>
        <a:graphic>
          <a:graphicData uri="http://schemas.openxmlformats.org/drawingml/2006/table">
            <a:tbl>
              <a:tblPr/>
              <a:tblGrid>
                <a:gridCol w="1257480"/>
                <a:gridCol w="125712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5410080" y="2133720"/>
          <a:ext cx="2514600" cy="1460520"/>
        </p:xfrm>
        <a:graphic>
          <a:graphicData uri="http://schemas.openxmlformats.org/drawingml/2006/table">
            <a:tbl>
              <a:tblPr/>
              <a:tblGrid>
                <a:gridCol w="1257480"/>
                <a:gridCol w="125712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590920" y="4191120"/>
          <a:ext cx="4495680" cy="2371680"/>
        </p:xfrm>
        <a:graphic>
          <a:graphicData uri="http://schemas.openxmlformats.org/drawingml/2006/table">
            <a:tbl>
              <a:tblPr/>
              <a:tblGrid>
                <a:gridCol w="1498320"/>
                <a:gridCol w="1498680"/>
                <a:gridCol w="14986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ural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the schemas R(A, B, C, D), S(A, C, E), what is the schema of 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R(A, B, C),  S(D, E), what is 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S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R(A, B),  S(A, B),  what is  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S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BMS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es a SQL engine work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quer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ional algebra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algebra pla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ptimized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cute each operator of the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ta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join that involves a pred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   =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any condi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-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heta join w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n 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=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   =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=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SN=SS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pend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useful join in 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1,…,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the attributes in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pend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joins in Distributed Data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joins are used in distributed 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219320" y="3581280"/>
          <a:ext cx="1904760" cy="730080"/>
        </p:xfrm>
        <a:graphic>
          <a:graphicData uri="http://schemas.openxmlformats.org/drawingml/2006/table">
            <a:tbl>
              <a:tblPr/>
              <a:tblGrid>
                <a:gridCol w="952560"/>
                <a:gridCol w="9522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5181480" y="3200400"/>
          <a:ext cx="2857680" cy="73008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  <a:gridCol w="9525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838080" y="2743200"/>
            <a:ext cx="266724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2590920"/>
            <a:ext cx="3886200" cy="1904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91" idx="6"/>
            <a:endCxn id="192" idx="2"/>
          </p:cNvCxnSpPr>
          <p:nvPr/>
        </p:nvCxnSpPr>
        <p:spPr>
          <a:xfrm flipV="1">
            <a:off x="3505320" y="3542760"/>
            <a:ext cx="1296000" cy="22932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1280160" y="293688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28480" y="2556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95120" y="377496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35680" y="4884840"/>
            <a:ext cx="735372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loye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sn=ss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ge&gt;7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endents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055120" y="5638680"/>
            <a:ext cx="39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ge&gt;7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44920" y="5861160"/>
            <a:ext cx="285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Employe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94560" y="6216480"/>
            <a:ext cx="4059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 =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pe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3657600" y="5867280"/>
            <a:ext cx="1295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6248520"/>
            <a:ext cx="1295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x RA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         Purchase          Person    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97080" y="5029200"/>
            <a:ext cx="1647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ame=f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15880" y="5029200"/>
            <a:ext cx="1857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ame=giz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03880" y="4267080"/>
            <a:ext cx="90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p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22800" y="4267080"/>
            <a:ext cx="90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9880" y="3581280"/>
            <a:ext cx="1704600" cy="461160"/>
            <a:chOff x="3809880" y="3581280"/>
            <a:chExt cx="1704600" cy="461160"/>
          </a:xfrm>
        </p:grpSpPr>
        <p:sp>
          <p:nvSpPr>
            <p:cNvPr id="210" name=""/>
            <p:cNvSpPr/>
            <p:nvPr/>
          </p:nvSpPr>
          <p:spPr>
            <a:xfrm rot="16200000">
              <a:off x="3906000" y="3485160"/>
              <a:ext cx="193680" cy="38592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92200" y="3705120"/>
              <a:ext cx="132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ller-ssn=ss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019920" y="2743200"/>
            <a:ext cx="1197720" cy="461160"/>
            <a:chOff x="6019920" y="2743200"/>
            <a:chExt cx="1197720" cy="461160"/>
          </a:xfrm>
        </p:grpSpPr>
        <p:sp>
          <p:nvSpPr>
            <p:cNvPr id="213" name=""/>
            <p:cNvSpPr/>
            <p:nvPr/>
          </p:nvSpPr>
          <p:spPr>
            <a:xfrm rot="16200000">
              <a:off x="6116040" y="2647080"/>
              <a:ext cx="193680" cy="38592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01520" y="2867040"/>
              <a:ext cx="81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id=p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352680" y="2057400"/>
            <a:ext cx="1729080" cy="461160"/>
            <a:chOff x="3352680" y="2057400"/>
            <a:chExt cx="1729080" cy="461160"/>
          </a:xfrm>
        </p:grpSpPr>
        <p:sp>
          <p:nvSpPr>
            <p:cNvPr id="216" name=""/>
            <p:cNvSpPr/>
            <p:nvPr/>
          </p:nvSpPr>
          <p:spPr>
            <a:xfrm rot="16200000">
              <a:off x="3448800" y="1961280"/>
              <a:ext cx="193680" cy="38592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35000" y="2181240"/>
              <a:ext cx="134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uyer-ssn=ss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308760" y="1066680"/>
            <a:ext cx="1110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5627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76201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5627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7620120" y="49525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505320" y="4038480"/>
            <a:ext cx="53316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4038120" y="403812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038480" y="304812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6324480" y="3048120"/>
            <a:ext cx="106704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3733920" y="251424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600200" y="2514240"/>
            <a:ext cx="167652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5053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s on B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set with repeated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perations need to be defined carefully on b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,b,b,c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,b,b,b,e,f,f}={a,a,b,b,b,b,b,c,e,f,f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,b,b,b,c,c} – {b,c,c,c,d} = {a,b,b,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: preserve the number of occur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: no duplicat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tesian product, join: no duplicat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 ! Relational Engines work on bags, not set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85280" y="624852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eading assignment: 5.3 – 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ly: RA has Limitations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not compute “transitive closur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direct and indirect relatives of F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not express in RA !!!  Need to write 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2057400" y="2590920"/>
          <a:ext cx="4876920" cy="1825560"/>
        </p:xfrm>
        <a:graphic>
          <a:graphicData uri="http://schemas.openxmlformats.org/drawingml/2006/table">
            <a:tbl>
              <a:tblPr/>
              <a:tblGrid>
                <a:gridCol w="1625760"/>
                <a:gridCol w="1625400"/>
                <a:gridCol w="16257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ion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s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lism for creating new relations from existing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place in the big pict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51280" y="4422600"/>
            <a:ext cx="14533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lart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88600" y="4788000"/>
            <a:ext cx="1163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01680" y="4788000"/>
            <a:ext cx="2116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7" idx="3"/>
            <a:endCxn id="48" idx="1"/>
          </p:cNvCxnSpPr>
          <p:nvPr/>
        </p:nvCxnSpPr>
        <p:spPr>
          <a:xfrm>
            <a:off x="2610000" y="5017680"/>
            <a:ext cx="157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8" idx="3"/>
            <a:endCxn id="49" idx="1"/>
          </p:cNvCxnSpPr>
          <p:nvPr/>
        </p:nvCxnSpPr>
        <p:spPr>
          <a:xfrm>
            <a:off x="5357880" y="5017680"/>
            <a:ext cx="124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07680" y="5908680"/>
            <a:ext cx="24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calcu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65600" y="5807160"/>
            <a:ext cx="29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bag alg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ve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o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ce: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tesian Product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d or auxiliary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ction, comp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s (natural,equi-join, theta join, semi-jo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ming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Union and 2. Dif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Employe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ired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–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Employees -- Retired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Intersection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derived op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 = R1 – (R1 – R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expressed as a join (will see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onizedEmploye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ired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s all tuples which satisfy a con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alary &gt; 40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ame = “Smith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dition c can be =, &lt;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&gt;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&lt;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78920" y="3505320"/>
            <a:ext cx="3776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alary &gt; 40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514600" y="533520"/>
          <a:ext cx="6019920" cy="2184120"/>
        </p:xfrm>
        <a:graphic>
          <a:graphicData uri="http://schemas.openxmlformats.org/drawingml/2006/table">
            <a:tbl>
              <a:tblPr/>
              <a:tblGrid>
                <a:gridCol w="2006640"/>
                <a:gridCol w="2006640"/>
                <a:gridCol w="2006640"/>
              </a:tblGrid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5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233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523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590920" y="4343400"/>
          <a:ext cx="6019560" cy="1638360"/>
        </p:xfrm>
        <a:graphic>
          <a:graphicData uri="http://schemas.openxmlformats.org/drawingml/2006/table">
            <a:tbl>
              <a:tblPr/>
              <a:tblGrid>
                <a:gridCol w="2006280"/>
                <a:gridCol w="2006640"/>
                <a:gridCol w="200664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233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523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Pro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es columns, then removes dupl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: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1,…,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project social-security number and nam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SN,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mploy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schema:   Answer(SSN, 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01:36:52Z</dcterms:created>
  <dc:creator>Dan Suciu</dc:creator>
  <dc:description/>
  <dc:language>en-US</dc:language>
  <cp:lastModifiedBy>Dan Suciu</cp:lastModifiedBy>
  <dcterms:modified xsi:type="dcterms:W3CDTF">2005-11-21T04:40:03Z</dcterms:modified>
  <cp:revision>17</cp:revision>
  <dc:subject/>
  <dc:title>Relational Algebra</dc:title>
</cp:coreProperties>
</file>