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3D7A-E797-4600-9348-009B03C00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FFDD-9E65-410D-AAB8-48EA0FF66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3F3-90B2-4426-9F8C-7409FBE82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DD9-D04E-4C7E-A439-37E162B9D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5CB-BFF8-4758-9CDB-7AEF4AB8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E1E-50FC-412D-89B2-7C46189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3D7-5851-45C7-B132-935E8780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D55-72C3-422D-83D6-8500F808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449-B00C-4F59-A22D-601A967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652-9436-4191-A054-4099F585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ABB-CD3D-44EB-9DC6-BF81748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8DB-6D7E-43D8-BA68-0FFD5EF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BD2-307B-4653-9574-A877808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E7F-DCC9-4A62-9601-DF1295E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88F-7D21-4486-85A4-A2F9F088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B27-B9F7-4B2C-A3F7-67C7437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0C02-FBE9-4F5A-859E-05052BE26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1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724-4232-4103-9A83-BF217D88EC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244-7ADF-4255-87E7-0F12918113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ECB-6F44-4160-9263-75A910E338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992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816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448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9588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312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336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FE1-15E0-4C38-A56C-5E3C76F6D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1A3-1187-498E-964E-EFD90E65CA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369-5BC0-41A4-A6A4-B4B46BB079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6920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5792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9288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8360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69D-C680-4284-88B7-1EA3AC8219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28E-CBA7-44C4-9196-A056B45857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2460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012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BA9-6A2F-4EB0-BDF2-9949E8A5A0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A2E-F43E-4690-8ED2-D0F3E35273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7524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F4C-2421-45E3-845C-74BF54A219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493-3A9E-4142-806D-082F39AB03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8CD-4745-4300-BA6F-454DE6CC56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83A-834F-46BA-BE2C-F9B8C9C12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87E-9F43-4D46-AA0C-973D3AD9E6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996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E49-28EB-42E7-8697-AB70B21288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195-8601-47D9-BFCA-D613876194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079-E544-4711-AD40-2499DDDC56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996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4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2A2-6582-492F-971D-C7133752D6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660-B856-4391-B1F6-6D686B76B7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996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5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763-0DE2-41F6-BAEE-DDE0CE3088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C7D-3347-45C4-BF83-CAAB6625F4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96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998-BA12-46D3-81DA-EE9CE47057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81F-1AD3-4F93-9069-2687A96D09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483-B448-4298-B293-8EB1874EE9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C3A-4F61-41BF-B75C-062D87AA77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2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37A-93A7-48C6-8760-88694B58A0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9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0F7-773A-4468-8D95-8E7DD87192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1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2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F3A-4A23-4815-B9CB-95DF1D0718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84C-E5E0-442E-9AA3-76161E7F61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= may reorder data according to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= every key in the data appears in th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= the index contains only som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375-5A77-4EE6-BA3A-A40A85D9F8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768-DC8F-4DA1-8B00-99A4BC14C9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9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1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E5A-456A-4D2E-A904-4D891902C9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1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2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3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A08-BF50-4060-802D-9A7E1C03A6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5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711-BA0B-4B97-A15F-D0922223F1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6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8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9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8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5CD-A728-4A2F-BD1A-770E0DC4A4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4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5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6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7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6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C1B-9635-44AE-83F7-1636FED625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1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3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3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4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8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A03-51E2-43FA-9176-A0B8C56BF5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buckets (blocks)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ntries in the hash table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5BA-058A-4789-B103-AFDAAEF3B8E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152-B9D5-49E7-B661-2523C621734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EA0-6D34-40D8-9CCD-13BA976318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6AF-EEC5-4CF6-BCA2-9ECB1E696E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7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9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0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248-53C2-4E30-8B15-261C45EA61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3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4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5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6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7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5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6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8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83E-54B7-4401-A37E-7885A18F9B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FC3-8DF6-4A3B-A196-6E49BBF176F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5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6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7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7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9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0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1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2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8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9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0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025-D3FB-4D76-8F0B-98D99982031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0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2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3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9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1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A95-89C2-479B-A63A-4ED59A7D813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3B5-4356-4E99-B615-D19C230B05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0E9-C7A1-42A4-9571-31CBD380B6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5F3-B631-4276-8FA3-C03B8D9261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C54-CF53-418D-8C68-DD4C19A4B4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1-18T04:17:36Z</dcterms:modified>
  <cp:revision>297</cp:revision>
  <dc:subject/>
  <dc:title>Lecture 09:</dc:title>
</cp:coreProperties>
</file>