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851DAE4-84AD-4B7C-8321-C5B5E91CB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stamp of U is given by WT(X) or by RT(X) respec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6A6-85E5-429C-A85B-FF53DC15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C14-D941-42DA-B214-AE41FA5D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205-185D-4E69-B5C3-62B47BAB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9E9-9FE6-47EB-8B84-C2E4882D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B6B-C0FA-43B4-BE16-C4F9C6CE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7A6-5DD3-40E1-B98B-014F7ADF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A73-C1C7-479D-B33E-AF678FC6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D9E-04E7-4EB9-B3B2-85756F2E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E67-6432-42AD-873B-7B4EEDAA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077-5FE4-4406-BDC7-5AB7C76E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6AB-3196-44B3-92EF-37340DE7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DD5-CF13-4B46-B404-5581E87A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70A2-4966-4E1D-867B-0F101856B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1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557-96E8-45CE-8ABF-FFE68310FE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WT(X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6360" y="4191120"/>
            <a:ext cx="883116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U) … START(T) 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8640" y="571500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334-19D8-4EB6-BCC3-8DC46C19BC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 not to write at all, bu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" y="4191120"/>
            <a:ext cx="896832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T) … START(U) 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586728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625-B4EE-459A-A365-417233DD0C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nsaction T requests r(X) or w(X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examines RT(X), WT(X), C(X), and decides one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rant the request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ollback T (and restart with later timesta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lay T until C(X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603-59B2-432B-BA45-B9AEEBD1D4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4 long rules in the textbook, on page 9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be able to understand them, or even derive them yourself, based on the previous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understand them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60880" y="6019920"/>
            <a:ext cx="5229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: 18.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2C4-093E-4DFA-B2A3-7C6B707542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version Timest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nsaction T requests r(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T(X) &gt; TS(T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 must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keep multiple versions of X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 read an older version, with appropriate timest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09760" y="4267080"/>
            <a:ext cx="569916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B5D-EA58-4EB9-A1F6-160CABBBB2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 create a new version, denoted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t = T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, find a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t &lt; TS(T) and t is the largest su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T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t and it never ch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D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ust also be maintained, to reject certain writes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an we delet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we have a later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ll active transactions T have TS(T) &gt; t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192-C6FE-4A5C-8C03-F45D38D892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when there are many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when there are few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when there are many conflicts (rollba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when there are few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ONLY transac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/WRITE transac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637-F232-462D-9794-B27DE89420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 by 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ansaction T defines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ad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S(T) and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rit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ansaction proceeds in three ph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all elements in RS(T).  Time = 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 (may need to rollback).  Time = VAL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ll elements in WS(T). Time = FIN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9440" y="5562720"/>
            <a:ext cx="7168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invariant: the serialization order is VAL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31D-AF9C-4E87-BD1A-60FC0C0A28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2819520"/>
          <a:ext cx="632448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63836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612360" y="19810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9960" y="1905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9640" y="190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2"/>
          </p:cNvCxnSpPr>
          <p:nvPr/>
        </p:nvCxnSpPr>
        <p:spPr>
          <a:xfrm flipH="1">
            <a:off x="1390320" y="2437920"/>
            <a:ext cx="720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7" idx="2"/>
          </p:cNvCxnSpPr>
          <p:nvPr/>
        </p:nvCxnSpPr>
        <p:spPr>
          <a:xfrm>
            <a:off x="4884480" y="236232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2"/>
          </p:cNvCxnSpPr>
          <p:nvPr/>
        </p:nvCxnSpPr>
        <p:spPr>
          <a:xfrm flipH="1">
            <a:off x="7009560" y="2362320"/>
            <a:ext cx="183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12" name=""/>
          <p:cNvGraphicFramePr/>
          <p:nvPr/>
        </p:nvGraphicFramePr>
        <p:xfrm>
          <a:off x="3524400" y="3733920"/>
          <a:ext cx="45529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924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4502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0"/>
          </p:cNvCxnSpPr>
          <p:nvPr/>
        </p:nvCxnSpPr>
        <p:spPr>
          <a:xfrm flipV="1">
            <a:off x="42177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33160" y="5181480"/>
            <a:ext cx="773208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R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START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beg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/>
          <p:nvPr/>
        </p:nvCxnSpPr>
        <p:spPr>
          <a:xfrm flipH="1">
            <a:off x="5190840" y="3336480"/>
            <a:ext cx="79128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587088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E5F-5203-43F7-B754-1F45C66DD4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2971800"/>
          <a:ext cx="6324480" cy="51768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63836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55160" y="21337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12760" y="20574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22440" y="2057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0" idx="2"/>
          </p:cNvCxnSpPr>
          <p:nvPr/>
        </p:nvCxnSpPr>
        <p:spPr>
          <a:xfrm flipH="1">
            <a:off x="933120" y="2590920"/>
            <a:ext cx="720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1" idx="2"/>
          </p:cNvCxnSpPr>
          <p:nvPr/>
        </p:nvCxnSpPr>
        <p:spPr>
          <a:xfrm>
            <a:off x="4427280" y="251460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2"/>
          </p:cNvCxnSpPr>
          <p:nvPr/>
        </p:nvCxnSpPr>
        <p:spPr>
          <a:xfrm flipH="1">
            <a:off x="6552360" y="2514600"/>
            <a:ext cx="183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6" name=""/>
          <p:cNvGraphicFramePr/>
          <p:nvPr/>
        </p:nvGraphicFramePr>
        <p:xfrm>
          <a:off x="1600200" y="3733920"/>
          <a:ext cx="67057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4200"/>
                <a:gridCol w="1923840"/>
                <a:gridCol w="2152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15260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83960" y="48006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</p:cNvCxnSpPr>
          <p:nvPr/>
        </p:nvCxnSpPr>
        <p:spPr>
          <a:xfrm flipV="1">
            <a:off x="22935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0"/>
          </p:cNvCxnSpPr>
          <p:nvPr/>
        </p:nvCxnSpPr>
        <p:spPr>
          <a:xfrm flipH="1" flipV="1">
            <a:off x="6152400" y="4250880"/>
            <a:ext cx="2916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530640" y="5283360"/>
            <a:ext cx="807336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W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VAL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valid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792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5524560" y="3489120"/>
            <a:ext cx="17056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A80-FA16-4C7A-A3EB-0CFCDA11F4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timestamps 18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validation 18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8CB-08DB-45D2-9917-41A09C2A1A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and timestamps: SQL Server, D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: 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6520" y="510552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re or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58B-CA05-4B28-A126-101C33C039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ransaction receives a unique timestam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’s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que counter, incremented by the sched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E3A-60D6-4882-81D4-BA580AE3F3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8160" y="4038480"/>
            <a:ext cx="69534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mestamp order def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arialization order of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89640" y="2590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nvari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670-D881-405D-8B1A-7807CF5E03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 to each element 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(X) = the highest timestamp of any transaction that rea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= the highest timestamp of any transaction that wrote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X) = the commit bit: says if the transaction with highest timestamp that wrote X com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35800" y="6095880"/>
            <a:ext cx="67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associated to each page X in the buffer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072-0C1F-44E2-83DA-B750A4326B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two conflicting actions, ensure that their order is the serialized 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of thes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hat TS(U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2240" y="5638680"/>
            <a:ext cx="7323840" cy="113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 wants to read X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, how do w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U, and TS(U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79720" y="2344320"/>
            <a:ext cx="1809000" cy="1172520"/>
          </a:xfrm>
          <a:prstGeom prst="wedgeEllipseCallout">
            <a:avLst>
              <a:gd name="adj1" fmla="val -145541"/>
              <a:gd name="adj2" fmla="val 3179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72840" y="3106440"/>
            <a:ext cx="1908720" cy="1172520"/>
          </a:xfrm>
          <a:prstGeom prst="wedgeEllipseCallout">
            <a:avLst>
              <a:gd name="adj1" fmla="val -205458"/>
              <a:gd name="adj2" fmla="val 2099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12160" y="4325400"/>
            <a:ext cx="2339280" cy="1172520"/>
          </a:xfrm>
          <a:prstGeom prst="wedgeEllipseCallout">
            <a:avLst>
              <a:gd name="adj1" fmla="val -139597"/>
              <a:gd name="adj2" fmla="val -2897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F6C-4B46-4CFA-923E-862A9265F4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TS(T) &lt; W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1520" y="3886200"/>
            <a:ext cx="76518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2920" y="579132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F95-ABDA-4209-99A8-36E7B73E29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&lt; TS(T) &lt; R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1880" y="3886200"/>
            <a:ext cx="765144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86960" y="495288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1920" y="6019920"/>
            <a:ext cx="51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we check WT(X) &lt; TS(T) 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9DE-68B1-44F3-8628-275478FE13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, but we can still handl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 &lt; RT(X)  but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1880" y="3886200"/>
            <a:ext cx="78102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V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88040" y="5334120"/>
            <a:ext cx="360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write X at al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ut see later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958-5D2F-4F2F-9A39-3B805EA78F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1-14T05:00:31Z</dcterms:modified>
  <cp:revision>336</cp:revision>
  <dc:subject/>
  <dc:title>Lecture 09:</dc:title>
</cp:coreProperties>
</file>