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5B09-68BB-41A7-9DCF-2ADC3D7AC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D126-AD4D-42EF-989A-4C0DC0F0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60CD-77F2-4F3F-9E85-21D38D303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C256-10FB-4DEA-93D2-3AC32C25D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FC56-7083-4083-B7B2-1020FD5B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0AFC-570B-46B1-9EDE-6362A0C2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0C13-77F3-4E9E-A250-AFDD6D07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A9CD-D87F-4AC7-8F80-6F0A31B0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71D5-25BD-4DA4-AB1F-DC306EAF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2FBE-C932-47B0-8F86-33184BB2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8D59-9E29-4C86-916A-F6E3044F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C21F-2DBB-4393-B57C-09BAA2E9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19DE-3701-4654-8AFF-86C86517D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8: Concurrency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November 9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DD5A-D762-4A97-B5F8-DFE6A69EE12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ial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971800" y="1752480"/>
          <a:ext cx="2666880" cy="394164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F9D2-44F0-4973-8247-B79218868D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ializable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chedule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erializ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 is equivalent to a serial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B841-6262-494F-B2B9-4118A83656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ializable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971800" y="1752480"/>
          <a:ext cx="2666880" cy="394200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531360" y="6095880"/>
            <a:ext cx="46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: this is NOT a serial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8DEF-12E0-4402-904B-553B06F40D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on-Serializable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971800" y="1752480"/>
          <a:ext cx="2666880" cy="394200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A9A4-4BDE-4E5C-93B8-1697999681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gnoring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transactions’ actions may commute accidentally because of specific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ializability is undecidable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heduler shouldn’t look at the transactions’ deta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worst case updates, only care about reads r(A) and writes w(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E15B-E87D-414E-9A32-12D9D1BC8B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55880" y="2590920"/>
            <a:ext cx="4350960" cy="95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E7D1-7088-4729-A168-32FB1DA1D8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lict Serializ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981080"/>
            <a:ext cx="17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lic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64000" y="2905200"/>
            <a:ext cx="1846800" cy="48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1280" y="2819520"/>
            <a:ext cx="5822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actions by the same transaction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64360" y="4191120"/>
            <a:ext cx="1983960" cy="48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8120" y="4114800"/>
            <a:ext cx="5964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writes b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the same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64000" y="5334120"/>
            <a:ext cx="1846800" cy="48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8480" y="5334120"/>
            <a:ext cx="598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and write b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same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64000" y="6019920"/>
            <a:ext cx="1846800" cy="48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3F69-EE34-4144-89BD-F7F0D29927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lict Serializ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chedule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flict serializ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 can be transformed into a serial schedule by a series of swappings of adjacent non-conflicting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0000" y="410544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480" y="6019920"/>
            <a:ext cx="7693200" cy="48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480" y="4648320"/>
            <a:ext cx="7693200" cy="48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19720" y="54100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0850-C7A4-4113-9AB5-5187F9E7C9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lict Serializ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conflict serializable schedule is also a serializable schedule  (why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verse is not true, even under the “worst case update” assum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12720" y="6172200"/>
            <a:ext cx="5297760" cy="48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Y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Y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36400" y="4952880"/>
            <a:ext cx="5297760" cy="48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Y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Y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56386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038480" y="571464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510320" y="4020840"/>
            <a:ext cx="1148400" cy="1172520"/>
          </a:xfrm>
          <a:prstGeom prst="wedgeEllipseCallout">
            <a:avLst>
              <a:gd name="adj1" fmla="val -155606"/>
              <a:gd name="adj2" fmla="val 3305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200" y="5883120"/>
            <a:ext cx="196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can’t sw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FD0E-6A5A-47F9-99B3-270218AA62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ecedence Graph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schedule conflict-serializabl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te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 a graph of all transactions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from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an action that conflicts with one of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comes f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st: if the graph has no cycles, then it is conflict serializable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5167-2EA7-4BDC-9ACD-B6CBEE8064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 and Serializable Schedules (18.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lict Serializability (18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ks (18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lock modes (18.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ee protocol (18.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E938-5596-40BF-8341-10D30FA0FA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560" y="2743200"/>
            <a:ext cx="7693200" cy="48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6272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3" idx="6"/>
            <a:endCxn id="104" idx="2"/>
          </p:cNvCxnSpPr>
          <p:nvPr/>
        </p:nvCxnSpPr>
        <p:spPr>
          <a:xfrm>
            <a:off x="2590920" y="4723920"/>
            <a:ext cx="121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4" idx="6"/>
            <a:endCxn id="105" idx="2"/>
          </p:cNvCxnSpPr>
          <p:nvPr/>
        </p:nvCxnSpPr>
        <p:spPr>
          <a:xfrm>
            <a:off x="4266720" y="4723920"/>
            <a:ext cx="129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1900080" y="5638680"/>
            <a:ext cx="46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chedule is conflict-serializ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10600" y="4232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57760" y="4189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A3DE-B0C2-4841-A9BC-712B712690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480" y="2743200"/>
            <a:ext cx="7693200" cy="48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6"/>
            <a:endCxn id="114" idx="2"/>
          </p:cNvCxnSpPr>
          <p:nvPr/>
        </p:nvCxnSpPr>
        <p:spPr>
          <a:xfrm>
            <a:off x="2590920" y="4723920"/>
            <a:ext cx="121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4" idx="6"/>
            <a:endCxn id="115" idx="2"/>
          </p:cNvCxnSpPr>
          <p:nvPr/>
        </p:nvCxnSpPr>
        <p:spPr>
          <a:xfrm>
            <a:off x="4266720" y="4723920"/>
            <a:ext cx="129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1901160" y="5638680"/>
            <a:ext cx="53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chedule is NOT conflict-serializ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14" idx="1"/>
            <a:endCxn id="113" idx="7"/>
          </p:cNvCxnSpPr>
          <p:nvPr/>
        </p:nvCxnSpPr>
        <p:spPr>
          <a:xfrm rot="5400000">
            <a:off x="3198960" y="3886920"/>
            <a:ext cx="2160" cy="1353600"/>
          </a:xfrm>
          <a:prstGeom prst="curvedConnector5">
            <a:avLst>
              <a:gd name="adj1" fmla="val -18600000"/>
              <a:gd name="adj2" fmla="val 49986"/>
              <a:gd name="adj3" fmla="val -18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736160" y="4206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67200" y="4579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02120" y="3833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F5CF-8C2F-4D39-B178-11DF15A62A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heduler is the module that schedules the transaction’s actions, ensuring serializ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?  Three techniq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sta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86D0-AF0E-449F-BED6-3763EA840B6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ing Schedu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element has a unique 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ransaction must first acquire the lock before reading/writing that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lock is taken by another transaction, then wa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ansaction must release the lock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AEC0-566F-4F6F-8CF6-696E3CE4B7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5640" y="2895480"/>
            <a:ext cx="817704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 = transaction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quires lock for element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 = transaction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eases lock for element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6D58-F74B-4CDA-AD26-A5AF298C8E4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52480" y="1752480"/>
          <a:ext cx="4724640" cy="4245120"/>
        </p:xfrm>
        <a:graphic>
          <a:graphicData uri="http://schemas.openxmlformats.org/drawingml/2006/table">
            <a:tbl>
              <a:tblPr/>
              <a:tblGrid>
                <a:gridCol w="2362320"/>
                <a:gridCol w="236232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READ(A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READ(A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NIED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NTED;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527400" y="6095880"/>
            <a:ext cx="72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r has ensured a conflict-serializable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DBD7-6002-457B-BE87-2E0A33726C1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219320" y="1752480"/>
          <a:ext cx="5638680" cy="3942000"/>
        </p:xfrm>
        <a:graphic>
          <a:graphicData uri="http://schemas.openxmlformats.org/drawingml/2006/table">
            <a:tbl>
              <a:tblPr/>
              <a:tblGrid>
                <a:gridCol w="2819160"/>
                <a:gridCol w="281952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READ(A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READ(A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READ(B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READ(B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519480" y="6035760"/>
            <a:ext cx="60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s did not enforce conflict-serializability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43D1-831C-4A6C-9716-A41996806C1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Phase Locking (2P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2PL 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every transaction, all lock requests must preceed all unlock requ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ensures conflict serializability !  (why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3F3D-6EA3-44F2-A293-996647A3B7A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2PL transactc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752480" y="1752480"/>
          <a:ext cx="5028840" cy="4245120"/>
        </p:xfrm>
        <a:graphic>
          <a:graphicData uri="http://schemas.openxmlformats.org/drawingml/2006/table">
            <a:tbl>
              <a:tblPr/>
              <a:tblGrid>
                <a:gridCol w="2514240"/>
                <a:gridCol w="25146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READ(A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READ(A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NIED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NTED;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U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529920" y="609588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it is conflict-serializ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771F-E70E-4980-B402-1DB3C957BF9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dlo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saction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its for a lock held b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its for a lock held b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le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its for .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and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7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its for a lock held b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be avoided, by ordering all elements (see book); or deadlock detection plus roll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A7FF-6C6D-4C86-8541-86C312915AD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transactions are running concurrentl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read/write some common elem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we prevent unwanted interferenc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HEDULER is responsible for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2D2E-ABD8-4ECF-A193-B94C5416EB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 M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= Shared lock (for RE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= exclusive lock (for WRI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= update 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ly like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r may be upgraded to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= increment lock (for A := A + somet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ment operations comm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CHAPTER 18.4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5A53-ACB1-4552-8168-FDECCCAED06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cking Schedu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s 1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lock/unlock requests to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ine all READ(A) or WRITE(A)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appropriate lock requ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sure 2PL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15C3-5ED7-428D-A400-5ACE06D247C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cking Schedu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 2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 the locks according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 table: a big, critical data structure in a DBM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lock is requested, check the lock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t, or add the transaction to the element’s wait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lock is released, re-activate a transaction from its wait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transaction aborts, release all its 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for deadlocks occasio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3814-BEB4-4FAB-93AA-408FC125313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ree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lternative to 2PL, for tree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B-trees (the indexes of choice in databas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CED1-DF53-4D73-8CF4-5151E543A20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ree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lock may be any node of the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equently, a lock on a node A may only be acquired if the transaction holds a lock on its paren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can be unlocked in any order (no 2PL necessa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ree protocol is NOT 2PL, yet ensures conflict-serializability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6437-E589-4BA0-BABE-AF255B4404E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e Famous Anoma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an go wrong if we didn’t have concurrency contro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ty re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t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nsistent re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2000" y="5791320"/>
            <a:ext cx="77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Many other things may go wrong, but have no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59CB-3571-431E-B29C-B55F8F7B7B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ty Re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2360" y="3086280"/>
            <a:ext cx="3143520" cy="231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WRITE(A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AB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93120" y="3162240"/>
            <a:ext cx="2827800" cy="225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READ(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A68A-5BF3-4944-BB8B-CDB0A9B7AC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t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59560" y="2514600"/>
            <a:ext cx="3029040" cy="348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READ(A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A := A+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WRITE(A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65960" y="2590920"/>
            <a:ext cx="3041280" cy="359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READ(A)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A := A*1.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WRITE(A)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9434-846B-4629-B566-3C254FD89F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onsistent R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7280" y="2367000"/>
            <a:ext cx="4204080" cy="292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A := 20;  B := 20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WRITE(A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WRITE(B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69800" y="2362320"/>
            <a:ext cx="3042720" cy="297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READ(A)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READ(B)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9106-0BC8-43E9-ACF8-6C580FFB5D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multipl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chedu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equence of interleaved actions from all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6348-807E-4F85-A250-DDC07472C9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362320" y="2057400"/>
          <a:ext cx="3504960" cy="2766960"/>
        </p:xfrm>
        <a:graphic>
          <a:graphicData uri="http://schemas.openxmlformats.org/drawingml/2006/table">
            <a:tbl>
              <a:tblPr/>
              <a:tblGrid>
                <a:gridCol w="1752480"/>
                <a:gridCol w="17524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 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 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0DF4-C32B-4120-801B-CEB23DF132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5-11-06T22:36:51Z</dcterms:modified>
  <cp:revision>354</cp:revision>
  <dc:subject/>
  <dc:title>Lecture 09:</dc:title>
</cp:coreProperties>
</file>