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E22E-49D1-485A-9A32-18E35B19C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we UNDO the changes, writing back A=8, and B=8.  The transaction is atomic: none of its actions was execu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we don’t need to do any recovery actions.  The transaction is still atomic: both actions have been execu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ecause if the system crashes before it writes &lt;END CKPT&gt; then we cannot use the checkpoint.  We use &lt;END CKPT&gt; to ensure that the system didn’t crash and the checkpoint termin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3BD8-18E9-46AB-AC4C-68D6F1447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CBC5-B556-45AD-A17B-43899A96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CB80-CBA7-4108-9FAD-B1E526CAE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5A8F-8DA9-4370-85ED-B09532613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4F09-EB52-48DA-9E85-FFC85BEE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B6BF-D09E-4C72-8989-A7242A9A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C423-9731-4197-877C-4840C559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A8AE-D535-4E5C-8A63-8DC303BF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B8BD-8666-47B1-94AC-0EF4180F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D20E-EB88-424F-A439-069259B7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7914-7774-4D4B-89BF-F255AE33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9DA7-5431-42B9-A22E-1333D556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AD1D-DC67-4F54-B059-079DA5022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November 4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EECA-E14B-4574-895F-472D612F55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ppend-only file containing log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multiple transactions run concurrently, log records are interlea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a system crash, use log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o some transaction that didn’t com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o other transactions that didn’t com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kinds of logs: undo, redo, undo/re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85C8-AA31-4160-9B7C-BB104619B8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 Lo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TART T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action T has beg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OMMIT T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has commi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ABORT 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has ab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T,X,v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has updated element X, and its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lue was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2F9A-1313-4254-84C6-5A71D60286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457200"/>
          <a:ext cx="8534520" cy="58611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0072-5FEE-40C8-919A-B0C8D86701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380880" y="457200"/>
          <a:ext cx="8534520" cy="58611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6595560" y="4848840"/>
            <a:ext cx="2639880" cy="1137960"/>
          </a:xfrm>
          <a:prstGeom prst="irregularSeal2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78080" y="631836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WE D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C551-C5CC-4C91-AE18-FF79135E61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380880" y="228600"/>
          <a:ext cx="8534520" cy="58611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6614640" y="5748480"/>
            <a:ext cx="2639880" cy="1138680"/>
          </a:xfrm>
          <a:prstGeom prst="irregularSeal2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78080" y="631836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WE D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1803-D9D9-4459-8072-6D227C51C8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Cra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first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UNDO both changes: A=8, B=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ransaction is atomic, since none of its actions has been exec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second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don’t undo any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ransaction is atomic, since both it’s actions have been exec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5428-7E97-4C0B-92C1-70E888F448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-Logg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: If T modifies X, then &lt;T,X,v&gt; must be written to disk before OUTPU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2: If T commits, then OUTPUT(X) must be written to disk before &lt;COMMIT 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e: OUTPUTs are don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ar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efore the transaction comm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D43D-1846-4C3A-BCB3-7C4148DEEB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380880" y="457200"/>
          <a:ext cx="8534520" cy="58611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1" name=""/>
          <p:cNvGrpSpPr/>
          <p:nvPr/>
        </p:nvGrpSpPr>
        <p:grpSpPr>
          <a:xfrm>
            <a:off x="380880" y="2624040"/>
            <a:ext cx="8382240" cy="2862360"/>
            <a:chOff x="380880" y="2624040"/>
            <a:chExt cx="8382240" cy="2862360"/>
          </a:xfrm>
        </p:grpSpPr>
        <p:sp>
          <p:nvSpPr>
            <p:cNvPr id="92" name=""/>
            <p:cNvSpPr/>
            <p:nvPr/>
          </p:nvSpPr>
          <p:spPr>
            <a:xfrm>
              <a:off x="380880" y="4952880"/>
              <a:ext cx="13716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391520" y="2624040"/>
              <a:ext cx="1371600" cy="619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4" name=""/>
            <p:cNvCxnSpPr>
              <a:stCxn id="93" idx="2"/>
              <a:endCxn id="92" idx="7"/>
            </p:cNvCxnSpPr>
            <p:nvPr/>
          </p:nvCxnSpPr>
          <p:spPr>
            <a:xfrm flipH="1">
              <a:off x="1550520" y="2933280"/>
              <a:ext cx="5841360" cy="2097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5" name=""/>
          <p:cNvGrpSpPr/>
          <p:nvPr/>
        </p:nvGrpSpPr>
        <p:grpSpPr>
          <a:xfrm>
            <a:off x="457200" y="4452840"/>
            <a:ext cx="8305920" cy="1490760"/>
            <a:chOff x="457200" y="4452840"/>
            <a:chExt cx="8305920" cy="1490760"/>
          </a:xfrm>
        </p:grpSpPr>
        <p:sp>
          <p:nvSpPr>
            <p:cNvPr id="96" name=""/>
            <p:cNvSpPr/>
            <p:nvPr/>
          </p:nvSpPr>
          <p:spPr>
            <a:xfrm>
              <a:off x="7391520" y="4452840"/>
              <a:ext cx="1371600" cy="619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5410080"/>
              <a:ext cx="13716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8" name=""/>
            <p:cNvCxnSpPr>
              <a:stCxn id="96" idx="2"/>
              <a:endCxn id="97" idx="6"/>
            </p:cNvCxnSpPr>
            <p:nvPr/>
          </p:nvCxnSpPr>
          <p:spPr>
            <a:xfrm flipH="1">
              <a:off x="1828440" y="4762440"/>
              <a:ext cx="5563440" cy="91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9" name=""/>
          <p:cNvGrpSpPr/>
          <p:nvPr/>
        </p:nvGrpSpPr>
        <p:grpSpPr>
          <a:xfrm>
            <a:off x="1627200" y="5781600"/>
            <a:ext cx="7059600" cy="619200"/>
            <a:chOff x="1627200" y="5781600"/>
            <a:chExt cx="7059600" cy="619200"/>
          </a:xfrm>
        </p:grpSpPr>
        <p:sp>
          <p:nvSpPr>
            <p:cNvPr id="100" name=""/>
            <p:cNvSpPr/>
            <p:nvPr/>
          </p:nvSpPr>
          <p:spPr>
            <a:xfrm>
              <a:off x="7315200" y="5781600"/>
              <a:ext cx="1371600" cy="619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1" name=""/>
            <p:cNvCxnSpPr>
              <a:stCxn id="97" idx="5"/>
              <a:endCxn id="100" idx="2"/>
            </p:cNvCxnSpPr>
            <p:nvPr/>
          </p:nvCxnSpPr>
          <p:spPr>
            <a:xfrm>
              <a:off x="1627200" y="5865840"/>
              <a:ext cx="5688720" cy="226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029E-D14B-40F1-BED8-987598BB2E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system’s crash, run recovery manag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1. Decide for each transaction T whether it is completed or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COMMIT T&gt;…. 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ABORT T&gt;…….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……………………   =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2. Undo all modifications by incomplet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A419-0470-4B3F-9216-85235DC4C2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very manag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lo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om the 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ca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OMMIT T&gt;:  mark T as comp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ABORT T&gt;: mark T as comp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T,X,v&gt;: if T is not complet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write X=v to dis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else ign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TART T&gt;: ign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FF39-A842-4220-9D5F-DEE6DAA10E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y using undo logging 17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o logging 17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o/undo 17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E0AC-F66F-4D52-99A8-AF32E65C92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7720" y="1905120"/>
            <a:ext cx="1690920" cy="366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6,X6,v6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5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4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X2,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828800" y="28195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27040" y="1946160"/>
            <a:ext cx="2581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1 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updates 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on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 2 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far bac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we need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in the lo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5334120"/>
            <a:ext cx="914400" cy="612720"/>
          </a:xfrm>
          <a:prstGeom prst="wedgeEllipseCallout">
            <a:avLst>
              <a:gd name="adj1" fmla="val 154166"/>
              <a:gd name="adj2" fmla="val -414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5BDA-6441-4E9F-9C48-FB5BC1BA77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all undo commands 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dempo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perform them a second time, no harm is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if there is a system crash during recovery, simply restart recovery from scr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2803-DD7A-413A-A911-026508AB4A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do we stop reading the log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not stop until we reach the beginning of the log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im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: use checkpoi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85DE-2760-4FB6-85E1-929A464955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point the database period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p accepting new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it until all current transactions 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sh log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&lt;CKPT&gt; log record, fl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m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0072-79B5-45A0-98BA-26F13F128A3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 Recovery with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6680" y="1905120"/>
            <a:ext cx="1690920" cy="47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9,X9,v9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ll comple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CKP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5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4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X2,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6280" y="2708280"/>
            <a:ext cx="226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recover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top at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K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200400" y="3886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72200" y="3886200"/>
            <a:ext cx="152280" cy="2666880"/>
          </a:xfrm>
          <a:custGeom>
            <a:avLst/>
            <a:gdLst>
              <a:gd name="textAreaLeft" fmla="*/ 0 w 152280"/>
              <a:gd name="textAreaRight" fmla="*/ 55080 w 15228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actions T2,T3,T4,T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198108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D619-EE26-46C1-8728-CD91C5D2981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with checkpointing: database freezes during check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uld like to checkpoint while database is oper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: nonquiescent checkpoi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92440" y="5603760"/>
            <a:ext cx="65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escent = being quiet, still, or at rest; in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quiescent = allowing transactions to be 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9911-3C4A-4805-8C8E-6BD23E1C666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&lt;START CKPT(T1,…,Tk)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T1,…,Tk are all activ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normal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ll of T1,…,Tk have completed, write &lt;END CKP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C6BB-99F0-4B86-A44C-4167742E473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 Recovery with 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1905120"/>
            <a:ext cx="2667240" cy="47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CKPT T4, T5, T6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END CKP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6280" y="2708280"/>
            <a:ext cx="226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recover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top at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K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200400" y="3886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3733920"/>
            <a:ext cx="76320" cy="1066680"/>
          </a:xfrm>
          <a:custGeom>
            <a:avLst/>
            <a:gdLst>
              <a:gd name="textAreaLeft" fmla="*/ 0 w 76320"/>
              <a:gd name="textAreaRight" fmla="*/ 2736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4, T5, T6, p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er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5880" y="198108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rlier transactions p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4, T5, T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72200" y="5029200"/>
            <a:ext cx="76320" cy="1523880"/>
          </a:xfrm>
          <a:custGeom>
            <a:avLst/>
            <a:gdLst>
              <a:gd name="textAreaLeft" fmla="*/ 0 w 76320"/>
              <a:gd name="textAreaRight" fmla="*/ 27360 w 763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er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8760" y="5791320"/>
            <a:ext cx="26269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Q: why do we ne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&lt;END CKPT&gt;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2CB2-4B60-4D54-98AC-2BEFE6C550A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o Lo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START T&gt; = transaction T has beg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COMMIT T&gt; = T has commit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ABORT T&gt;= T has abo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T,X,v&gt;= T has updated element X, and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 is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6F79-4D91-432B-93C8-384ED0D1404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28600" y="914400"/>
          <a:ext cx="8534520" cy="49593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487B-43C7-4166-AE85-73C28ECEE44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828800" y="1371600"/>
          <a:ext cx="6095880" cy="50799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 of Cras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ven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ong data 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aints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cl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cras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undancy: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.g. RAID, arch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e, theft, bankruptcy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y insurance,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nge jobs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 failures: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.g. pow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DATABAS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RECOV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193320" y="5392440"/>
            <a:ext cx="1702800" cy="1172520"/>
          </a:xfrm>
          <a:prstGeom prst="wedgeEllipseCallout">
            <a:avLst>
              <a:gd name="adj1" fmla="val 56824"/>
              <a:gd name="adj2" fmla="val 2381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7D73-FEB0-4CE0-BDFE-52FA809D85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o-Logg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: If T modifies X, then both &lt;T,X,v&gt; and &lt;COMMIT T&gt; must be written to disk before OUTPU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e: OUTPUTs are don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92A8-63DE-4DF9-B634-57B3DF14097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228600" y="914400"/>
          <a:ext cx="8534520" cy="49593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380880" y="4952880"/>
            <a:ext cx="13716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62920" y="4419720"/>
            <a:ext cx="1371600" cy="61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3" idx="2"/>
            <a:endCxn id="142" idx="7"/>
          </p:cNvCxnSpPr>
          <p:nvPr/>
        </p:nvCxnSpPr>
        <p:spPr>
          <a:xfrm flipH="1">
            <a:off x="1550520" y="4728960"/>
            <a:ext cx="5612400" cy="30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304920" y="5410080"/>
            <a:ext cx="13716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3" idx="3"/>
            <a:endCxn id="145" idx="6"/>
          </p:cNvCxnSpPr>
          <p:nvPr/>
        </p:nvCxnSpPr>
        <p:spPr>
          <a:xfrm flipH="1">
            <a:off x="1676160" y="4948200"/>
            <a:ext cx="5688720" cy="72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9663-D13C-48E3-91B2-FEE98C2EAD5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Re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system’s crash, run recovery manag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Decide for each transaction T whether it is completed or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COMMIT T&gt;…. 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ABORT T&gt;……. 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……………………   =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Read log from the beginning, redo all updates of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mit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5594-4C75-4508-9945-A46CE393629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Re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7200" y="1905120"/>
            <a:ext cx="169092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 X2, 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438280" y="190512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E4E4-877C-4C55-9B54-FFA85AC04D0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&lt;START CKPT(T1,…,Tk)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T1,…,Tk are all activ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sh to disk all blocks of committed transaction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rty bloc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ile continuing normal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ll blocks have been written, write &lt;END CKP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2EE8-898D-4066-B41F-1C650BF99CC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o Recovery with 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52680" y="1905120"/>
            <a:ext cx="2667240" cy="47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T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COMMIT T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T4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CKPT T4, T5, T6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END CKP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CKPT T9, T10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6280" y="2708280"/>
            <a:ext cx="208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END CK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200400" y="3886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18840" y="2556000"/>
            <a:ext cx="165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r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i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4, T5, T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n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32004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2480" y="4633920"/>
            <a:ext cx="2038320" cy="916920"/>
          </a:xfrm>
          <a:prstGeom prst="borderCallout1">
            <a:avLst>
              <a:gd name="adj1" fmla="val 18750"/>
              <a:gd name="adj2" fmla="val -8333"/>
              <a:gd name="adj3" fmla="val 8986"/>
              <a:gd name="adj4" fmla="val 1501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OUTPU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1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n to be on 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8096-42F2-4E55-985C-4962ED8F211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son Undo/Re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o log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must be done ea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&lt;COMMIT T&gt; is seen, T definitely has written all its data to disk (hence, don’t need to redo) – ine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o lo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must be done 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&lt;COMMIT T&gt; is not seen, T definitely has not written any of its data to disk (hence there is not dirty data on disk, no need to undo) – inflex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like more flexibility on when to OUTPUT: undo/redo logging (ne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117A-F421-412A-9F2B-A09DAEB6931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/Redo Lo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 records, only one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T,X,u,v&gt;= T has updated element X,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 was u, and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 is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0277-F1AB-4721-A1D1-C36FC087364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/Redo-Logging 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1: If T modifies X, then &lt;T,X,u,v&gt; must be written to disk before OUTPU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we are free to OUTPUT early or late relative to &lt;COMMIT 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051A-33A3-4940-A351-EFCB6EF8E15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28600" y="914400"/>
          <a:ext cx="8534520" cy="49593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T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8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8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1066680" y="6172200"/>
            <a:ext cx="72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OUTPUT whenever we want: before/after 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F3EF-71A5-4B53-83FC-C47CDF42B6E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Fail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ransaction h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ernal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system crashes, internal state is l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know which parts executed and which did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dy: use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le that records every single action of the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B9E2-0D29-4F7C-BFBB-7526B3463A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/Re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ystem’s crash, run recovery mana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o all committed transaction, top-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o all uncommitted transactions, bottom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0A96-15BB-4682-966F-FA47CF405C7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/Re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77200" y="1905120"/>
            <a:ext cx="169092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 X2, 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438280" y="190512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257800" y="1981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1684-9D75-4A41-871D-82EDF2D490F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the database is composed of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1 element = 1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smaller (=1 record) or larger (=1 rel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each transaction reads/writes some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E642-2405-4074-9BA7-27B604B2E7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itive Operations of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(X,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y element X to transaction local variable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(X,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y transaction local variable t to element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element X to memory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element X to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EE4C-ABC0-455A-9402-0C75440AF7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4920" y="1752480"/>
            <a:ext cx="4449960" cy="470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(A,t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:= t*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(A,t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(B,t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:= t*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(B,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I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21360" y="2971800"/>
            <a:ext cx="287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A and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multiplied by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2DA9-0CB9-48A0-AC85-14FD2AC883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80880" y="1752480"/>
          <a:ext cx="7848720" cy="4959360"/>
        </p:xfrm>
        <a:graphic>
          <a:graphicData uri="http://schemas.openxmlformats.org/drawingml/2006/table">
            <a:tbl>
              <a:tblPr/>
              <a:tblGrid>
                <a:gridCol w="1689120"/>
                <a:gridCol w="1231920"/>
                <a:gridCol w="1231920"/>
                <a:gridCol w="1231920"/>
                <a:gridCol w="1231920"/>
                <a:gridCol w="1231920"/>
              </a:tblGrid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 rot="5400000">
            <a:off x="4419360" y="304560"/>
            <a:ext cx="228600" cy="2362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6920" y="91440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ffer p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6933960" y="304560"/>
            <a:ext cx="228600" cy="2362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83480" y="914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2552400" y="9525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760" y="91440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-113040" y="152280"/>
            <a:ext cx="4123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A,t); t := t*2; WRITE(A,t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B,t); t := t*2; WRITE(B,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64E9-B188-4A70-8249-60E90C78BF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304920" y="685800"/>
          <a:ext cx="7848360" cy="4959360"/>
        </p:xfrm>
        <a:graphic>
          <a:graphicData uri="http://schemas.openxmlformats.org/drawingml/2006/table">
            <a:tbl>
              <a:tblPr/>
              <a:tblGrid>
                <a:gridCol w="1689120"/>
                <a:gridCol w="1231920"/>
                <a:gridCol w="1231920"/>
                <a:gridCol w="1231560"/>
                <a:gridCol w="1231920"/>
                <a:gridCol w="123192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6519600" y="4543560"/>
            <a:ext cx="2639880" cy="1138680"/>
          </a:xfrm>
          <a:prstGeom prst="irregularSeal2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02160" y="5883120"/>
            <a:ext cx="671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occurs after OUTPUT(A), before OUTPUT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lose atom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6D6F-BA04-4548-8E32-56453BC62D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5-11-03T22:08:28Z</dcterms:modified>
  <cp:revision>321</cp:revision>
  <dc:subject/>
  <dc:title>Lecture 09:</dc:title>
</cp:coreProperties>
</file>