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878E-9740-45B6-AB34-D3EAF2EA2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547D-F6F0-40EB-90BC-A8E22C043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828A-4427-42DC-9503-769B5844A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9C55-4957-444C-AB4D-D1DD1F570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7871-0705-4F69-A6A8-97AD8BB58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F33A-C09D-4CE1-BA7A-BDEBAE9EF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7AB0-9911-4C9F-BC82-3F1366B4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4D4-EC73-4254-A54B-1BBC5D87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5D97-58CC-4406-BC0B-E8D4D9A9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EA9-F67A-4086-9CF0-27DFB2B3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1C0A-A6B2-4B15-884E-B8388A93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02D-2EE6-4348-8333-91C4A196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E14B-BD60-44F6-BA93-51463482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622-41BA-4E67-92A6-4F680579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ECF-8046-47EA-95FB-62758877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726-00AB-4054-ACFC-F58C4B60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E630-08BE-4690-8195-4040BE5C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EDC0-B575-4EF1-AE20-672726C3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3770-E696-4802-BFC3-82FA3E1A1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 Revie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31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0CB0-7352-4AAA-A578-28CB225714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chanics of D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speed (5400R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latters (1-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tracks (&lt;=10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ytes/track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208480" y="2787480"/>
            <a:ext cx="3149640" cy="1801800"/>
            <a:chOff x="5208480" y="2787480"/>
            <a:chExt cx="3149640" cy="1801800"/>
          </a:xfrm>
        </p:grpSpPr>
        <p:sp>
          <p:nvSpPr>
            <p:cNvPr id="70" name=""/>
            <p:cNvSpPr/>
            <p:nvPr/>
          </p:nvSpPr>
          <p:spPr>
            <a:xfrm>
              <a:off x="5208480" y="3374640"/>
              <a:ext cx="3149640" cy="121464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0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0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0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0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08480" y="2787480"/>
              <a:ext cx="3149640" cy="121428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1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1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1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1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81480" y="2057400"/>
            <a:ext cx="3176640" cy="4594320"/>
            <a:chOff x="5181480" y="2057400"/>
            <a:chExt cx="3176640" cy="4594320"/>
          </a:xfrm>
        </p:grpSpPr>
        <p:grpSp>
          <p:nvGrpSpPr>
            <p:cNvPr id="73" name=""/>
            <p:cNvGrpSpPr/>
            <p:nvPr/>
          </p:nvGrpSpPr>
          <p:grpSpPr>
            <a:xfrm>
              <a:off x="5181480" y="2735280"/>
              <a:ext cx="3176640" cy="3916440"/>
              <a:chOff x="5181480" y="2735280"/>
              <a:chExt cx="3176640" cy="391644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5208480" y="3322800"/>
                <a:ext cx="3149640" cy="1214280"/>
                <a:chOff x="5208480" y="3322800"/>
                <a:chExt cx="3149640" cy="121428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5208480" y="3322800"/>
                  <a:ext cx="3149640" cy="1214280"/>
                </a:xfrm>
                <a:custGeom>
                  <a:avLst/>
                  <a:gdLst/>
                  <a:ahLst/>
                  <a:rect l="l" t="t" r="r" b="b"/>
                  <a:pathLst>
                    <a:path w="1984" h="765">
                      <a:moveTo>
                        <a:pt x="0" y="378"/>
                      </a:moveTo>
                      <a:lnTo>
                        <a:pt x="16" y="312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49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49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2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4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299200" y="3414600"/>
                  <a:ext cx="2941560" cy="103212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8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6"/>
                      </a:lnTo>
                      <a:lnTo>
                        <a:pt x="371" y="65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5"/>
                      </a:lnTo>
                      <a:lnTo>
                        <a:pt x="1613" y="106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8"/>
                      </a:lnTo>
                      <a:lnTo>
                        <a:pt x="1836" y="386"/>
                      </a:lnTo>
                      <a:lnTo>
                        <a:pt x="1795" y="443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3"/>
                      </a:lnTo>
                      <a:lnTo>
                        <a:pt x="17" y="386"/>
                      </a:lnTo>
                      <a:lnTo>
                        <a:pt x="0" y="32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443560" y="351792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7"/>
                      </a:moveTo>
                      <a:lnTo>
                        <a:pt x="16" y="198"/>
                      </a:lnTo>
                      <a:lnTo>
                        <a:pt x="66" y="148"/>
                      </a:lnTo>
                      <a:lnTo>
                        <a:pt x="148" y="107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7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7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7"/>
                      </a:lnTo>
                      <a:lnTo>
                        <a:pt x="1605" y="148"/>
                      </a:lnTo>
                      <a:lnTo>
                        <a:pt x="1654" y="198"/>
                      </a:lnTo>
                      <a:lnTo>
                        <a:pt x="1671" y="247"/>
                      </a:lnTo>
                      <a:lnTo>
                        <a:pt x="1654" y="296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7"/>
                      </a:lnTo>
                      <a:lnTo>
                        <a:pt x="996" y="485"/>
                      </a:lnTo>
                      <a:lnTo>
                        <a:pt x="839" y="493"/>
                      </a:lnTo>
                      <a:lnTo>
                        <a:pt x="675" y="485"/>
                      </a:lnTo>
                      <a:lnTo>
                        <a:pt x="518" y="477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6"/>
                      </a:lnTo>
                      <a:lnTo>
                        <a:pt x="0" y="24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5208480" y="2735280"/>
                <a:ext cx="3149640" cy="1216080"/>
                <a:chOff x="5208480" y="2735280"/>
                <a:chExt cx="3149640" cy="12160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208480" y="2735280"/>
                  <a:ext cx="3149640" cy="1216080"/>
                </a:xfrm>
                <a:custGeom>
                  <a:avLst/>
                  <a:gdLst/>
                  <a:ahLst/>
                  <a:rect l="l" t="t" r="r" b="b"/>
                  <a:pathLst>
                    <a:path w="1984" h="766">
                      <a:moveTo>
                        <a:pt x="0" y="378"/>
                      </a:moveTo>
                      <a:lnTo>
                        <a:pt x="16" y="313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50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50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3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5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299200" y="2827440"/>
                  <a:ext cx="2941560" cy="103176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9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7"/>
                      </a:lnTo>
                      <a:lnTo>
                        <a:pt x="371" y="66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6"/>
                      </a:lnTo>
                      <a:lnTo>
                        <a:pt x="1613" y="107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9"/>
                      </a:lnTo>
                      <a:lnTo>
                        <a:pt x="1836" y="386"/>
                      </a:lnTo>
                      <a:lnTo>
                        <a:pt x="1795" y="444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4"/>
                      </a:lnTo>
                      <a:lnTo>
                        <a:pt x="17" y="386"/>
                      </a:lnTo>
                      <a:lnTo>
                        <a:pt x="0" y="32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443560" y="293220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6"/>
                      </a:moveTo>
                      <a:lnTo>
                        <a:pt x="16" y="197"/>
                      </a:lnTo>
                      <a:lnTo>
                        <a:pt x="66" y="147"/>
                      </a:lnTo>
                      <a:lnTo>
                        <a:pt x="148" y="106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6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6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6"/>
                      </a:lnTo>
                      <a:lnTo>
                        <a:pt x="1605" y="147"/>
                      </a:lnTo>
                      <a:lnTo>
                        <a:pt x="1654" y="197"/>
                      </a:lnTo>
                      <a:lnTo>
                        <a:pt x="1671" y="246"/>
                      </a:lnTo>
                      <a:lnTo>
                        <a:pt x="1654" y="295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6"/>
                      </a:lnTo>
                      <a:lnTo>
                        <a:pt x="996" y="484"/>
                      </a:lnTo>
                      <a:lnTo>
                        <a:pt x="839" y="493"/>
                      </a:lnTo>
                      <a:lnTo>
                        <a:pt x="675" y="484"/>
                      </a:lnTo>
                      <a:lnTo>
                        <a:pt x="518" y="476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5"/>
                      </a:lnTo>
                      <a:lnTo>
                        <a:pt x="0" y="2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" name=""/>
              <p:cNvSpPr/>
              <p:nvPr/>
            </p:nvSpPr>
            <p:spPr>
              <a:xfrm>
                <a:off x="5181480" y="543564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78"/>
                    </a:moveTo>
                    <a:lnTo>
                      <a:pt x="17" y="313"/>
                    </a:lnTo>
                    <a:lnTo>
                      <a:pt x="66" y="247"/>
                    </a:lnTo>
                    <a:lnTo>
                      <a:pt x="132" y="189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0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0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89"/>
                    </a:lnTo>
                    <a:lnTo>
                      <a:pt x="1926" y="247"/>
                    </a:lnTo>
                    <a:lnTo>
                      <a:pt x="1976" y="313"/>
                    </a:lnTo>
                    <a:lnTo>
                      <a:pt x="1992" y="378"/>
                    </a:lnTo>
                    <a:lnTo>
                      <a:pt x="1976" y="444"/>
                    </a:lnTo>
                    <a:lnTo>
                      <a:pt x="1926" y="510"/>
                    </a:lnTo>
                    <a:lnTo>
                      <a:pt x="1860" y="576"/>
                    </a:lnTo>
                    <a:lnTo>
                      <a:pt x="1753" y="625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25"/>
                    </a:lnTo>
                    <a:lnTo>
                      <a:pt x="132" y="576"/>
                    </a:lnTo>
                    <a:lnTo>
                      <a:pt x="66" y="510"/>
                    </a:lnTo>
                    <a:lnTo>
                      <a:pt x="17" y="444"/>
                    </a:lnTo>
                    <a:lnTo>
                      <a:pt x="0" y="37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5181480" y="5370480"/>
              <a:ext cx="3164040" cy="1216080"/>
              <a:chOff x="5181480" y="5370480"/>
              <a:chExt cx="3164040" cy="1216080"/>
            </a:xfrm>
          </p:grpSpPr>
          <p:sp>
            <p:nvSpPr>
              <p:cNvPr id="84" name=""/>
              <p:cNvSpPr/>
              <p:nvPr/>
            </p:nvSpPr>
            <p:spPr>
              <a:xfrm>
                <a:off x="5181480" y="537048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87"/>
                    </a:moveTo>
                    <a:lnTo>
                      <a:pt x="17" y="321"/>
                    </a:lnTo>
                    <a:lnTo>
                      <a:pt x="66" y="255"/>
                    </a:lnTo>
                    <a:lnTo>
                      <a:pt x="132" y="198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8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8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98"/>
                    </a:lnTo>
                    <a:lnTo>
                      <a:pt x="1926" y="255"/>
                    </a:lnTo>
                    <a:lnTo>
                      <a:pt x="1976" y="321"/>
                    </a:lnTo>
                    <a:lnTo>
                      <a:pt x="1992" y="387"/>
                    </a:lnTo>
                    <a:lnTo>
                      <a:pt x="1976" y="452"/>
                    </a:lnTo>
                    <a:lnTo>
                      <a:pt x="1926" y="518"/>
                    </a:lnTo>
                    <a:lnTo>
                      <a:pt x="1860" y="576"/>
                    </a:lnTo>
                    <a:lnTo>
                      <a:pt x="1753" y="633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33"/>
                    </a:lnTo>
                    <a:lnTo>
                      <a:pt x="132" y="576"/>
                    </a:lnTo>
                    <a:lnTo>
                      <a:pt x="66" y="518"/>
                    </a:lnTo>
                    <a:lnTo>
                      <a:pt x="17" y="452"/>
                    </a:lnTo>
                    <a:lnTo>
                      <a:pt x="0" y="38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286240" y="5475240"/>
                <a:ext cx="2941920" cy="1019160"/>
              </a:xfrm>
              <a:custGeom>
                <a:avLst/>
                <a:gdLst/>
                <a:ahLst/>
                <a:rect l="l" t="t" r="r" b="b"/>
                <a:pathLst>
                  <a:path w="1853" h="642">
                    <a:moveTo>
                      <a:pt x="0" y="321"/>
                    </a:moveTo>
                    <a:lnTo>
                      <a:pt x="16" y="263"/>
                    </a:lnTo>
                    <a:lnTo>
                      <a:pt x="58" y="206"/>
                    </a:lnTo>
                    <a:lnTo>
                      <a:pt x="140" y="148"/>
                    </a:lnTo>
                    <a:lnTo>
                      <a:pt x="239" y="107"/>
                    </a:lnTo>
                    <a:lnTo>
                      <a:pt x="362" y="66"/>
                    </a:lnTo>
                    <a:lnTo>
                      <a:pt x="510" y="33"/>
                    </a:lnTo>
                    <a:lnTo>
                      <a:pt x="667" y="8"/>
                    </a:lnTo>
                    <a:lnTo>
                      <a:pt x="840" y="0"/>
                    </a:lnTo>
                    <a:lnTo>
                      <a:pt x="1012" y="0"/>
                    </a:lnTo>
                    <a:lnTo>
                      <a:pt x="1177" y="8"/>
                    </a:lnTo>
                    <a:lnTo>
                      <a:pt x="1333" y="33"/>
                    </a:lnTo>
                    <a:lnTo>
                      <a:pt x="1482" y="66"/>
                    </a:lnTo>
                    <a:lnTo>
                      <a:pt x="1605" y="107"/>
                    </a:lnTo>
                    <a:lnTo>
                      <a:pt x="1712" y="148"/>
                    </a:lnTo>
                    <a:lnTo>
                      <a:pt x="1786" y="206"/>
                    </a:lnTo>
                    <a:lnTo>
                      <a:pt x="1835" y="263"/>
                    </a:lnTo>
                    <a:lnTo>
                      <a:pt x="1852" y="321"/>
                    </a:lnTo>
                    <a:lnTo>
                      <a:pt x="1835" y="378"/>
                    </a:lnTo>
                    <a:lnTo>
                      <a:pt x="1786" y="436"/>
                    </a:lnTo>
                    <a:lnTo>
                      <a:pt x="1712" y="493"/>
                    </a:lnTo>
                    <a:lnTo>
                      <a:pt x="1605" y="542"/>
                    </a:lnTo>
                    <a:lnTo>
                      <a:pt x="1482" y="584"/>
                    </a:lnTo>
                    <a:lnTo>
                      <a:pt x="1333" y="608"/>
                    </a:lnTo>
                    <a:lnTo>
                      <a:pt x="1177" y="633"/>
                    </a:lnTo>
                    <a:lnTo>
                      <a:pt x="1012" y="641"/>
                    </a:lnTo>
                    <a:lnTo>
                      <a:pt x="840" y="641"/>
                    </a:lnTo>
                    <a:lnTo>
                      <a:pt x="667" y="633"/>
                    </a:lnTo>
                    <a:lnTo>
                      <a:pt x="510" y="608"/>
                    </a:lnTo>
                    <a:lnTo>
                      <a:pt x="362" y="584"/>
                    </a:lnTo>
                    <a:lnTo>
                      <a:pt x="239" y="542"/>
                    </a:lnTo>
                    <a:lnTo>
                      <a:pt x="140" y="493"/>
                    </a:lnTo>
                    <a:lnTo>
                      <a:pt x="58" y="436"/>
                    </a:lnTo>
                    <a:lnTo>
                      <a:pt x="16" y="378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429160" y="5567400"/>
                <a:ext cx="2654280" cy="784080"/>
              </a:xfrm>
              <a:custGeom>
                <a:avLst/>
                <a:gdLst/>
                <a:ahLst/>
                <a:rect l="l" t="t" r="r" b="b"/>
                <a:pathLst>
                  <a:path w="1672" h="494">
                    <a:moveTo>
                      <a:pt x="0" y="246"/>
                    </a:moveTo>
                    <a:lnTo>
                      <a:pt x="17" y="197"/>
                    </a:lnTo>
                    <a:lnTo>
                      <a:pt x="66" y="156"/>
                    </a:lnTo>
                    <a:lnTo>
                      <a:pt x="140" y="115"/>
                    </a:lnTo>
                    <a:lnTo>
                      <a:pt x="247" y="74"/>
                    </a:lnTo>
                    <a:lnTo>
                      <a:pt x="371" y="41"/>
                    </a:lnTo>
                    <a:lnTo>
                      <a:pt x="519" y="24"/>
                    </a:lnTo>
                    <a:lnTo>
                      <a:pt x="675" y="8"/>
                    </a:lnTo>
                    <a:lnTo>
                      <a:pt x="832" y="0"/>
                    </a:lnTo>
                    <a:lnTo>
                      <a:pt x="996" y="8"/>
                    </a:lnTo>
                    <a:lnTo>
                      <a:pt x="1153" y="24"/>
                    </a:lnTo>
                    <a:lnTo>
                      <a:pt x="1301" y="41"/>
                    </a:lnTo>
                    <a:lnTo>
                      <a:pt x="1424" y="74"/>
                    </a:lnTo>
                    <a:lnTo>
                      <a:pt x="1523" y="115"/>
                    </a:lnTo>
                    <a:lnTo>
                      <a:pt x="1606" y="156"/>
                    </a:lnTo>
                    <a:lnTo>
                      <a:pt x="1655" y="197"/>
                    </a:lnTo>
                    <a:lnTo>
                      <a:pt x="1671" y="246"/>
                    </a:lnTo>
                    <a:lnTo>
                      <a:pt x="1655" y="295"/>
                    </a:lnTo>
                    <a:lnTo>
                      <a:pt x="1606" y="345"/>
                    </a:lnTo>
                    <a:lnTo>
                      <a:pt x="1523" y="386"/>
                    </a:lnTo>
                    <a:lnTo>
                      <a:pt x="1424" y="427"/>
                    </a:lnTo>
                    <a:lnTo>
                      <a:pt x="1301" y="452"/>
                    </a:lnTo>
                    <a:lnTo>
                      <a:pt x="1153" y="476"/>
                    </a:lnTo>
                    <a:lnTo>
                      <a:pt x="996" y="493"/>
                    </a:lnTo>
                    <a:lnTo>
                      <a:pt x="832" y="493"/>
                    </a:lnTo>
                    <a:lnTo>
                      <a:pt x="675" y="493"/>
                    </a:lnTo>
                    <a:lnTo>
                      <a:pt x="519" y="476"/>
                    </a:lnTo>
                    <a:lnTo>
                      <a:pt x="371" y="452"/>
                    </a:lnTo>
                    <a:lnTo>
                      <a:pt x="247" y="427"/>
                    </a:lnTo>
                    <a:lnTo>
                      <a:pt x="140" y="386"/>
                    </a:lnTo>
                    <a:lnTo>
                      <a:pt x="66" y="345"/>
                    </a:lnTo>
                    <a:lnTo>
                      <a:pt x="17" y="295"/>
                    </a:lnTo>
                    <a:lnTo>
                      <a:pt x="0" y="2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462720" y="2057400"/>
              <a:ext cx="681120" cy="3994200"/>
              <a:chOff x="6462720" y="2057400"/>
              <a:chExt cx="681120" cy="3994200"/>
            </a:xfrm>
          </p:grpSpPr>
          <p:sp>
            <p:nvSpPr>
              <p:cNvPr id="88" name=""/>
              <p:cNvSpPr/>
              <p:nvPr/>
            </p:nvSpPr>
            <p:spPr>
              <a:xfrm>
                <a:off x="6553080" y="2239920"/>
                <a:ext cx="393840" cy="1176480"/>
              </a:xfrm>
              <a:custGeom>
                <a:avLst/>
                <a:gdLst/>
                <a:ahLst/>
                <a:rect l="l" t="t" r="r" b="b"/>
                <a:pathLst>
                  <a:path w="248" h="741">
                    <a:moveTo>
                      <a:pt x="247" y="649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649"/>
                    </a:lnTo>
                    <a:lnTo>
                      <a:pt x="0" y="657"/>
                    </a:lnTo>
                    <a:lnTo>
                      <a:pt x="17" y="699"/>
                    </a:lnTo>
                    <a:lnTo>
                      <a:pt x="50" y="723"/>
                    </a:lnTo>
                    <a:lnTo>
                      <a:pt x="99" y="740"/>
                    </a:lnTo>
                    <a:lnTo>
                      <a:pt x="157" y="740"/>
                    </a:lnTo>
                    <a:lnTo>
                      <a:pt x="206" y="723"/>
                    </a:lnTo>
                    <a:lnTo>
                      <a:pt x="239" y="699"/>
                    </a:lnTo>
                    <a:lnTo>
                      <a:pt x="247" y="657"/>
                    </a:lnTo>
                    <a:lnTo>
                      <a:pt x="247" y="64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53080" y="2057400"/>
                <a:ext cx="393840" cy="249120"/>
              </a:xfrm>
              <a:custGeom>
                <a:avLst/>
                <a:gdLst/>
                <a:ahLst/>
                <a:rect l="l" t="t" r="r" b="b"/>
                <a:pathLst>
                  <a:path w="248" h="157">
                    <a:moveTo>
                      <a:pt x="0" y="74"/>
                    </a:moveTo>
                    <a:lnTo>
                      <a:pt x="17" y="41"/>
                    </a:lnTo>
                    <a:lnTo>
                      <a:pt x="50" y="8"/>
                    </a:lnTo>
                    <a:lnTo>
                      <a:pt x="99" y="0"/>
                    </a:lnTo>
                    <a:lnTo>
                      <a:pt x="157" y="0"/>
                    </a:lnTo>
                    <a:lnTo>
                      <a:pt x="206" y="8"/>
                    </a:lnTo>
                    <a:lnTo>
                      <a:pt x="239" y="41"/>
                    </a:lnTo>
                    <a:lnTo>
                      <a:pt x="247" y="74"/>
                    </a:lnTo>
                    <a:lnTo>
                      <a:pt x="239" y="115"/>
                    </a:lnTo>
                    <a:lnTo>
                      <a:pt x="206" y="140"/>
                    </a:lnTo>
                    <a:lnTo>
                      <a:pt x="157" y="156"/>
                    </a:lnTo>
                    <a:lnTo>
                      <a:pt x="99" y="156"/>
                    </a:lnTo>
                    <a:lnTo>
                      <a:pt x="50" y="140"/>
                    </a:lnTo>
                    <a:lnTo>
                      <a:pt x="17" y="115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53080" y="4587840"/>
                <a:ext cx="393840" cy="1463760"/>
              </a:xfrm>
              <a:custGeom>
                <a:avLst/>
                <a:gdLst/>
                <a:ahLst/>
                <a:rect l="l" t="t" r="r" b="b"/>
                <a:pathLst>
                  <a:path w="248" h="922">
                    <a:moveTo>
                      <a:pt x="247" y="814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814"/>
                    </a:lnTo>
                    <a:lnTo>
                      <a:pt x="0" y="822"/>
                    </a:lnTo>
                    <a:lnTo>
                      <a:pt x="17" y="871"/>
                    </a:lnTo>
                    <a:lnTo>
                      <a:pt x="50" y="904"/>
                    </a:lnTo>
                    <a:lnTo>
                      <a:pt x="99" y="921"/>
                    </a:lnTo>
                    <a:lnTo>
                      <a:pt x="157" y="921"/>
                    </a:lnTo>
                    <a:lnTo>
                      <a:pt x="206" y="904"/>
                    </a:lnTo>
                    <a:lnTo>
                      <a:pt x="239" y="871"/>
                    </a:lnTo>
                    <a:lnTo>
                      <a:pt x="247" y="822"/>
                    </a:lnTo>
                    <a:lnTo>
                      <a:pt x="247" y="8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62720" y="2344680"/>
                <a:ext cx="681120" cy="392040"/>
              </a:xfrm>
              <a:custGeom>
                <a:avLst/>
                <a:gdLst/>
                <a:ahLst/>
                <a:rect l="l" t="t" r="r" b="b"/>
                <a:pathLst>
                  <a:path w="429" h="247">
                    <a:moveTo>
                      <a:pt x="57" y="0"/>
                    </a:moveTo>
                    <a:lnTo>
                      <a:pt x="16" y="49"/>
                    </a:lnTo>
                    <a:lnTo>
                      <a:pt x="0" y="98"/>
                    </a:lnTo>
                    <a:lnTo>
                      <a:pt x="16" y="156"/>
                    </a:lnTo>
                    <a:lnTo>
                      <a:pt x="66" y="205"/>
                    </a:lnTo>
                    <a:lnTo>
                      <a:pt x="131" y="230"/>
                    </a:lnTo>
                    <a:lnTo>
                      <a:pt x="214" y="246"/>
                    </a:lnTo>
                    <a:lnTo>
                      <a:pt x="296" y="230"/>
                    </a:lnTo>
                    <a:lnTo>
                      <a:pt x="362" y="205"/>
                    </a:lnTo>
                    <a:lnTo>
                      <a:pt x="411" y="156"/>
                    </a:lnTo>
                    <a:lnTo>
                      <a:pt x="428" y="98"/>
                    </a:lnTo>
                    <a:lnTo>
                      <a:pt x="411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7050240" y="2344680"/>
            <a:ext cx="171360" cy="17136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25" y="107"/>
                </a:moveTo>
                <a:lnTo>
                  <a:pt x="0" y="0"/>
                </a:lnTo>
                <a:lnTo>
                  <a:pt x="107" y="41"/>
                </a:lnTo>
                <a:lnTo>
                  <a:pt x="25" y="10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94320" y="33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94320" y="393552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94320" y="60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94320" y="4497480"/>
            <a:ext cx="0" cy="156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594320" y="3322440"/>
            <a:ext cx="0" cy="117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78400" y="5985000"/>
            <a:ext cx="157320" cy="79200"/>
          </a:xfrm>
          <a:custGeom>
            <a:avLst/>
            <a:gdLst/>
            <a:ahLst/>
            <a:rect l="l" t="t" r="r" b="b"/>
            <a:pathLst>
              <a:path w="99" h="50">
                <a:moveTo>
                  <a:pt x="0" y="49"/>
                </a:moveTo>
                <a:lnTo>
                  <a:pt x="98" y="49"/>
                </a:lnTo>
                <a:lnTo>
                  <a:pt x="98" y="0"/>
                </a:lnTo>
                <a:lnTo>
                  <a:pt x="0" y="0"/>
                </a:lnTo>
                <a:lnTo>
                  <a:pt x="0" y="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8400" y="3282840"/>
            <a:ext cx="157320" cy="68400"/>
          </a:xfrm>
          <a:custGeom>
            <a:avLst/>
            <a:gdLst/>
            <a:ahLst/>
            <a:rect l="l" t="t" r="r" b="b"/>
            <a:pathLst>
              <a:path w="99" h="43">
                <a:moveTo>
                  <a:pt x="0" y="42"/>
                </a:moveTo>
                <a:lnTo>
                  <a:pt x="98" y="42"/>
                </a:lnTo>
                <a:lnTo>
                  <a:pt x="98" y="0"/>
                </a:lnTo>
                <a:lnTo>
                  <a:pt x="0" y="0"/>
                </a:lnTo>
                <a:lnTo>
                  <a:pt x="0" y="4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8400" y="3909960"/>
            <a:ext cx="157320" cy="66600"/>
          </a:xfrm>
          <a:custGeom>
            <a:avLst/>
            <a:gdLst/>
            <a:ahLst/>
            <a:rect l="l" t="t" r="r" b="b"/>
            <a:pathLst>
              <a:path w="99" h="42">
                <a:moveTo>
                  <a:pt x="0" y="41"/>
                </a:moveTo>
                <a:lnTo>
                  <a:pt x="98" y="41"/>
                </a:lnTo>
                <a:lnTo>
                  <a:pt x="98" y="0"/>
                </a:lnTo>
                <a:lnTo>
                  <a:pt x="0" y="0"/>
                </a:lnTo>
                <a:lnTo>
                  <a:pt x="0" y="4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38960" y="4776840"/>
            <a:ext cx="8341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tt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21600" y="4300560"/>
            <a:ext cx="39204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8121600" y="5084640"/>
            <a:ext cx="39204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79800" y="2049480"/>
            <a:ext cx="823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46920" y="2184480"/>
            <a:ext cx="695160" cy="117360"/>
          </a:xfrm>
          <a:custGeom>
            <a:avLst/>
            <a:gdLst/>
            <a:ahLst/>
            <a:rect l="l" t="t" r="r" b="b"/>
            <a:pathLst>
              <a:path w="438" h="74">
                <a:moveTo>
                  <a:pt x="437" y="8"/>
                </a:moveTo>
                <a:lnTo>
                  <a:pt x="288" y="0"/>
                </a:lnTo>
                <a:lnTo>
                  <a:pt x="140" y="24"/>
                </a:lnTo>
                <a:lnTo>
                  <a:pt x="0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67320" y="2365200"/>
            <a:ext cx="1036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k he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889160" y="4708440"/>
            <a:ext cx="1480320" cy="519480"/>
            <a:chOff x="4889160" y="4708440"/>
            <a:chExt cx="1480320" cy="519480"/>
          </a:xfrm>
        </p:grpSpPr>
        <p:sp>
          <p:nvSpPr>
            <p:cNvPr id="108" name=""/>
            <p:cNvSpPr/>
            <p:nvPr/>
          </p:nvSpPr>
          <p:spPr>
            <a:xfrm>
              <a:off x="4943520" y="4708440"/>
              <a:ext cx="1373040" cy="196920"/>
            </a:xfrm>
            <a:custGeom>
              <a:avLst/>
              <a:gdLst/>
              <a:ahLst/>
              <a:rect l="l" t="t" r="r" b="b"/>
              <a:pathLst>
                <a:path w="865" h="124">
                  <a:moveTo>
                    <a:pt x="0" y="65"/>
                  </a:moveTo>
                  <a:lnTo>
                    <a:pt x="41" y="0"/>
                  </a:lnTo>
                  <a:lnTo>
                    <a:pt x="41" y="41"/>
                  </a:lnTo>
                  <a:lnTo>
                    <a:pt x="831" y="41"/>
                  </a:lnTo>
                  <a:lnTo>
                    <a:pt x="831" y="0"/>
                  </a:lnTo>
                  <a:lnTo>
                    <a:pt x="864" y="65"/>
                  </a:lnTo>
                  <a:lnTo>
                    <a:pt x="831" y="123"/>
                  </a:lnTo>
                  <a:lnTo>
                    <a:pt x="831" y="82"/>
                  </a:lnTo>
                  <a:lnTo>
                    <a:pt x="41" y="82"/>
                  </a:lnTo>
                  <a:lnTo>
                    <a:pt x="41" y="123"/>
                  </a:lnTo>
                  <a:lnTo>
                    <a:pt x="0" y="6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89160" y="4907160"/>
              <a:ext cx="1480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movem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731760" y="5670720"/>
            <a:ext cx="1396800" cy="798480"/>
            <a:chOff x="3731760" y="5670720"/>
            <a:chExt cx="1396800" cy="798480"/>
          </a:xfrm>
        </p:grpSpPr>
        <p:sp>
          <p:nvSpPr>
            <p:cNvPr id="111" name=""/>
            <p:cNvSpPr/>
            <p:nvPr/>
          </p:nvSpPr>
          <p:spPr>
            <a:xfrm>
              <a:off x="3731760" y="6148440"/>
              <a:ext cx="1396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assembl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91120" y="5670720"/>
              <a:ext cx="406440" cy="484200"/>
            </a:xfrm>
            <a:custGeom>
              <a:avLst/>
              <a:gdLst/>
              <a:ahLst/>
              <a:rect l="l" t="t" r="r" b="b"/>
              <a:pathLst>
                <a:path w="256" h="305">
                  <a:moveTo>
                    <a:pt x="8" y="304"/>
                  </a:moveTo>
                  <a:lnTo>
                    <a:pt x="0" y="230"/>
                  </a:lnTo>
                  <a:lnTo>
                    <a:pt x="16" y="156"/>
                  </a:lnTo>
                  <a:lnTo>
                    <a:pt x="57" y="91"/>
                  </a:lnTo>
                  <a:lnTo>
                    <a:pt x="115" y="41"/>
                  </a:lnTo>
                  <a:lnTo>
                    <a:pt x="181" y="9"/>
                  </a:lnTo>
                  <a:lnTo>
                    <a:pt x="25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5183280" y="2592360"/>
            <a:ext cx="288720" cy="731880"/>
          </a:xfrm>
          <a:custGeom>
            <a:avLst/>
            <a:gdLst/>
            <a:ahLst/>
            <a:rect l="l" t="t" r="r" b="b"/>
            <a:pathLst>
              <a:path w="182" h="461">
                <a:moveTo>
                  <a:pt x="0" y="0"/>
                </a:moveTo>
                <a:lnTo>
                  <a:pt x="82" y="66"/>
                </a:lnTo>
                <a:lnTo>
                  <a:pt x="140" y="156"/>
                </a:lnTo>
                <a:lnTo>
                  <a:pt x="173" y="255"/>
                </a:lnTo>
                <a:lnTo>
                  <a:pt x="181" y="353"/>
                </a:lnTo>
                <a:lnTo>
                  <a:pt x="165" y="4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675560" y="2255760"/>
            <a:ext cx="1291320" cy="792360"/>
            <a:chOff x="7675560" y="2255760"/>
            <a:chExt cx="1291320" cy="792360"/>
          </a:xfrm>
        </p:grpSpPr>
        <p:sp>
          <p:nvSpPr>
            <p:cNvPr id="115" name=""/>
            <p:cNvSpPr/>
            <p:nvPr/>
          </p:nvSpPr>
          <p:spPr>
            <a:xfrm>
              <a:off x="7765920" y="2563920"/>
              <a:ext cx="590760" cy="484200"/>
            </a:xfrm>
            <a:custGeom>
              <a:avLst/>
              <a:gdLst/>
              <a:ahLst/>
              <a:rect l="l" t="t" r="r" b="b"/>
              <a:pathLst>
                <a:path w="372" h="305">
                  <a:moveTo>
                    <a:pt x="371" y="0"/>
                  </a:moveTo>
                  <a:lnTo>
                    <a:pt x="255" y="33"/>
                  </a:lnTo>
                  <a:lnTo>
                    <a:pt x="148" y="107"/>
                  </a:lnTo>
                  <a:lnTo>
                    <a:pt x="58" y="197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7675560" y="2255760"/>
              <a:ext cx="1291320" cy="701640"/>
              <a:chOff x="7675560" y="2255760"/>
              <a:chExt cx="1291320" cy="701640"/>
            </a:xfrm>
          </p:grpSpPr>
          <p:sp>
            <p:nvSpPr>
              <p:cNvPr id="117" name=""/>
              <p:cNvSpPr/>
              <p:nvPr/>
            </p:nvSpPr>
            <p:spPr>
              <a:xfrm>
                <a:off x="8207280" y="2255760"/>
                <a:ext cx="7596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75560" y="2563920"/>
                <a:ext cx="484200" cy="393480"/>
              </a:xfrm>
              <a:custGeom>
                <a:avLst/>
                <a:gdLst/>
                <a:ahLst/>
                <a:rect l="l" t="t" r="r" b="b"/>
                <a:pathLst>
                  <a:path w="305" h="248">
                    <a:moveTo>
                      <a:pt x="304" y="0"/>
                    </a:moveTo>
                    <a:lnTo>
                      <a:pt x="222" y="0"/>
                    </a:lnTo>
                    <a:lnTo>
                      <a:pt x="139" y="33"/>
                    </a:lnTo>
                    <a:lnTo>
                      <a:pt x="74" y="90"/>
                    </a:lnTo>
                    <a:lnTo>
                      <a:pt x="24" y="164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" name=""/>
          <p:cNvSpPr/>
          <p:nvPr/>
        </p:nvSpPr>
        <p:spPr>
          <a:xfrm>
            <a:off x="8199360" y="3127320"/>
            <a:ext cx="174600" cy="444600"/>
          </a:xfrm>
          <a:custGeom>
            <a:avLst/>
            <a:gdLst/>
            <a:ahLst/>
            <a:rect l="l" t="t" r="r" b="b"/>
            <a:pathLst>
              <a:path w="110" h="280">
                <a:moveTo>
                  <a:pt x="0" y="279"/>
                </a:moveTo>
                <a:lnTo>
                  <a:pt x="64" y="238"/>
                </a:lnTo>
                <a:lnTo>
                  <a:pt x="100" y="181"/>
                </a:lnTo>
                <a:lnTo>
                  <a:pt x="109" y="115"/>
                </a:lnTo>
                <a:lnTo>
                  <a:pt x="81" y="49"/>
                </a:lnTo>
                <a:lnTo>
                  <a:pt x="28" y="0"/>
                </a:lnTo>
                <a:lnTo>
                  <a:pt x="55" y="3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07440" y="3200400"/>
            <a:ext cx="738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6920" y="3127320"/>
            <a:ext cx="1471680" cy="484200"/>
          </a:xfrm>
          <a:custGeom>
            <a:avLst/>
            <a:gdLst/>
            <a:ahLst/>
            <a:rect l="l" t="t" r="r" b="b"/>
            <a:pathLst>
              <a:path w="927" h="305">
                <a:moveTo>
                  <a:pt x="890" y="304"/>
                </a:moveTo>
                <a:lnTo>
                  <a:pt x="0" y="123"/>
                </a:lnTo>
                <a:lnTo>
                  <a:pt x="926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72520" y="3075120"/>
            <a:ext cx="520560" cy="276120"/>
          </a:xfrm>
          <a:custGeom>
            <a:avLst/>
            <a:gdLst/>
            <a:ahLst/>
            <a:rect l="l" t="t" r="r" b="b"/>
            <a:pathLst>
              <a:path w="328" h="174">
                <a:moveTo>
                  <a:pt x="327" y="33"/>
                </a:moveTo>
                <a:lnTo>
                  <a:pt x="264" y="0"/>
                </a:lnTo>
                <a:lnTo>
                  <a:pt x="191" y="0"/>
                </a:lnTo>
                <a:lnTo>
                  <a:pt x="118" y="16"/>
                </a:lnTo>
                <a:lnTo>
                  <a:pt x="64" y="49"/>
                </a:lnTo>
                <a:lnTo>
                  <a:pt x="19" y="107"/>
                </a:lnTo>
                <a:lnTo>
                  <a:pt x="0" y="1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09360" y="1676520"/>
            <a:ext cx="8877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2057400"/>
            <a:ext cx="7632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2760" y="4648320"/>
            <a:ext cx="339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of read or wr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k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in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: 4k or 8k or 16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51C-2BBE-4ABD-8E9E-706113B677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k Access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imes New Roman"/>
              </a:rPr>
              <a:t>Disk lat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ime between when command is issued and when data i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 latency = seek time + rotational la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 time = time for the head to reach cyl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ms – 40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al latency = time for the sector to ro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tation time = 10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 latency = 10ms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er time = typically 40MB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s read/write one block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058-D398-4DA5-923E-C7E11E1C12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 Seek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have N tracks, what is the average seek ti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from cylinder x to y takes time |x-y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81080" y="3290760"/>
                <a:ext cx="4743720" cy="33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A35-4CA1-4FBE-95CB-15E5E22A5B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disks that work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: use parity to recover from disk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: read from several disks at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us configurations (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1 = mi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4 = n disks + 1 parity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5 = n+1 disks, assign parity blocks round r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6 = “Hamming cod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B63E-F3B2-4755-9DFB-25A7012BB8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ment in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51814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must be in RAM for DBMS to operate on i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 of &lt;frame#, pageid&gt; pairs 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int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529000" y="2095560"/>
            <a:ext cx="4230720" cy="1720800"/>
            <a:chOff x="2529000" y="2095560"/>
            <a:chExt cx="4230720" cy="1720800"/>
          </a:xfrm>
        </p:grpSpPr>
        <p:sp>
          <p:nvSpPr>
            <p:cNvPr id="138" name=""/>
            <p:cNvSpPr/>
            <p:nvPr/>
          </p:nvSpPr>
          <p:spPr>
            <a:xfrm>
              <a:off x="2541600" y="2108160"/>
              <a:ext cx="4205160" cy="1695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35120" y="2102040"/>
              <a:ext cx="67968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27400" y="2102040"/>
              <a:ext cx="68256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22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16640" y="2102040"/>
              <a:ext cx="6793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08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29000" y="26463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29000" y="32655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29000" y="2095560"/>
              <a:ext cx="6919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16440" y="2095560"/>
              <a:ext cx="6937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10160" y="3265560"/>
              <a:ext cx="69228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916440" y="4394160"/>
            <a:ext cx="1317600" cy="689040"/>
            <a:chOff x="3916440" y="4394160"/>
            <a:chExt cx="1317600" cy="689040"/>
          </a:xfrm>
        </p:grpSpPr>
        <p:grpSp>
          <p:nvGrpSpPr>
            <p:cNvPr id="150" name=""/>
            <p:cNvGrpSpPr/>
            <p:nvPr/>
          </p:nvGrpSpPr>
          <p:grpSpPr>
            <a:xfrm>
              <a:off x="3916440" y="4394160"/>
              <a:ext cx="1317600" cy="689040"/>
              <a:chOff x="3916440" y="4394160"/>
              <a:chExt cx="1317600" cy="689040"/>
            </a:xfrm>
          </p:grpSpPr>
          <p:sp>
            <p:nvSpPr>
              <p:cNvPr id="151" name=""/>
              <p:cNvSpPr/>
              <p:nvPr/>
            </p:nvSpPr>
            <p:spPr>
              <a:xfrm>
                <a:off x="3929040" y="439416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929040" y="492912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164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2340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4232160" y="4500720"/>
              <a:ext cx="636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488960" y="4167360"/>
            <a:ext cx="2981520" cy="0"/>
          </a:xfrm>
          <a:prstGeom prst="line">
            <a:avLst/>
          </a:prstGeom>
          <a:ln w="12600">
            <a:solidFill>
              <a:srgbClr val="b76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4400" y="3790800"/>
            <a:ext cx="18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02320" y="4289400"/>
            <a:ext cx="69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54040" y="2270160"/>
            <a:ext cx="1041480" cy="301680"/>
          </a:xfrm>
          <a:custGeom>
            <a:avLst/>
            <a:gdLst/>
            <a:ahLst/>
            <a:rect l="l" t="t" r="r" b="b"/>
            <a:pathLst>
              <a:path w="656" h="190">
                <a:moveTo>
                  <a:pt x="0" y="189"/>
                </a:moveTo>
                <a:lnTo>
                  <a:pt x="3" y="155"/>
                </a:lnTo>
                <a:lnTo>
                  <a:pt x="16" y="135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6" y="6"/>
                </a:lnTo>
                <a:lnTo>
                  <a:pt x="146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8"/>
                </a:lnTo>
                <a:lnTo>
                  <a:pt x="289" y="87"/>
                </a:lnTo>
                <a:lnTo>
                  <a:pt x="317" y="101"/>
                </a:lnTo>
                <a:lnTo>
                  <a:pt x="344" y="114"/>
                </a:lnTo>
                <a:lnTo>
                  <a:pt x="364" y="114"/>
                </a:lnTo>
                <a:lnTo>
                  <a:pt x="391" y="114"/>
                </a:lnTo>
                <a:lnTo>
                  <a:pt x="412" y="114"/>
                </a:lnTo>
                <a:lnTo>
                  <a:pt x="439" y="114"/>
                </a:lnTo>
                <a:lnTo>
                  <a:pt x="467" y="114"/>
                </a:lnTo>
                <a:lnTo>
                  <a:pt x="494" y="108"/>
                </a:lnTo>
                <a:lnTo>
                  <a:pt x="514" y="101"/>
                </a:lnTo>
                <a:lnTo>
                  <a:pt x="549" y="95"/>
                </a:lnTo>
                <a:lnTo>
                  <a:pt x="576" y="81"/>
                </a:lnTo>
                <a:lnTo>
                  <a:pt x="596" y="68"/>
                </a:lnTo>
                <a:lnTo>
                  <a:pt x="617" y="54"/>
                </a:lnTo>
                <a:lnTo>
                  <a:pt x="637" y="41"/>
                </a:lnTo>
                <a:lnTo>
                  <a:pt x="655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59920" y="2548080"/>
            <a:ext cx="121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isk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97040" y="2967120"/>
            <a:ext cx="1039680" cy="299880"/>
          </a:xfrm>
          <a:custGeom>
            <a:avLst/>
            <a:gdLst/>
            <a:ahLst/>
            <a:rect l="l" t="t" r="r" b="b"/>
            <a:pathLst>
              <a:path w="655" h="189">
                <a:moveTo>
                  <a:pt x="0" y="188"/>
                </a:moveTo>
                <a:lnTo>
                  <a:pt x="3" y="154"/>
                </a:lnTo>
                <a:lnTo>
                  <a:pt x="16" y="134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5" y="6"/>
                </a:lnTo>
                <a:lnTo>
                  <a:pt x="145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7"/>
                </a:lnTo>
                <a:lnTo>
                  <a:pt x="289" y="87"/>
                </a:lnTo>
                <a:lnTo>
                  <a:pt x="316" y="100"/>
                </a:lnTo>
                <a:lnTo>
                  <a:pt x="343" y="114"/>
                </a:lnTo>
                <a:lnTo>
                  <a:pt x="363" y="114"/>
                </a:lnTo>
                <a:lnTo>
                  <a:pt x="391" y="114"/>
                </a:lnTo>
                <a:lnTo>
                  <a:pt x="411" y="114"/>
                </a:lnTo>
                <a:lnTo>
                  <a:pt x="439" y="114"/>
                </a:lnTo>
                <a:lnTo>
                  <a:pt x="466" y="114"/>
                </a:lnTo>
                <a:lnTo>
                  <a:pt x="493" y="107"/>
                </a:lnTo>
                <a:lnTo>
                  <a:pt x="513" y="100"/>
                </a:lnTo>
                <a:lnTo>
                  <a:pt x="548" y="94"/>
                </a:lnTo>
                <a:lnTo>
                  <a:pt x="575" y="81"/>
                </a:lnTo>
                <a:lnTo>
                  <a:pt x="595" y="67"/>
                </a:lnTo>
                <a:lnTo>
                  <a:pt x="616" y="54"/>
                </a:lnTo>
                <a:lnTo>
                  <a:pt x="636" y="40"/>
                </a:lnTo>
                <a:lnTo>
                  <a:pt x="65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09240" y="3241800"/>
            <a:ext cx="132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ree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10160" y="147780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40280" y="1038240"/>
            <a:ext cx="509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ge Requests from High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90480" y="1798560"/>
            <a:ext cx="168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62440" y="4105440"/>
            <a:ext cx="1022400" cy="153720"/>
          </a:xfrm>
          <a:custGeom>
            <a:avLst/>
            <a:gdLst/>
            <a:ahLst/>
            <a:rect l="l" t="t" r="r" b="b"/>
            <a:pathLst>
              <a:path w="644" h="97">
                <a:moveTo>
                  <a:pt x="643" y="96"/>
                </a:moveTo>
                <a:lnTo>
                  <a:pt x="640" y="79"/>
                </a:lnTo>
                <a:lnTo>
                  <a:pt x="627" y="69"/>
                </a:lnTo>
                <a:lnTo>
                  <a:pt x="621" y="58"/>
                </a:lnTo>
                <a:lnTo>
                  <a:pt x="594" y="41"/>
                </a:lnTo>
                <a:lnTo>
                  <a:pt x="573" y="27"/>
                </a:lnTo>
                <a:lnTo>
                  <a:pt x="547" y="17"/>
                </a:lnTo>
                <a:lnTo>
                  <a:pt x="520" y="3"/>
                </a:lnTo>
                <a:lnTo>
                  <a:pt x="500" y="0"/>
                </a:lnTo>
                <a:lnTo>
                  <a:pt x="480" y="0"/>
                </a:lnTo>
                <a:lnTo>
                  <a:pt x="460" y="3"/>
                </a:lnTo>
                <a:lnTo>
                  <a:pt x="439" y="10"/>
                </a:lnTo>
                <a:lnTo>
                  <a:pt x="420" y="17"/>
                </a:lnTo>
                <a:lnTo>
                  <a:pt x="399" y="27"/>
                </a:lnTo>
                <a:lnTo>
                  <a:pt x="380" y="34"/>
                </a:lnTo>
                <a:lnTo>
                  <a:pt x="359" y="44"/>
                </a:lnTo>
                <a:lnTo>
                  <a:pt x="332" y="51"/>
                </a:lnTo>
                <a:lnTo>
                  <a:pt x="305" y="58"/>
                </a:lnTo>
                <a:lnTo>
                  <a:pt x="286" y="58"/>
                </a:lnTo>
                <a:lnTo>
                  <a:pt x="259" y="58"/>
                </a:lnTo>
                <a:lnTo>
                  <a:pt x="238" y="58"/>
                </a:lnTo>
                <a:lnTo>
                  <a:pt x="212" y="58"/>
                </a:lnTo>
                <a:lnTo>
                  <a:pt x="185" y="58"/>
                </a:lnTo>
                <a:lnTo>
                  <a:pt x="158" y="55"/>
                </a:lnTo>
                <a:lnTo>
                  <a:pt x="138" y="51"/>
                </a:lnTo>
                <a:lnTo>
                  <a:pt x="104" y="48"/>
                </a:lnTo>
                <a:lnTo>
                  <a:pt x="78" y="41"/>
                </a:lnTo>
                <a:lnTo>
                  <a:pt x="58" y="34"/>
                </a:lnTo>
                <a:lnTo>
                  <a:pt x="38" y="27"/>
                </a:lnTo>
                <a:lnTo>
                  <a:pt x="18" y="21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98200" y="4343400"/>
            <a:ext cx="278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choice of frame dic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by 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replacemen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10160" y="384012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79920" y="1201320"/>
            <a:ext cx="1627920" cy="1172520"/>
          </a:xfrm>
          <a:prstGeom prst="wedgeEllipseCallout">
            <a:avLst>
              <a:gd name="adj1" fmla="val -131513"/>
              <a:gd name="adj2" fmla="val -46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16120" y="3182400"/>
            <a:ext cx="1961280" cy="1172520"/>
          </a:xfrm>
          <a:prstGeom prst="wedgeEllipseCallout">
            <a:avLst>
              <a:gd name="adj1" fmla="val -110245"/>
              <a:gd name="adj2" fmla="val 2976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D73-961D-4D06-81AD-0FA191FE781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0480" y="1828800"/>
            <a:ext cx="8701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nages buffer poo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pool provides space for a limi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ages from d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to decide on page replacement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work well in OS, but not always in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he higher levels of the DBMS to assume th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data is in main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F06B-B9F0-42F1-8003-3573EA71A7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6880" y="1600200"/>
            <a:ext cx="7239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y not use the Operating System for the task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may be able to anticipat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ccess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Hence, may also be able to perform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fe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needs the ability to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to disk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or recovery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4F8-0D5C-4D97-BAF0-22960A2674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Data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database el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uple is represented as a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ble is a sequence of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4880" y="2590920"/>
            <a:ext cx="7858800" cy="23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d INT PRIMARY K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2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VARCHAR(20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r CHAR(10) REFERENCES Company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D04B-C619-4A78-AD14-2A25D5E0E5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 attributes inside the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 the records inside the blo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80A-8222-49D3-930F-BA34F23613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 Formats:  Fixed L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47242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about field types same for all records in a file; stored i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atalo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’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 requires scan of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te the importance of schema informa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185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 flipV="1">
            <a:off x="1828440" y="3276360"/>
            <a:ext cx="15228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25960" y="3863880"/>
            <a:ext cx="254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Base address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4252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6148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8572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8100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571640" y="3276360"/>
            <a:ext cx="15228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19400" y="3862440"/>
            <a:ext cx="289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Address = B+L1+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7F6-79D6-49A4-AD6F-0A50ECDE016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11:30, this room (in cla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, notebooks,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A5F7-DB04-417F-B1EA-F25F212D81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 H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205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4252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6148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8572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8100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9907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14300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44792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03480" y="13366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32080" y="17938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30280" y="354636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00120" y="4308480"/>
            <a:ext cx="57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he header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ma may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while new+old may co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s from different relations may co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6160" y="32004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CFF8-D539-47AE-B0D5-3384220ABE7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 Length Rec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234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4252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6148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8572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8100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9907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91440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143000" y="29710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87480" y="137160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head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3733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88800" y="4800600"/>
            <a:ext cx="587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the fixed fields first:  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variable length fields: F2, F3, 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 values take 2 byte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they take 0 bytes (when at the e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7617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440" y="1981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2895480"/>
            <a:ext cx="7596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8954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2" idx="3"/>
            <a:endCxn id="236" idx="3"/>
          </p:cNvCxnSpPr>
          <p:nvPr/>
        </p:nvCxnSpPr>
        <p:spPr>
          <a:xfrm flipH="1" flipV="1" rot="5400000">
            <a:off x="3969000" y="612360"/>
            <a:ext cx="65520" cy="4631040"/>
          </a:xfrm>
          <a:prstGeom prst="bentConnector4">
            <a:avLst>
              <a:gd name="adj1" fmla="val -830939"/>
              <a:gd name="adj2" fmla="val 1003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endCxn id="235" idx="3"/>
          </p:cNvCxnSpPr>
          <p:nvPr/>
        </p:nvCxnSpPr>
        <p:spPr>
          <a:xfrm flipV="1">
            <a:off x="1424160" y="2895120"/>
            <a:ext cx="3142080" cy="65520"/>
          </a:xfrm>
          <a:prstGeom prst="bentConnector5">
            <a:avLst>
              <a:gd name="adj1" fmla="val 550"/>
              <a:gd name="adj2" fmla="val -1517679"/>
              <a:gd name="adj3" fmla="val 995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EA2-CB1E-49DC-AC82-753FE3E3EB2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s With Repeating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268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4252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6148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8572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907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91440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143000" y="29710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87480" y="137160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head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3733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765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3657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47920" y="2895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38862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57200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40080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617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05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8660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915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08624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9152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20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739116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201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9246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6201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3888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7240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91080" y="1981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18520" y="5375160"/>
            <a:ext cx="661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e.g. in Object Relational system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fancy representations of many-many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2092-50C7-433B-B1D2-DE102437819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Records in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s have fixed size (typically 4k – 8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3429000"/>
            <a:ext cx="7467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57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238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28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337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33720" y="3429000"/>
            <a:ext cx="213336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886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48769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525780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6386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81532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257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85800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8153280" y="4343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13960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7256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5360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16400" y="286056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9784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17E-530C-41BE-B58D-6316D7D1FE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nning Records Across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records are very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even medium size: saves space in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14400" y="3429000"/>
            <a:ext cx="3581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3429000"/>
            <a:ext cx="3505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38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34290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4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244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43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581280" y="3429000"/>
            <a:ext cx="91440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24680" y="3429000"/>
            <a:ext cx="38124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7000" y="27050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01320" y="27432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14760" y="3546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57760" y="3546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4868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91680" y="3546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6668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62720" y="34290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19520" y="47242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486400" y="2438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43200" y="2438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4320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4864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7AD7-B7BD-44C7-858B-1FBA071111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larg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ed by modern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mages, sound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: attempt to cluster block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B = character large obj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only restricted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A7AF-729A-436A-AFA8-DBB229CD51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Inse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unsorted: add it to the end (eas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sor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space in the right bloc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: we are lucky, store it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space in a neighboring bloc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1-2 blocks to the left/right, shift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ything else fails, creat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flow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E9B1-5A11-47F1-AE58-C7C984F0C0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flow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while the file starts being dominated by overflow blocks: time to reorgan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14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00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486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900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76720" y="3809880"/>
            <a:ext cx="16761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52680" y="2819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DF81-8AB5-4495-835A-9CCD7BE84A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in block, shift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be be able to eliminate an overflow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never really eliminate the record, because others ma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a tombstone instead (a NULL rec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8560" y="5942880"/>
            <a:ext cx="5870880" cy="509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record in an RDBM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538B-0400-4FF9-AE72-9403A8DDA06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w record is shorter than previous, eas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 is longer, need to shift records, create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B8FB-0A31-4824-B72D-EC9234CAD43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/Xpath/X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4D52-54A2-4062-A9A0-B2681C748E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lock and each record have a physical address that consist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ylinder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ck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ck within the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records: an offset in the block’s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11480" y="6019200"/>
            <a:ext cx="4511160" cy="509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eview what a pointer in C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16640" y="145080"/>
            <a:ext cx="2567160" cy="1692360"/>
          </a:xfrm>
          <a:prstGeom prst="wedgeEllipseCallout">
            <a:avLst>
              <a:gd name="adj1" fmla="val -74337"/>
              <a:gd name="adj2" fmla="val 1161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o w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h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DBM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D04E-A63A-4AAC-BF3A-FA4C5166C8C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address: a string of bytes (10-1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lexible: can blocks/records a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need translation t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523880" y="3962520"/>
          <a:ext cx="5715000" cy="207000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ical 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cal 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A95B-A12E-4094-9D35-2CFBB7A8813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Memory Add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block is read in main memory, it receives a main memory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another translation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523880" y="4114800"/>
          <a:ext cx="5715000" cy="207000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y 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ical 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05C-AC9B-4F64-8126-D7318CB15A6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: Pointer Swizz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the process of replacing a physical/logical pointer with a main memory poi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need translation table, but subsequent references are f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B35F-8E2C-46C1-A54B-A34FA2E96AC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er Swizz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00200" y="2590920"/>
            <a:ext cx="1752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91120" y="2590920"/>
            <a:ext cx="1752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72120" y="270504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10000" y="270504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05240" y="270504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6840" y="27082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65960" y="20224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56880" y="194616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3000" y="51055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67080" y="4800600"/>
            <a:ext cx="17528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48440" y="491508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86320" y="491508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67280" y="3657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78600" y="38512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749840" y="2502000"/>
            <a:ext cx="584280" cy="317520"/>
          </a:xfrm>
          <a:custGeom>
            <a:avLst/>
            <a:gdLst/>
            <a:ahLst/>
            <a:rect l="l" t="t" r="r" b="b"/>
            <a:pathLst>
              <a:path w="368" h="200">
                <a:moveTo>
                  <a:pt x="368" y="200"/>
                </a:moveTo>
                <a:cubicBezTo>
                  <a:pt x="324" y="108"/>
                  <a:pt x="280" y="16"/>
                  <a:pt x="224" y="8"/>
                </a:cubicBezTo>
                <a:cubicBezTo>
                  <a:pt x="168" y="0"/>
                  <a:pt x="64" y="120"/>
                  <a:pt x="32" y="152"/>
                </a:cubicBezTo>
                <a:cubicBezTo>
                  <a:pt x="0" y="184"/>
                  <a:pt x="16" y="192"/>
                  <a:pt x="32" y="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4600" y="3276720"/>
            <a:ext cx="2819520" cy="533160"/>
          </a:xfrm>
          <a:custGeom>
            <a:avLst/>
            <a:gdLst/>
            <a:ahLst/>
            <a:rect l="l" t="t" r="r" b="b"/>
            <a:pathLst>
              <a:path w="1776" h="336">
                <a:moveTo>
                  <a:pt x="1776" y="0"/>
                </a:moveTo>
                <a:cubicBezTo>
                  <a:pt x="1704" y="120"/>
                  <a:pt x="1632" y="240"/>
                  <a:pt x="1392" y="288"/>
                </a:cubicBezTo>
                <a:cubicBezTo>
                  <a:pt x="1152" y="336"/>
                  <a:pt x="568" y="328"/>
                  <a:pt x="336" y="288"/>
                </a:cubicBezTo>
                <a:cubicBezTo>
                  <a:pt x="104" y="248"/>
                  <a:pt x="52" y="1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4724280"/>
            <a:ext cx="583920" cy="317520"/>
          </a:xfrm>
          <a:custGeom>
            <a:avLst/>
            <a:gdLst/>
            <a:ahLst/>
            <a:rect l="l" t="t" r="r" b="b"/>
            <a:pathLst>
              <a:path w="368" h="200">
                <a:moveTo>
                  <a:pt x="368" y="200"/>
                </a:moveTo>
                <a:cubicBezTo>
                  <a:pt x="324" y="108"/>
                  <a:pt x="280" y="16"/>
                  <a:pt x="224" y="8"/>
                </a:cubicBezTo>
                <a:cubicBezTo>
                  <a:pt x="168" y="0"/>
                  <a:pt x="64" y="120"/>
                  <a:pt x="32" y="152"/>
                </a:cubicBezTo>
                <a:cubicBezTo>
                  <a:pt x="0" y="184"/>
                  <a:pt x="16" y="192"/>
                  <a:pt x="32" y="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14600" y="3429000"/>
            <a:ext cx="2819520" cy="2171880"/>
          </a:xfrm>
          <a:custGeom>
            <a:avLst/>
            <a:gdLst/>
            <a:ahLst/>
            <a:rect l="l" t="t" r="r" b="b"/>
            <a:pathLst>
              <a:path w="1776" h="1368">
                <a:moveTo>
                  <a:pt x="1776" y="1296"/>
                </a:moveTo>
                <a:cubicBezTo>
                  <a:pt x="1348" y="1332"/>
                  <a:pt x="920" y="1368"/>
                  <a:pt x="624" y="1152"/>
                </a:cubicBezTo>
                <a:cubicBezTo>
                  <a:pt x="328" y="936"/>
                  <a:pt x="164" y="46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19720" y="42670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zz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90920" y="533412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wizz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19320" y="1905120"/>
            <a:ext cx="5867280" cy="1981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19320" y="4343400"/>
            <a:ext cx="5867280" cy="1981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B2D-81CB-49AF-8DD3-C8F97268724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er Swizz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utoma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en block is read in main memory, swizzle all pointers in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 dem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wizzle only when user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 swizz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lways use translation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33E6-C246-40FD-8E0F-43A5FBA0829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er Swizz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blocks return to disk: pointers need unswizz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ger: someone else may point to this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nned blocks: we don’t allow it to return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a list of references to this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AA01-E15D-42E3-887E-C4797F53914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basics: SFW, GROUP-BY, HAVING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re two queries equivalen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ng sub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ware of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/delete, especially more than one 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80B7-06CC-43D2-8433-7623C164BC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design (don’t make stupid mistak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lation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-many v.s. many-one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tle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6C6E-FF92-4B90-BB7A-30F01F42C1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definition o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a given table satisfy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i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, 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, does it follow that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?  Why ?  Why no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closure: X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BCNF and 3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4304-7CEA-467C-B9C1-EB078776D0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 in XPath and X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what sense is XML “semistructured”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relations to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ways to store XM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lude the XML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2EF-59B1-4A90-8C10-CE898416A4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prep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lectur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from the text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the home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you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der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FAF-3BAC-4F85-8B3E-AC5B759DC4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s 11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d reading: entire chapter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data elements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239C-BCE2-4221-832B-7B10931EF9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10-31T05:39:07Z</dcterms:modified>
  <cp:revision>332</cp:revision>
  <dc:subject/>
  <dc:title>Lecture 09:</dc:title>
</cp:coreProperties>
</file>