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951C3-9B28-4CD7-BDB4-D155CC96C7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90A12-D3AA-4E41-9B0B-C586D2C9EA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we allow SELECT count(*) FROM Patients WHERE Patient.disease = %d,  but only when the count is &gt; 10.  Suppose that there are &gt; 10 patients with flue, and the user knows that.  Adopting an instance-independent definition, this query is invalid; but with an instance-dependent definition the query is val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E837-B80D-4CC0-A17D-BE090454F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F7C2-1845-4C9D-93DE-C7FE6222A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DFA8-D0ED-441A-AAC3-07EB03C2B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7764-70BE-4635-8EDF-EE48A4E1F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EAF2-AFDD-4A89-9F0A-B3399047D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A9B5-3E9A-426B-8C3F-449380603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D369-4DD7-4882-94B3-49F07FD61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D08E-EDDF-4233-A54A-D938E4112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2B64-A556-46DC-8B3A-21AEDA0A8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DC13-6857-4F35-9DA4-91E0EBEB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6836-D573-4D3B-A999-3E1839D2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8C41-7546-44DF-8D48-AEAE15A7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5A75F-D9BD-4CAA-A812-B114316F13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day, October 28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EC0C-4D14-4CD6-878D-72B3A04D3CD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ews and 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04920" y="2362320"/>
          <a:ext cx="4572000" cy="227808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l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us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0.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3.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5" name=""/>
          <p:cNvGrpSpPr/>
          <p:nvPr/>
        </p:nvGrpSpPr>
        <p:grpSpPr>
          <a:xfrm>
            <a:off x="2064600" y="4175640"/>
            <a:ext cx="6772680" cy="2525400"/>
            <a:chOff x="2064600" y="4175640"/>
            <a:chExt cx="6772680" cy="2525400"/>
          </a:xfrm>
        </p:grpSpPr>
        <p:sp>
          <p:nvSpPr>
            <p:cNvPr id="86" name=""/>
            <p:cNvSpPr/>
            <p:nvPr/>
          </p:nvSpPr>
          <p:spPr>
            <a:xfrm>
              <a:off x="2064600" y="4778280"/>
              <a:ext cx="6705000" cy="192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REATE VIEW BadCreditCustom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LECT 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M Custom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Balance &lt;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RANT SELECT ON BadCreditCustomers TO Joh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110720" y="4175640"/>
              <a:ext cx="1726560" cy="522360"/>
            </a:xfrm>
            <a:prstGeom prst="wedgeEllipseCallout">
              <a:avLst>
                <a:gd name="adj1" fmla="val -20694"/>
                <a:gd name="adj2" fmla="val 162944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avid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say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112320" y="516960"/>
            <a:ext cx="2040480" cy="566640"/>
          </a:xfrm>
          <a:prstGeom prst="wedgeEllipseCallout">
            <a:avLst>
              <a:gd name="adj1" fmla="val -5814"/>
              <a:gd name="adj2" fmla="val 188601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v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w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7440" y="1828800"/>
            <a:ext cx="193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stom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11960" y="1505520"/>
            <a:ext cx="1930320" cy="1866240"/>
          </a:xfrm>
          <a:prstGeom prst="wedgeEllipseCallout">
            <a:avLst>
              <a:gd name="adj1" fmla="val -79027"/>
              <a:gd name="adj2" fmla="val 3152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oh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ed t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only &lt;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la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8476-AA2A-495D-ACAD-A0191B98DFE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ews and 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customer should see only her/his rec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43600" y="2514600"/>
            <a:ext cx="3948120" cy="161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VIEW CustomerM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*  FROM Customer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WHERE name = ‘Mary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NT SELEC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CustomerMary TO M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8680" y="5486400"/>
            <a:ext cx="4030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n’t sc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ow-leve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 control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8600" y="2598840"/>
          <a:ext cx="4572000" cy="227808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l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us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0.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3.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7282800" y="364680"/>
            <a:ext cx="1726560" cy="523080"/>
          </a:xfrm>
          <a:prstGeom prst="wedgeEllipseCallout">
            <a:avLst>
              <a:gd name="adj1" fmla="val -18731"/>
              <a:gd name="adj2" fmla="val 33376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vi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4343400"/>
            <a:ext cx="3948120" cy="161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VIEW CustomerS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*  FROM Customer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WHERE name = ‘Sue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NT SELEC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CustomerSue TO S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629400" y="5997600"/>
            <a:ext cx="89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 .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123C-5EBD-4A37-B06A-29AD8845B99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ok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1280" y="2666880"/>
            <a:ext cx="86572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KE   [GRANT OPTION FOR]   privileg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ON object FROM users  {  RESTRICT  |   CASCADE 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3640" y="4191120"/>
            <a:ext cx="25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tor say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9800" y="4876920"/>
            <a:ext cx="78678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KE SELECT ON Customers  FRO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v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SC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2200" y="5867280"/>
            <a:ext cx="70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oh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ses SELECT privileges on BadCredit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6CA9-93BF-4A8C-9A49-8062945F401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o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1320" y="1905120"/>
            <a:ext cx="571284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e:  GRANT [….]  TO Art  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:  GRANT [….]  TO Bob 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b: GRANT [….]  TO Art  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e:  GRANT [….]  TO Cal  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:  GRANT [….]  TO Bob  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e:   REVOKE [….] FROM Art CASC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51120" y="1351440"/>
            <a:ext cx="3437640" cy="1692360"/>
          </a:xfrm>
          <a:prstGeom prst="wedgeEllipseCallout">
            <a:avLst>
              <a:gd name="adj1" fmla="val -58041"/>
              <a:gd name="adj2" fmla="val 4923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privileg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object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T O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31280" y="492444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appens 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BC67-5CE6-44F3-AEFB-6CD078A78D6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o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828800" y="19810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350532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15080" y="350532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50292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915080" y="50292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09" idx="4"/>
            <a:endCxn id="110" idx="0"/>
          </p:cNvCxnSpPr>
          <p:nvPr/>
        </p:nvCxnSpPr>
        <p:spPr>
          <a:xfrm>
            <a:off x="2285640" y="2895480"/>
            <a:ext cx="1080" cy="610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0" idx="6"/>
            <a:endCxn id="111" idx="2"/>
          </p:cNvCxnSpPr>
          <p:nvPr/>
        </p:nvCxnSpPr>
        <p:spPr>
          <a:xfrm>
            <a:off x="2742840" y="3962160"/>
            <a:ext cx="2172600" cy="10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</p:cxnSp>
      <p:cxnSp>
        <p:nvCxnSpPr>
          <p:cNvPr id="116" name=""/>
          <p:cNvCxnSpPr>
            <a:stCxn id="110" idx="4"/>
            <a:endCxn id="112" idx="0"/>
          </p:cNvCxnSpPr>
          <p:nvPr/>
        </p:nvCxnSpPr>
        <p:spPr>
          <a:xfrm>
            <a:off x="2285640" y="441936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12" idx="6"/>
            <a:endCxn id="113" idx="2"/>
          </p:cNvCxnSpPr>
          <p:nvPr/>
        </p:nvCxnSpPr>
        <p:spPr>
          <a:xfrm>
            <a:off x="2742840" y="5486040"/>
            <a:ext cx="2172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11" idx="5"/>
            <a:endCxn id="113" idx="7"/>
          </p:cNvCxnSpPr>
          <p:nvPr/>
        </p:nvCxnSpPr>
        <p:spPr>
          <a:xfrm>
            <a:off x="5695560" y="4286160"/>
            <a:ext cx="1080" cy="87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3" idx="1"/>
            <a:endCxn id="111" idx="3"/>
          </p:cNvCxnSpPr>
          <p:nvPr/>
        </p:nvCxnSpPr>
        <p:spPr>
          <a:xfrm flipV="1">
            <a:off x="5047920" y="4285800"/>
            <a:ext cx="1080" cy="87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1801800" y="2879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81720" y="3438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51720" y="4378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748400" y="4479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30600" y="441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659400" y="5486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76920" y="2133720"/>
            <a:ext cx="1218960" cy="761760"/>
          </a:xfrm>
          <a:prstGeom prst="wedgeEllipseCallout">
            <a:avLst>
              <a:gd name="adj1" fmla="val -115236"/>
              <a:gd name="adj2" fmla="val 1370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90600" y="6172200"/>
            <a:ext cx="60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rding to SQL everyone keeps the privi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F1B0-4DED-49CC-8E1A-56652786AA2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SQL 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row level access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ble creator owns the data: that’s unfair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3520" y="48006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spectacular failu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30% assign privileges to users/ro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n to protect entire tables, not colum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3000" y="3943440"/>
            <a:ext cx="878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 control = great success story of the DB community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4B95-D2BE-4A6F-9DF3-A2FD638E0D70}" type="slidenum">
              <a:t>15</a:t>
            </a:fld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policies in middleware: slow, error pr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P has 10**4 t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TE over 10**5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brokerage house has 80,000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US government entity thinks that it has 350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day the database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the center of the policy administration unive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8880" y="6248520"/>
            <a:ext cx="2738160" cy="368280"/>
          </a:xfrm>
          <a:prstGeom prst="rect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Rosenthal&amp;Winslett’2004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E536-8AF4-4C3B-9A95-84CD30CB7FCD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Famous Atta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 inj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eeney’s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A72D-31E0-4B79-A1A2-996EDCC1BD8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1219320" y="4673160"/>
            <a:ext cx="6781680" cy="1191240"/>
            <a:chOff x="1219320" y="4673160"/>
            <a:chExt cx="6781680" cy="1191240"/>
          </a:xfrm>
        </p:grpSpPr>
        <p:sp>
          <p:nvSpPr>
            <p:cNvPr id="138" name=""/>
            <p:cNvSpPr/>
            <p:nvPr/>
          </p:nvSpPr>
          <p:spPr>
            <a:xfrm>
              <a:off x="1219320" y="4673160"/>
              <a:ext cx="6781680" cy="1191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arch claims by: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67080" y="5045040"/>
              <a:ext cx="2952720" cy="46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Inj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4480" y="1600200"/>
            <a:ext cx="782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health insurance company lets you see the claims onli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4320" y="4049640"/>
            <a:ext cx="41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search through the claim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272840" y="5054760"/>
            <a:ext cx="2940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. Lee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6120" y="2666880"/>
            <a:ext cx="15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log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578400" y="2603520"/>
            <a:ext cx="3492360" cy="1191240"/>
            <a:chOff x="3578400" y="2603520"/>
            <a:chExt cx="3492360" cy="1191240"/>
          </a:xfrm>
        </p:grpSpPr>
        <p:sp>
          <p:nvSpPr>
            <p:cNvPr id="146" name=""/>
            <p:cNvSpPr/>
            <p:nvPr/>
          </p:nvSpPr>
          <p:spPr>
            <a:xfrm>
              <a:off x="3578400" y="2603520"/>
              <a:ext cx="3492360" cy="1191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ser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assword: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87240" y="2666880"/>
              <a:ext cx="14349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ed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87960" y="3276720"/>
              <a:ext cx="14000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*******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30040" y="6095880"/>
            <a:ext cx="86299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…FROM…WHERE doctor=‘Dr. Lee’ and patientID=‘fred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760" y="76320"/>
            <a:ext cx="4571640" cy="368280"/>
          </a:xfrm>
          <a:prstGeom prst="rect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Chris Anley,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dvanced SQL Injection In SQ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5105520" y="2666880"/>
            <a:ext cx="3595680" cy="3929040"/>
            <a:chOff x="5105520" y="2666880"/>
            <a:chExt cx="3595680" cy="3929040"/>
          </a:xfrm>
        </p:grpSpPr>
        <p:sp>
          <p:nvSpPr>
            <p:cNvPr id="152" name=""/>
            <p:cNvSpPr/>
            <p:nvPr/>
          </p:nvSpPr>
          <p:spPr>
            <a:xfrm>
              <a:off x="5105520" y="2666880"/>
              <a:ext cx="914400" cy="457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167680" y="6138720"/>
              <a:ext cx="533520" cy="457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4" name=""/>
            <p:cNvCxnSpPr>
              <a:stCxn id="152" idx="4"/>
              <a:endCxn id="153" idx="1"/>
            </p:cNvCxnSpPr>
            <p:nvPr/>
          </p:nvCxnSpPr>
          <p:spPr>
            <a:xfrm>
              <a:off x="5562720" y="3137040"/>
              <a:ext cx="2683440" cy="305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55" name=""/>
          <p:cNvGrpSpPr/>
          <p:nvPr/>
        </p:nvGrpSpPr>
        <p:grpSpPr>
          <a:xfrm>
            <a:off x="4282920" y="4976640"/>
            <a:ext cx="1779840" cy="1652760"/>
            <a:chOff x="4282920" y="4976640"/>
            <a:chExt cx="1779840" cy="1652760"/>
          </a:xfrm>
        </p:grpSpPr>
        <p:sp>
          <p:nvSpPr>
            <p:cNvPr id="156" name=""/>
            <p:cNvSpPr/>
            <p:nvPr/>
          </p:nvSpPr>
          <p:spPr>
            <a:xfrm>
              <a:off x="4282920" y="4976640"/>
              <a:ext cx="1067040" cy="6098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48360" y="6095880"/>
              <a:ext cx="914400" cy="53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6" idx="5"/>
              <a:endCxn id="157" idx="0"/>
            </p:cNvCxnSpPr>
            <p:nvPr/>
          </p:nvCxnSpPr>
          <p:spPr>
            <a:xfrm>
              <a:off x="5194440" y="5510160"/>
              <a:ext cx="411840" cy="573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7D11-792E-48C7-AE58-A97220060DD4}" type="slidenum">
              <a:t>18</a:t>
            </a:fld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75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Inj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1600200"/>
            <a:ext cx="17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try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311200"/>
            <a:ext cx="7619760" cy="119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claims by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78160" y="2692800"/>
            <a:ext cx="48625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. Lee’   OR patientID = ‘suciu’;    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32800" y="4343400"/>
            <a:ext cx="7849080" cy="1902240"/>
            <a:chOff x="532800" y="4343400"/>
            <a:chExt cx="7849080" cy="1902240"/>
          </a:xfrm>
        </p:grpSpPr>
        <p:sp>
          <p:nvSpPr>
            <p:cNvPr id="164" name=""/>
            <p:cNvSpPr/>
            <p:nvPr/>
          </p:nvSpPr>
          <p:spPr>
            <a:xfrm>
              <a:off x="532800" y="4343400"/>
              <a:ext cx="101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etter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62120" y="5054400"/>
              <a:ext cx="7619760" cy="1191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arch claims by: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281760" y="5413680"/>
              <a:ext cx="35456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r. Lee’      OR   1 = 1;    -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213120" y="3782880"/>
            <a:ext cx="853056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WHERE doctor=‘Dr. Lee’  OR patientID=‘suciu’;      --’ and patientID=‘fred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B05C-6566-4FB5-974B-90219E4818E9}" type="slidenum">
              <a:t>19</a:t>
            </a:fld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 Security – 8.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famous atta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new tr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161A-BE9E-499C-BED3-162A82FE0FE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Inj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3120" y="1600200"/>
            <a:ext cx="351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you’re done, do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2120" y="2593800"/>
            <a:ext cx="7772400" cy="119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claims by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81040" y="2975040"/>
            <a:ext cx="4880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. Lee’;    DROP TABLE Patients; 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6948-7BAB-4254-9595-2B767187A5C9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Inj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BMS works perfectly.  So why is SQL injection possible so often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ck answ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or programming:  use stored procedures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eper answ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e policy implementation from apps to D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5ADB-1296-456D-9AEF-24A04805D11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tanya Sweeney’s Fi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ssachusetts, the Group Insurance Commission (GIC) is responsible for purchasing health insurance for state employ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C has to publish the dat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57440" y="5105520"/>
            <a:ext cx="7372440" cy="532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C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ip, dob, s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diagnosis, procedure,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91DE-F60C-4430-868E-4CD84F5DA4CF}" type="slidenum">
              <a:t>22</a:t>
            </a:fld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tanya Sweeney’s Fi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eeney paid $20 and bought the voter registration list for Cambridge Massachuset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57440" y="4724280"/>
            <a:ext cx="7372440" cy="1072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C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ip, dob, s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diagnosis, procedure,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TER(name, party, ...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ip, dob, s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2A37-FC12-4AE8-BFE9-D0D4F21D36DE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tanya Sweeney’s Fi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27428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iam Weld (former governor) lives in Cambridge, hence is in VO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 people in VOTER share hi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3 of them were man (sam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ld was the only one in tha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eeney learned Weld’s medical records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160" y="2057400"/>
            <a:ext cx="230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ip, dob, s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07FA-5E28-4B2B-BD77-CF97D75641AE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tanya Sweeney’s Fi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systems worked as specified, yet an important data has leak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we protect against tha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77520" y="5257800"/>
            <a:ext cx="735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ome of today’s research in data security address breaches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at happen even if all systems work correc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7BD2-EC33-4850-B3F9-A53F55779B14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n Atta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inje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rrectness probl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ity policy implemented poorly in the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eeney’s fin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yond correctn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kage occurred when all systems work as specif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B63B-D06D-4E81-98D5-2A1331090E51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Novel Techni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-anonymity, information leak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ow-level access contr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8D04-C1F8-43C6-822D-235CE73A104A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914400" y="2895480"/>
          <a:ext cx="6705720" cy="25876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r-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ys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u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atr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r-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m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s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914400" y="2895480"/>
          <a:ext cx="6705720" cy="25876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-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r-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-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-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r-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-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ation Leakag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-Anonym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74040" y="1708200"/>
            <a:ext cx="681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each tuple is equal to at least k-1 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nymizing: through suppression and gener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9080" y="5756400"/>
            <a:ext cx="642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:  NP-complete for suppression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ions exists; but work poorly in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45800" y="76320"/>
            <a:ext cx="4280400" cy="337320"/>
          </a:xfrm>
          <a:prstGeom prst="rect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Samarati&amp;Sweeney’98, Meyerson&amp;Williams’04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7620120" y="2895480"/>
          <a:ext cx="1447560" cy="2592360"/>
        </p:xfrm>
        <a:graphic>
          <a:graphicData uri="http://schemas.openxmlformats.org/drawingml/2006/table">
            <a:tbl>
              <a:tblPr/>
              <a:tblGrid>
                <a:gridCol w="144756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e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ase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F63E-AD1D-4D9D-B6C9-1F51B4810A81}" type="slidenum">
              <a:t>28</a:t>
            </a:fld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ation Leakag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-view 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549360" y="2949480"/>
          <a:ext cx="7543800" cy="10350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0574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cret Que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ew(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losure 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(nam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(name,phon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549360" y="3986280"/>
          <a:ext cx="7543800" cy="9446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05740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(name,phon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1(name,dept)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2(dept,phon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549360" y="4930920"/>
          <a:ext cx="7543800" cy="5173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0574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(nam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(dep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549360" y="5456160"/>
          <a:ext cx="7543800" cy="9446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05740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(name)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ere dept=‘HR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(name)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ere dept=‘RD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"/>
          <p:cNvSpPr/>
          <p:nvPr/>
        </p:nvSpPr>
        <p:spPr>
          <a:xfrm>
            <a:off x="1535400" y="1981080"/>
            <a:ext cx="6511320" cy="532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BLE Employee(name, dept, pho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840" y="198108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da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645600" y="348300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o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722280" y="416880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bi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721920" y="4930920"/>
            <a:ext cx="73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i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646320" y="569268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5160" y="76320"/>
            <a:ext cx="4918680" cy="368280"/>
          </a:xfrm>
          <a:prstGeom prst="rect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iklau&amp;S’04, Miklau&amp;Dalvi&amp;S’05,Yang&amp;Li’04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F942-F72C-43BB-9062-6D396000908C}" type="slidenum">
              <a:t>29</a:t>
            </a:fld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onary Access Control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3560" y="2666880"/>
            <a:ext cx="85932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T privileges ON object TO users [WITH GRANT OPTION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95280" y="3886200"/>
            <a:ext cx="5574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vileges =  SELECT  |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INSERT(column-name)  |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UPDATE(column-name) |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DELETE |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REFERENCES(column-nam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= table  |  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E370-6F72-49EA-BA8C-55C07B1E7A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e-grained Access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ol access at the tuple lev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cy specification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A596-68D8-4F3D-B879-2F44FA43950A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icy Specification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95160" y="2666880"/>
            <a:ext cx="7710840" cy="1922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AUTHORIZATION VIEW PatientsForDoctors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Patient.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Patient, Doct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WHERE Patient.doctorID = Doctor.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   Doctor.login =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%current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90480" y="5239800"/>
            <a:ext cx="2161800" cy="1172520"/>
          </a:xfrm>
          <a:prstGeom prst="wedgeEllipseCallout">
            <a:avLst>
              <a:gd name="adj1" fmla="val 46967"/>
              <a:gd name="adj2" fmla="val -9459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x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0720" y="1676520"/>
            <a:ext cx="69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tandard, but usually based on parameterized vie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16FC-88FC-4602-84E7-98D0AEA477E4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10040" y="1706400"/>
            <a:ext cx="446004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Patient.name, Patient.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Pat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Patient.disease = ‘flu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59920" y="4168800"/>
            <a:ext cx="4903560" cy="1922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Patient.name, Patient.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Patient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Do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Patient.disease = ‘flu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Patient.doctorID = Doctor.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d Patient.login = %current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67080" y="3200400"/>
            <a:ext cx="457200" cy="762120"/>
          </a:xfrm>
          <a:prstGeom prst="downArrow">
            <a:avLst>
              <a:gd name="adj1" fmla="val 50000"/>
              <a:gd name="adj2" fmla="val 416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391520" y="48006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Ora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C161-A9EC-4C9C-8D16-F074B5FF8AA3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Seman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ruman Model = filter seman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form re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PT all que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WRITE que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times misleading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on-Truman model = deny seman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ject que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PT or REJECT que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query UNCHAN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define multiple security views for a 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5520" y="6400800"/>
            <a:ext cx="1134720" cy="368280"/>
          </a:xfrm>
          <a:prstGeom prst="rect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Rizvi’04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515920" y="2514600"/>
            <a:ext cx="3388680" cy="1373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count(*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Pati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disease=‘flu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F09C-3164-4629-B1A8-C8C27EE6B64B}" type="slidenum">
              <a:t>33</a:t>
            </a:fld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n Information Disclos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heoretical resear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iting new connections between databases and information theory, probability theory, cryptograp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pplication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years a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95160" y="3581280"/>
            <a:ext cx="2561040" cy="368280"/>
          </a:xfrm>
          <a:prstGeom prst="rect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adi&amp;Warinschi’05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B9CA-11D4-4BAA-A3D3-38F9DD9F9616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Fine Grained Access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nd in industry: label-based 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iller app: application ho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pendent franchises share a single table at headquarters (e.g., Holiday In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 runs under requester’s label, cannot see other lab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dquarters runs Read queries over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acle’s Virtual Private Data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344280" y="6442200"/>
            <a:ext cx="2738160" cy="368280"/>
          </a:xfrm>
          <a:prstGeom prst="rect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Rosenthal&amp;Winslett’2004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C2FA-9CC9-4525-8B29-9186F5B73551}" type="slidenum">
              <a:t>35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5360" y="2057400"/>
            <a:ext cx="87091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NT INSERT, DELETE ON Customers TO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upp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GRANT O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7000" y="2819520"/>
            <a:ext cx="347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ies allowed to Yupp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3680" y="5181480"/>
            <a:ext cx="33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ies denied to Yupp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5560" y="3352680"/>
            <a:ext cx="4953960" cy="161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 INTO Customers(cid, name, address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VALUES(32940, ‘Joe Blow’, ‘Seattle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ETE Custo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LastPurchaseDate &lt; 19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49400" y="5562720"/>
            <a:ext cx="309924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Customer.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sto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name = ‘Joe Blow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2D4F-5486-4B82-B2FD-02DA529DCD8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9320" y="2590920"/>
            <a:ext cx="49860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NT SELECT ON Customers TO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cha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3886200"/>
            <a:ext cx="729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cha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SELECT, but not INSERT or DE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2DAD-C412-41C3-917D-589656CBA96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6440" y="2590920"/>
            <a:ext cx="77994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NT SELECT ON Customers TO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chae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GRANT O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4880" y="3657600"/>
            <a:ext cx="6144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cha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say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T SELECT ON Customers T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up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upp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SELECT on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DD66-DAD3-48A8-9B32-7235F7FFAFD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9800" y="2514600"/>
            <a:ext cx="52462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NT UPDATE (price)  ON Product TO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a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1400" y="4114800"/>
            <a:ext cx="787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a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pdate, but only Product.price, but not Product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B52C-8468-4D73-99DA-B503FB743D7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97920" y="4525920"/>
            <a:ext cx="6738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T REFERENCES (cid)  ON Customer T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46000" y="1889280"/>
            <a:ext cx="711036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er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name, address, balance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ers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id, amount)            cid= foreign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89280" y="5334120"/>
            <a:ext cx="521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INSERT tuples into O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3276720"/>
            <a:ext cx="561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s INSERT/UPDATE rights to Or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HE CAN’T INSERT ! (why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F173-6658-472B-94BB-E12551AADFB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ews and 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1760040" y="4153680"/>
            <a:ext cx="7163280" cy="2584800"/>
            <a:chOff x="1760040" y="4153680"/>
            <a:chExt cx="7163280" cy="2584800"/>
          </a:xfrm>
        </p:grpSpPr>
        <p:sp>
          <p:nvSpPr>
            <p:cNvPr id="77" name=""/>
            <p:cNvSpPr/>
            <p:nvPr/>
          </p:nvSpPr>
          <p:spPr>
            <a:xfrm>
              <a:off x="1760040" y="5181480"/>
              <a:ext cx="6214320" cy="155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REATE VIEW PublicCustom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LECT Name, Addr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M Custom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RANT SELECT ON PublicCustomers TO Fr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25760" y="4153680"/>
              <a:ext cx="1897560" cy="566640"/>
            </a:xfrm>
            <a:prstGeom prst="wedgeEllipseCallout">
              <a:avLst>
                <a:gd name="adj1" fmla="val -83587"/>
                <a:gd name="adj2" fmla="val 173171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avi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say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9" name=""/>
          <p:cNvGraphicFramePr/>
          <p:nvPr/>
        </p:nvGraphicFramePr>
        <p:xfrm>
          <a:off x="2286000" y="2666880"/>
          <a:ext cx="4572000" cy="227808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l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us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0.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3.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329760" y="1105920"/>
            <a:ext cx="2040480" cy="566640"/>
          </a:xfrm>
          <a:prstGeom prst="wedgeEllipseCallout">
            <a:avLst>
              <a:gd name="adj1" fmla="val 41263"/>
              <a:gd name="adj2" fmla="val 14885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v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w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12200" y="2009880"/>
            <a:ext cx="193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stom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051680" y="1436400"/>
            <a:ext cx="1884600" cy="1432800"/>
          </a:xfrm>
          <a:prstGeom prst="wedgeEllipseCallout">
            <a:avLst>
              <a:gd name="adj1" fmla="val -71731"/>
              <a:gd name="adj2" fmla="val 93504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no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ed t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th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C467-0F03-42A1-9921-699AD546CF6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5-10-28T03:48:47Z</dcterms:modified>
  <cp:revision>370</cp:revision>
  <dc:subject/>
  <dc:title>Lecture 09:</dc:title>
</cp:coreProperties>
</file>