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F60-06FB-4303-B7B0-3CD7130C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88E-D8B9-4954-B5DD-56AEF972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1F9-EB77-456D-9474-0D064FA8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A4EE-AD1F-4A0B-B1CC-616B43F2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986-BCB7-4534-BC5C-1F12D5B0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499-1683-4C93-BF7B-DC9A912E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318-5BD7-46E4-AF44-3887272A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72F-B2B1-4400-9A74-8D851507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366-E005-49DB-AFCF-F2201779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E84-4A66-45F2-8B10-C4A553A4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377-F5B0-4FAD-B007-E2932450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3BAF-7A33-465A-9E9F-99527550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7499-2B0C-4870-86D8-D2EA43C5E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26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F90C-8BD5-47DD-AF85-A8B5574E6C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Atom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ossible outcomes for a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ll the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transaction’s activities are all or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F8A-B1C0-40B5-A431-E97AB775AC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e of the tables is restricted by integrity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 number is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amount can’t be 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b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may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pli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l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onsistency is achie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makes sure a txn takes a consistent state to a consist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makes sure that the tnx is 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188-73A5-4E19-933C-EFA315D6CD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 executes concurrently with other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ion: the effect is as if each transaction executes in isolation of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437-C8BF-473C-B72E-92D183D9CB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Du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 of a transaction must continue to exists after the transaction, or the whole program has termin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: write data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8B9-26A8-4CE2-B0B1-2C1D82ABEF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app gets to a place where it can’t complete the transaction successfully, it can execute ROLL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uses the system to “abort”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base returns to the state without any of the previous changes made by activity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496-1DFC-4F38-9DE5-C139FABCC8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for 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hanges their mind (“ctl-C”/canc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it in program, when app program finds a probl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when qty on hand &lt; qty being s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-initiated ab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due to time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63E-D4D4-4566-AA39-738AF52A26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-ONLY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3240" y="1600200"/>
            <a:ext cx="5027040" cy="50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TRANSACTION READ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4061880"/>
            <a:ext cx="1904760" cy="1172520"/>
          </a:xfrm>
          <a:prstGeom prst="wedgeEllipseCallout">
            <a:avLst>
              <a:gd name="adj1" fmla="val -89152"/>
              <a:gd name="adj2" fmla="val -896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it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D8B-9573-4D3A-BFBA-17DDAD1699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mous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ty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reads data written by T’ while T’ is 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’ ab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tasks T and T’ both modify the sam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and T’ both 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state shows effects of only T, but not of 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task T sees some but not all changes made by 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C1C-22C1-4045-A13D-907FA6DE96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ty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UN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ted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able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PEATABLE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izable transactions (defaul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SERIAL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388B-2F16-4FC0-AA82-ED49A4CF8A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73000" y="1600200"/>
            <a:ext cx="4956840" cy="47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llocateSeat( %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AD UNCOM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x == 1)  /* occupied */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ccupied =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240" y="175248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s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350532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6800" y="4724280"/>
            <a:ext cx="206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if on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S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s Sea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6CD-189D-4F4B-8B2F-6124222B5D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8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this is an easy introduction to transactions; more details when we discuss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E77-1AB7-46CF-B0D8-22BC470E5E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743560" y="914400"/>
            <a:ext cx="4967640" cy="53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TransferMoney( %amount, %acc1, %acc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bal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x &lt; %amount)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+%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-%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7400" y="2192400"/>
            <a:ext cx="201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rty rea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 he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0600" y="3902040"/>
            <a:ext cx="185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upda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A6F-C4F1-41C7-8315-8E237F67D9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Read Committ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6680" y="2057400"/>
            <a:ext cx="46278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AD COM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. . . . . More stuff here . . . 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y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e may have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   !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1720" y="1981080"/>
            <a:ext cx="33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UN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0800" y="3325680"/>
            <a:ext cx="219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ossi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ad twic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et diffe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2C0-E333-4254-B093-322D91DA41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Repeatable Re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5600" y="2057400"/>
            <a:ext cx="48456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PEATABLE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‘55555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. . . . . More stuff here . . . 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y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‘777777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e may have a wrong x+y   !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280" y="198108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360" y="3429000"/>
            <a:ext cx="287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see incompati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txn trans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rom acc. 55555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4A7-1E77-4589-9ECF-5D7197D4AC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Serializab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6840" y="2590920"/>
            <a:ext cx="431856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SERIAL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8040" y="26668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s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42670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9170-B64A-45D4-9FE5-06A18FDEC4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users: single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0400" y="2209680"/>
            <a:ext cx="387972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06360" y="5642280"/>
            <a:ext cx="507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anagers attempt to do a discou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it wor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83B-E303-4B3A-BCDB-B72813A610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users: multiple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31320" y="2057400"/>
            <a:ext cx="502704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64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2DE-E89F-4DC6-B09F-04C9E36A48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tion against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0240" y="2286000"/>
            <a:ext cx="633168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64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10040" y="4029120"/>
            <a:ext cx="1071000" cy="459720"/>
          </a:xfrm>
          <a:prstGeom prst="wedgeRectCallout">
            <a:avLst>
              <a:gd name="adj1" fmla="val -431615"/>
              <a:gd name="adj2" fmla="val 356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0B6-C4DD-4462-B00E-D9E78C4AB6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trans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one or more operations, which reflects a single real-world tran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real world, this happened completely or not at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e examp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money betwee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 a group of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record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for a class (either waitlist or alloc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F25-3145-49DB-AF53-BC1D07A639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“ad-hoc” 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: each statement = on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ro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QL statement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    or     ROLLBACK (=AB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3360" y="3508200"/>
            <a:ext cx="2200320" cy="1191240"/>
          </a:xfrm>
          <a:prstGeom prst="wedgeRectCallout">
            <a:avLst>
              <a:gd name="adj1" fmla="val -123675"/>
              <a:gd name="adj2" fmla="val 2437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omitted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QL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t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E82-5E45-4689-BEAB-C750E67355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sed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10400" y="1981080"/>
            <a:ext cx="38797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1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2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4920" y="594252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works like a ch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A62-04B7-480A-9352-1343D8ECBB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Proper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shows either all the effects of txn, or none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n moves from a state where integrity holds, to another where integrity 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txns is the same as txns running one after another (ie looks like batch m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a txn has committed, its effects remain in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7F5-15CA-4EE0-A266-2AC4254528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10-26T03:55:48Z</dcterms:modified>
  <cp:revision>382</cp:revision>
  <dc:subject/>
  <dc:title>Lecture 09:</dc:title>
</cp:coreProperties>
</file>