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40B-7076-4ABC-8C31-56B39B89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282-B8DB-46BE-97EE-F61D3B6B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EF6-BBAF-446F-86A3-DD3186E7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C70-2744-45C2-8644-1BB9BE02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C5B-7195-4774-842A-710745A2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544-AB04-4391-BA56-61B5363C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B7D-47E2-409A-8D7C-B004F9D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7BB-4533-4803-921E-44BCF2F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C65-8399-4B45-9DFA-6D2CCAEA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51A-3E93-40BA-8C4B-DC31CB8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65A-45FE-4346-AC69-5176121B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E1F-E680-439A-BF24-202C0D2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1FB3-5CC0-444B-825D-4838DB97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411-45C1-4E03-BBA5-EAFAFA387A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 with partners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6AE-596F-400A-9572-1A4893EC3B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in MS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9480" y="2666880"/>
            <a:ext cx="655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EXPLICIT (won’t show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156-0AA1-444C-ADFB-13AB13DAED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56721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Student.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0840" y="5029200"/>
            <a:ext cx="6071760" cy="155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John” grade=“3.5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Blow” grade = “4.0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4A1-19A1-44E6-99EB-899CEF3067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6634080" cy="20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‘&lt;row name=“’ as a, Student.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rade=“’ b,  Student.gr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 a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920" y="146376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D57-7E20-49E8-A13F-71B909A65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557676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Course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, Enroll,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tudent.sid = Enroll.si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.cid = Course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8320" y="48006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hierarchy, based on the order in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0D5-73C2-4BC2-A5E7-3C10E5966B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23560" y="1006560"/>
            <a:ext cx="549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=“xxxx”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 = “yyy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 = “zzz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. .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F43-4216-49F4-A4C1-30B9B6603D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557208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urse.name, Student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, Enroll,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tudent.sid = Enroll.si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.cid = Course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F44-301E-4BFE-A312-CA43FDE749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6240" y="1143000"/>
            <a:ext cx="5394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 = “yyy”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=“xxxx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=“gggg”/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 = “zzz”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. .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8080" y="5181480"/>
            <a:ext cx="41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QL Server document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A8E-FE40-43E1-BB48-F871D5EEC1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B27-638F-40E7-B4E6-930DBF24CF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t as a B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boring,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C85-77DB-4B27-8705-47060D6C97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C47-8D99-46C5-86A6-D3C329C6A5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3DF-BEB8-47DE-BB13-0E50CC22D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7640" y="2435760"/>
            <a:ext cx="1837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53640" y="4070880"/>
            <a:ext cx="1405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88120" y="4070880"/>
            <a:ext cx="157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360" y="54363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1200" y="5436360"/>
            <a:ext cx="119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07800" y="5434560"/>
            <a:ext cx="1263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29280" y="543456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97920" y="54345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2920" y="5434560"/>
            <a:ext cx="11196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7160" y="5434560"/>
            <a:ext cx="1203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5434560"/>
            <a:ext cx="1274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3" idx="3"/>
            <a:endCxn id="124" idx="0"/>
          </p:cNvCxnSpPr>
          <p:nvPr/>
        </p:nvCxnSpPr>
        <p:spPr>
          <a:xfrm flipH="1">
            <a:off x="3455280" y="2979720"/>
            <a:ext cx="724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3" idx="5"/>
            <a:endCxn id="125" idx="0"/>
          </p:cNvCxnSpPr>
          <p:nvPr/>
        </p:nvCxnSpPr>
        <p:spPr>
          <a:xfrm flipH="1">
            <a:off x="5275080" y="2979720"/>
            <a:ext cx="157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4" idx="2"/>
            <a:endCxn id="126" idx="0"/>
          </p:cNvCxnSpPr>
          <p:nvPr/>
        </p:nvCxnSpPr>
        <p:spPr>
          <a:xfrm flipH="1">
            <a:off x="600840" y="4395960"/>
            <a:ext cx="21819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4" idx="3"/>
            <a:endCxn id="127" idx="0"/>
          </p:cNvCxnSpPr>
          <p:nvPr/>
        </p:nvCxnSpPr>
        <p:spPr>
          <a:xfrm flipH="1">
            <a:off x="1556640" y="4614840"/>
            <a:ext cx="1423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4" idx="4"/>
            <a:endCxn id="128" idx="0"/>
          </p:cNvCxnSpPr>
          <p:nvPr/>
        </p:nvCxnSpPr>
        <p:spPr>
          <a:xfrm flipH="1">
            <a:off x="2739240" y="4704840"/>
            <a:ext cx="7167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4" idx="5"/>
            <a:endCxn id="129" idx="0"/>
          </p:cNvCxnSpPr>
          <p:nvPr/>
        </p:nvCxnSpPr>
        <p:spPr>
          <a:xfrm>
            <a:off x="3931920" y="4614840"/>
            <a:ext cx="5292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5" idx="2"/>
            <a:endCxn id="127" idx="7"/>
          </p:cNvCxnSpPr>
          <p:nvPr/>
        </p:nvCxnSpPr>
        <p:spPr>
          <a:xfrm flipH="1">
            <a:off x="1953720" y="4395600"/>
            <a:ext cx="2566080" cy="11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5" idx="3"/>
            <a:endCxn id="130" idx="0"/>
          </p:cNvCxnSpPr>
          <p:nvPr/>
        </p:nvCxnSpPr>
        <p:spPr>
          <a:xfrm>
            <a:off x="4740120" y="4614840"/>
            <a:ext cx="2628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5" idx="4"/>
            <a:endCxn id="131" idx="0"/>
          </p:cNvCxnSpPr>
          <p:nvPr/>
        </p:nvCxnSpPr>
        <p:spPr>
          <a:xfrm>
            <a:off x="5275080" y="4704840"/>
            <a:ext cx="6483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5" idx="5"/>
            <a:endCxn id="132" idx="0"/>
          </p:cNvCxnSpPr>
          <p:nvPr/>
        </p:nvCxnSpPr>
        <p:spPr>
          <a:xfrm>
            <a:off x="5810040" y="4614840"/>
            <a:ext cx="12294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6"/>
            <a:endCxn id="133" idx="0"/>
          </p:cNvCxnSpPr>
          <p:nvPr/>
        </p:nvCxnSpPr>
        <p:spPr>
          <a:xfrm>
            <a:off x="6031080" y="4395960"/>
            <a:ext cx="220392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373500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116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360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A1E-0E04-47B2-BF65-E7C869BBD4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1" idx="3"/>
            <a:endCxn id="152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5"/>
            <a:endCxn id="153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2" idx="2"/>
            <a:endCxn id="154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2" idx="3"/>
            <a:endCxn id="155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2" idx="4"/>
            <a:endCxn id="156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2" idx="5"/>
            <a:endCxn id="157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3" idx="2"/>
            <a:endCxn id="155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3"/>
            <a:endCxn id="158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3" idx="4"/>
            <a:endCxn id="159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3" idx="5"/>
            <a:endCxn id="160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3" idx="6"/>
            <a:endCxn id="161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960" y="62136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 (Look at the 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D61-00EE-4A97-9158-A54DE8EB98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953-F8A9-47CF-BB6D-F665A29AB7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940-C8DD-4CE3-884D-5D81E3087A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8160" y="1219320"/>
            <a:ext cx="5680800" cy="2472480"/>
            <a:chOff x="3278160" y="1219320"/>
            <a:chExt cx="5680800" cy="2472480"/>
          </a:xfrm>
        </p:grpSpPr>
        <p:grpSp>
          <p:nvGrpSpPr>
            <p:cNvPr id="187" name=""/>
            <p:cNvGrpSpPr/>
            <p:nvPr/>
          </p:nvGrpSpPr>
          <p:grpSpPr>
            <a:xfrm>
              <a:off x="3278160" y="1549440"/>
              <a:ext cx="5680800" cy="2142360"/>
              <a:chOff x="3278160" y="1549440"/>
              <a:chExt cx="5680800" cy="214236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3345120" y="1649520"/>
                <a:ext cx="5547960" cy="2042280"/>
                <a:chOff x="3345120" y="1649520"/>
                <a:chExt cx="5547960" cy="20422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83272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88276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7648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3383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8544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8212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7291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76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223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244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99068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6400" y="32914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780600" y="32914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2840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52660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13152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380640" y="1848600"/>
                  <a:ext cx="1195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53780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548388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3124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38064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772524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7436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5488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7500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6808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62596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1532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676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2D1-045C-4ADB-A4AF-C00612A9F4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9" idx="4"/>
            <a:endCxn id="240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1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0" idx="5"/>
            <a:endCxn id="242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endCxn id="239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9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50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169-0A5A-4457-ABD3-41361D80C8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5D2-E003-4BB3-943F-AE8834D9E6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B75-6D2D-4682-8E96-CC4C5DBC7E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n SQL Srv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s with attributes of typ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Xquer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slides are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nkar Pal et al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 XML data stored in a 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LDB’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commended 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ED4-0F85-4BEB-A2F9-5E51B98953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DB A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8692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0200" y="1523880"/>
            <a:ext cx="1584360" cy="1172520"/>
          </a:xfrm>
          <a:prstGeom prst="wedgeEllipseCallout">
            <a:avLst>
              <a:gd name="adj1" fmla="val 5587"/>
              <a:gd name="adj2" fmla="val 134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46320" y="5715000"/>
            <a:ext cx="1072800" cy="652680"/>
          </a:xfrm>
          <a:prstGeom prst="wedgeEllipseCallout">
            <a:avLst>
              <a:gd name="adj1" fmla="val -3541"/>
              <a:gd name="adj2" fmla="val -2131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9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E3A-7B79-4DA6-AD0B-F7A537FD1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66160" y="1295280"/>
            <a:ext cx="4030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D int primary ke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XDOC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080" y="3448080"/>
            <a:ext cx="88142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D, XDOC.query(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$s in  /BOOK[@ISBN= “1-55860-438-3”]//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&lt;topic&gt;{data($s/TITLE)} &lt;/topi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4D2-FBB4-419D-8472-4BF6615727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Method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() = returns XML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() = extracts scalar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() = checks conditions on XM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) = returns a rowset of XML nodes that the Xquery expression evaluat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7D9-588A-43D9-B392-30D1254E0E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“shredded” as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important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ey decimal numbering of nodes; store in clustered B-tree i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odd numbers to allow 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PATH-ID encoding, for efficient processing of postfix expressions like //a/b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ore indexes, e.g. on 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0E5-A6E4-419E-8405-D5227E3A49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6200" y="1295280"/>
            <a:ext cx="54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BN=“1-55860-438-3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Bad Bu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loves bad bu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TION=“Sample bu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ree Fro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ight-think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lov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r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31A-8021-4348-8FCA-DC34E4EA61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1758960"/>
            <a:ext cx="8458200" cy="365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163-6F7F-4042-AA01-1D933425F1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90720" y="547560"/>
            <a:ext cx="7277040" cy="5830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473840" y="6334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e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E17-D44D-49DE-B194-A53F909D7B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74240" y="990720"/>
            <a:ext cx="610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BOOK[@ISBN = “1-55860-438-3”]/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4360" y="3498840"/>
            <a:ext cx="79743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erializeXML (N2.ID, 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fosettab N1  JOIN infosettab N2 ON (N1.ID = N2.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1.PATH_ID = PATH_ID(/BOOK/@IS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1.VALUE = '1-55860-438-3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2.PATH_ID = PATH_ID(BOOK/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rent (N1.ORDPATH) = Parent (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190512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AA6-138B-4564-9753-81E2CE3986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88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28280" y="3828240"/>
            <a:ext cx="1146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83320" y="12952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69600" y="60199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1" idx="2"/>
            <a:endCxn id="58" idx="5"/>
          </p:cNvCxnSpPr>
          <p:nvPr/>
        </p:nvCxnSpPr>
        <p:spPr>
          <a:xfrm rot="5400000">
            <a:off x="2353680" y="3789360"/>
            <a:ext cx="62640" cy="1434240"/>
          </a:xfrm>
          <a:prstGeom prst="curvedConnector5">
            <a:avLst>
              <a:gd name="adj1" fmla="val 676878"/>
              <a:gd name="adj2" fmla="val 49987"/>
              <a:gd name="adj3" fmla="val 676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8" idx="7"/>
            <a:endCxn id="61" idx="0"/>
          </p:cNvCxnSpPr>
          <p:nvPr/>
        </p:nvCxnSpPr>
        <p:spPr>
          <a:xfrm flipH="1" flipV="1" rot="5400000">
            <a:off x="2340000" y="3152160"/>
            <a:ext cx="91080" cy="1434240"/>
          </a:xfrm>
          <a:prstGeom prst="curvedConnector5">
            <a:avLst>
              <a:gd name="adj1" fmla="val 394444"/>
              <a:gd name="adj2" fmla="val 49987"/>
              <a:gd name="adj3" fmla="val 394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endCxn id="59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421-221A-45D8-9CAB-F6DDC5D6BE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C69-6899-4527-9E6F-1B9007938B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70E-D175-410B-8D90-6AFC851B67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8BB-C4D8-4C8B-9E28-DE682F58B6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090-BE61-471A-AD90-CB3F5DADE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92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132240" y="3808440"/>
            <a:ext cx="2621160" cy="1172520"/>
          </a:xfrm>
          <a:prstGeom prst="wedgeEllipseCallout">
            <a:avLst>
              <a:gd name="adj1" fmla="val -128824"/>
              <a:gd name="adj2" fmla="val -6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CD5-1B14-47D7-989A-EEE7E6783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24T03:45:45Z</dcterms:modified>
  <cp:revision>359</cp:revision>
  <dc:subject/>
  <dc:title>Lecture 09:</dc:title>
</cp:coreProperties>
</file>