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4D9-B869-4089-A7F0-FD92D52E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55F-B38C-4F86-B50D-BE7CEF06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1F0-9279-4999-A650-E2B6502F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76D-CE37-4344-9E47-0278820E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F26-0C45-44E2-9CF9-94C35026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7E8-3E56-400D-B8CE-D2D00729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30A-AC67-4768-8C30-820E7894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920-D944-4750-AD28-99CBE146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91A-A548-431F-A426-A62E477D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9EF-8CAB-4B07-B30D-354FA1A4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BFC-70B3-41F4-83C7-0826B7BF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A9F-AE6A-435F-82CF-F4D1DBDE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CA31-1EA2-4CFD-8A0D-4AD784B0D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: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21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564-379C-48BF-BA56-590FCFB8A3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20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83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435-0C10-46C9-A77C-B7A8FFCFF9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A97-FB52-45B5-BAE7-48902C2AC7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612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AC6-B566-4BD7-9975-7FA4F268A2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0120" y="1828800"/>
            <a:ext cx="87390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‘M.K’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/tex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CA2-726C-4319-9935-F7650EA766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81320" y="2057400"/>
            <a:ext cx="622260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C89-962B-4567-ACA6-286B6A5ACB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54160" y="2209680"/>
            <a:ext cx="71272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1F8-5C36-452B-84DF-B8DD32A09B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03680" y="2362320"/>
            <a:ext cx="6681240" cy="24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1E0-2917-46F6-AA2E-7A6ECD4F40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st-of-text-val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eliminate duplicate “tuples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9400" y="3276720"/>
            <a:ext cx="42829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3886200"/>
            <a:ext cx="609480" cy="485640"/>
          </a:xfrm>
          <a:prstGeom prst="rightArrow">
            <a:avLst>
              <a:gd name="adj1" fmla="val 50000"/>
              <a:gd name="adj2" fmla="val 313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5440" y="5029200"/>
            <a:ext cx="421884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00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941-71A9-41B9-81AB-663F1D1FCA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DD9-4BA1-47CE-9BD0-5F80EF3A56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7280" y="2438280"/>
            <a:ext cx="5217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29080" y="2236680"/>
            <a:ext cx="36615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7280" y="4343400"/>
            <a:ext cx="5217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82960" y="4294080"/>
            <a:ext cx="283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BEA-07B3-4B47-B48E-DFA67F22AD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FF1-EAC7-4A00-AE66-676C08A7DD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0-21T03:47:03Z</dcterms:modified>
  <cp:revision>343</cp:revision>
  <dc:subject/>
  <dc:title>Lecture 09:</dc:title>
</cp:coreProperties>
</file>