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0B54-E9A5-4E78-BEA6-5056C7774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7ED8-036A-474A-9ECA-04CAFB4A3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665-1BFE-4885-B3EB-ED8AAA4E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980-1A31-4DA4-9FE2-02625225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889-F4A3-44F0-AE41-B108AFB9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C5A-692B-4316-8323-43536742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F2C-8CDA-407A-A685-CBE8BC4E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B7C-D3E4-4A5A-9742-8843D728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AC4-D324-4593-971A-ABFA7F26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C23-DF9D-44AC-BB10-D6F409E2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1D5-7B3E-4237-8EC2-1FCE3B1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67C-0F3C-49AB-80DE-2A0E26CB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EBD-577D-4396-9578-4C83D634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D9B-BFA1-439E-8819-78B720AA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EAA9-6227-49A2-B950-1271F4F01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va.sun.com/webservices/docs/ea2/tutorial/doc/JAXPXSLT2.html" TargetMode="External"/><Relationship Id="rId2" Type="http://schemas.openxmlformats.org/officeDocument/2006/relationships/hyperlink" Target="http://www.w3.org/TR/xmlquery-use-cases/" TargetMode="External"/><Relationship Id="rId3" Type="http://schemas.openxmlformats.org/officeDocument/2006/relationships/hyperlink" Target="http://www.xmlportfolio.com/xquery.html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/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19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394-4CEE-4603-8295-0F26EBA16E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85B-8CD2-443C-AF83-46CC61E433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428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310-E6B3-4E66-B184-CEC3211737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4840" y="182880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480" y="4038480"/>
            <a:ext cx="502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read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move all qualifiers (predicate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120" y="4965840"/>
            <a:ext cx="3465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 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8320" y="561960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dd them one by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172200"/>
            <a:ext cx="5868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3280" y="6137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EFA-D641-43CC-9A56-B3CE31F86E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404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2240" y="365760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404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DD9-3C5E-4EB2-9245-E0ADF3A815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657540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[@price&lt;“55”]/author/lastnam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06D-4C37-4292-9F49-33DCCA69F0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676-D557-47ED-A962-B66DA9872C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CFF-2B9D-4653-8424-47268F66B9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6E4-A8FC-4D60-A071-3705D96A41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1786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 (perhaps more geek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720" y="28954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520" y="4495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n sho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2600" y="5562720"/>
            <a:ext cx="707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AD3-9C83-4569-9B5D-9C4D676B7B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and the year when they wer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5040" y="2971800"/>
            <a:ext cx="586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360" y="5076720"/>
            <a:ext cx="85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2002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80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AA0-A0B2-42F9-893C-369B62B1DA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ly recommended read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java.sun.com/webservices/docs/ea2/tutorial/doc/JAXPXSLT2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3.org/TR/xmlquery-use-cas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xmlportfolio.com/xquery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B6A-9E2D-46E5-A55A-6114F4231E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e use of “{“ and “}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esult without th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69440" y="3657600"/>
            <a:ext cx="5500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735-3A52-4BF3-8622-4F472D2770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040" y="2971800"/>
            <a:ext cx="8433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7520" y="61722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662-3CEA-4CD8-947E-D559AD39DD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BE1-D835-4592-A4A6-EB6057BF52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s with more than 3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960" y="4876920"/>
            <a:ext cx="528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computes the average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mputes the sum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960" y="2971800"/>
            <a:ext cx="5397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C3D-A79A-4CC9-B219-9090C5B965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5720" y="2971800"/>
            <a:ext cx="7665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]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09B-6F59-4403-8C9B-EB26B0D684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all authors who published more than 3 books – be aware of duplicat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8880" y="4267080"/>
            <a:ext cx="6229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$a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book/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405-7BDB-48DE-AE41-EAB6792F15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1160" y="2971800"/>
            <a:ext cx="53766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 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1F0-45F0-4687-B51C-ABEC378985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ten” the authors, i.e. return a list of (author, title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880" y="3352680"/>
            <a:ext cx="54741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x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y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89760" y="3429000"/>
            <a:ext cx="2838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kj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4B9-598A-4C0E-AFE9-A0AD5DFE6A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, return all titles of her/his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7520" y="3276720"/>
            <a:ext cx="6003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320" y="533412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11880" y="2819520"/>
            <a:ext cx="283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l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6A7-9CFA-45DF-A4F8-A3D8C821D1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, but eliminate duplicat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120" y="2819520"/>
            <a:ext cx="61135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65B-0CC9-4F2A-B99F-FB74E1859D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94B-FE88-4B77-9A4B-04E18A66168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2920" y="2819520"/>
            <a:ext cx="6246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F9B-4AD5-444A-8090-F962E7C1DF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0640" y="3114720"/>
            <a:ext cx="68990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]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]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4960" y="4811760"/>
            <a:ext cx="382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8720" y="5410080"/>
            <a:ext cx="35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y do we get duplic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864-EEA0-4A29-A20F-A07FCEEE23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inct-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9000" y="4800600"/>
            <a:ext cx="382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6360" y="495288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pply to a col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, no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 – note how query ha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1040" y="2971800"/>
            <a:ext cx="851328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57A-20C5-456E-A3C5-6C458DEF81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3920" y="17524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2960" y="1600200"/>
            <a:ext cx="39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 names, pri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83600" y="2735280"/>
            <a:ext cx="2625120" cy="2556360"/>
            <a:chOff x="183600" y="2735280"/>
            <a:chExt cx="2625120" cy="2556360"/>
          </a:xfrm>
        </p:grpSpPr>
        <p:sp>
          <p:nvSpPr>
            <p:cNvPr id="184" name=""/>
            <p:cNvSpPr/>
            <p:nvPr/>
          </p:nvSpPr>
          <p:spPr>
            <a:xfrm>
              <a:off x="183600" y="2735280"/>
              <a:ext cx="26251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x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 BY x.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0600" y="46389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720080" y="2666880"/>
            <a:ext cx="7317000" cy="3090960"/>
            <a:chOff x="1720080" y="2666880"/>
            <a:chExt cx="7317000" cy="3090960"/>
          </a:xfrm>
        </p:grpSpPr>
        <p:sp>
          <p:nvSpPr>
            <p:cNvPr id="187" name=""/>
            <p:cNvSpPr/>
            <p:nvPr/>
          </p:nvSpPr>
          <p:spPr>
            <a:xfrm>
              <a:off x="2973240" y="2666880"/>
              <a:ext cx="606384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 B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price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,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i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&lt;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20080" y="510516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4BB-AAE0-4FFA-967A-589B29AD15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6240" y="2057400"/>
            <a:ext cx="36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3680" y="43434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formed document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8E6-EA24-4D43-9EB9-02A6EF5849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Well-Forme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2438280"/>
            <a:ext cx="6514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pric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78C-FA85-421F-BA55-9E67F40700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6240" y="2057400"/>
            <a:ext cx="384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1280" y="2971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04C-083E-4914-9408-B28BD8676C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040" y="152388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, reven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8728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8400" y="2895480"/>
            <a:ext cx="3864240" cy="2556360"/>
            <a:chOff x="158400" y="2895480"/>
            <a:chExt cx="3864240" cy="2556360"/>
          </a:xfrm>
        </p:grpSpPr>
        <p:sp>
          <p:nvSpPr>
            <p:cNvPr id="201" name=""/>
            <p:cNvSpPr/>
            <p:nvPr/>
          </p:nvSpPr>
          <p:spPr>
            <a:xfrm>
              <a:off x="158400" y="2895480"/>
              <a:ext cx="38642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, Company 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x.maker=y.c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and y.city=“Seatt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6840" y="47991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42520" y="2362320"/>
            <a:ext cx="5750280" cy="3090960"/>
            <a:chOff x="3242520" y="2362320"/>
            <a:chExt cx="5750280" cy="3090960"/>
          </a:xfrm>
        </p:grpSpPr>
        <p:sp>
          <p:nvSpPr>
            <p:cNvPr id="204" name=""/>
            <p:cNvSpPr/>
            <p:nvPr/>
          </p:nvSpPr>
          <p:spPr>
            <a:xfrm>
              <a:off x="4497480" y="2362320"/>
              <a:ext cx="4495320" cy="265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and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 = “Seattle”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2520" y="480060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40760" y="5546880"/>
            <a:ext cx="8856720" cy="1264320"/>
            <a:chOff x="140760" y="5546880"/>
            <a:chExt cx="8856720" cy="1264320"/>
          </a:xfrm>
        </p:grpSpPr>
        <p:sp>
          <p:nvSpPr>
            <p:cNvPr id="207" name=""/>
            <p:cNvSpPr/>
            <p:nvPr/>
          </p:nvSpPr>
          <p:spPr>
            <a:xfrm>
              <a:off x="205164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760" y="5638680"/>
              <a:ext cx="1650960" cy="1172520"/>
            </a:xfrm>
            <a:prstGeom prst="wedgeEllipseCallout">
              <a:avLst>
                <a:gd name="adj1" fmla="val 64712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E7C-B6ED-487C-B0C5-C8D4FD9F9E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28120" y="1260360"/>
            <a:ext cx="47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34D-A596-40FD-AA94-D8E90C7E6A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800" y="152388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mpany with revenues &lt; 1M count the products over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240" y="2009880"/>
            <a:ext cx="8498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.name,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price &gt; 100 and x.maker=y.cid and y.revenue &lt; 1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280" y="3809880"/>
            <a:ext cx="864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[revenue/text()&lt;1000000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{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&gt;100]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711-D4AE-4E93-B775-93FBC63C427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D10-15AA-4995-8142-7C4ECBDD45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4480" y="152388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ith at least 30 products, and their averag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009880"/>
            <a:ext cx="32896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y.name, avg(x.pri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count(*)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66640" y="2971800"/>
            <a:ext cx="56858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30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080" y="4114800"/>
            <a:ext cx="2389680" cy="652680"/>
          </a:xfrm>
          <a:prstGeom prst="wedgeEllipseCallout">
            <a:avLst>
              <a:gd name="adj1" fmla="val 103333"/>
              <a:gd name="adj2" fmla="val -7568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88080" y="2133720"/>
            <a:ext cx="2268360" cy="652680"/>
          </a:xfrm>
          <a:prstGeom prst="wedgeEllipseCallout">
            <a:avLst>
              <a:gd name="adj1" fmla="val -41893"/>
              <a:gd name="adj2" fmla="val 135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43A-2464-4721-A7D0-B09C028544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58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0920" y="2057400"/>
            <a:ext cx="1223640" cy="459720"/>
          </a:xfrm>
          <a:prstGeom prst="wedgeRectCallout">
            <a:avLst>
              <a:gd name="adj1" fmla="val -182763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12560" y="3048120"/>
            <a:ext cx="2267280" cy="459720"/>
          </a:xfrm>
          <a:prstGeom prst="wedgeRectCallout">
            <a:avLst>
              <a:gd name="adj1" fmla="val -109736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8F7-B4F8-4152-8CEB-AC9DA6B703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940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880" y="5964120"/>
            <a:ext cx="81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9400" y="6019920"/>
            <a:ext cx="293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71880" y="5928480"/>
            <a:ext cx="4298400" cy="649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differen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2"/>
            <a:endCxn id="80" idx="3"/>
          </p:cNvCxnSpPr>
          <p:nvPr/>
        </p:nvCxnSpPr>
        <p:spPr>
          <a:xfrm flipH="1">
            <a:off x="1434600" y="6253200"/>
            <a:ext cx="775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2" idx="6"/>
            <a:endCxn id="81" idx="1"/>
          </p:cNvCxnSpPr>
          <p:nvPr/>
        </p:nvCxnSpPr>
        <p:spPr>
          <a:xfrm>
            <a:off x="6432120" y="6253200"/>
            <a:ext cx="73116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914-29D9-4FD9-B5E0-D96A8003F0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276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840" y="55134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936-EFF0-40EA-943F-3D8B719DCA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CD5-1B13-4FCA-BE0C-90A44534DA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D7B-9425-4B21-B146-E8FF5A38F5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5-10-19T03:45:14Z</dcterms:modified>
  <cp:revision>191</cp:revision>
  <dc:subject/>
  <dc:title>Lecture 09:</dc:title>
</cp:coreProperties>
</file>