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AB40-A9DC-4768-869B-5242C5A0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EBB0-8A32-4651-ABA0-60C10FA4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78FF-E4E0-4556-BC76-0A362A45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EE11-7AB9-44B4-B575-C52475D6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B30-A1B4-4752-A241-FAE3CA47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68F-A874-4DDD-ADA2-B0EDC268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ABCC-7047-4858-AC09-6E5AA3AA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9E7-68CC-4F0C-9260-7D54F965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2411-DD13-4A75-AB6E-E50D6BA5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C31-9646-42C7-89FC-709F437F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C106-C565-43BE-9D3D-ED69AB6B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ADDB-AFF7-41E7-8A2D-08626B6B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63B4-E084-4385-8265-D2016A614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3.org/XML/" TargetMode="External"/><Relationship Id="rId2" Type="http://schemas.openxmlformats.org/officeDocument/2006/relationships/hyperlink" Target="http://www.w3.org/XML/1999/XML-in-10-points" TargetMode="External"/><Relationship Id="rId3" Type="http://schemas.openxmlformats.org/officeDocument/2006/relationships/hyperlink" Target="http://www.zvon.org/xxl/XMLTutorial/General/book_en.html" TargetMode="External"/><Relationship Id="rId4" Type="http://schemas.openxmlformats.org/officeDocument/2006/relationships/hyperlink" Target="http://www.zvon.org/xxl/XMLTutorial/General/book_en.html" TargetMode="External"/><Relationship Id="rId5" Type="http://schemas.openxmlformats.org/officeDocument/2006/relationships/hyperlink" Target="http://www.zvon.org/xxl/XMLTutorial/General/book_en.html" TargetMode="External"/><Relationship Id="rId6" Type="http://schemas.openxmlformats.org/officeDocument/2006/relationships/hyperlink" Target="http://www.zvon.org/xxl/XMLTutorial/General/book_en.html" TargetMode="External"/><Relationship Id="rId7" Type="http://schemas.openxmlformats.org/officeDocument/2006/relationships/hyperlink" Target="http://www.zvon.org/xxl/XMLTutorial/General/book_en.html" TargetMode="External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17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2B8C-0E8A-45CA-BBD9-FF7482971F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194600" cy="40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B39A-8261-405B-AA67-F8DA6AB8EB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v.s.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4262400" cy="254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Foundations of DB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5000" y="5257800"/>
            <a:ext cx="87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attributes are alternative ways to repres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00000" y="2133720"/>
            <a:ext cx="4608360" cy="297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Foundations of DB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55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urr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USD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urr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B36-24A9-4B3C-9B65-D6F95B4A7F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066680" y="2514600"/>
          <a:ext cx="6858000" cy="29973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Ele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ttrib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ord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be repe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t be uni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be nes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t be ato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DDC8-D31E-4942-922E-B270237713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5040" y="464040"/>
            <a:ext cx="7691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Oids and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17720" cy="35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555”&gt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ane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r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555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5400" y="5886360"/>
            <a:ext cx="78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oids and references in XML are just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5440" y="2726280"/>
            <a:ext cx="434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just keys/ foreign keys desig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someone who didn’t take 4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use them: use your on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 keys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C8A-149C-42DF-8173-D5C29A94B4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DATA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![CDATA[ .....any text here...]]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8880" y="4191120"/>
            <a:ext cx="71287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&lt;![CDATA[ some text here &lt;/notAtag&gt; &lt;&gt;]]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039C-05F6-450E-A474-C27B883C24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Entity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amp;entitynam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this is less than &amp;lt;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ent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800600" y="3886200"/>
          <a:ext cx="3124080" cy="2819520"/>
        </p:xfrm>
        <a:graphic>
          <a:graphicData uri="http://schemas.openxmlformats.org/drawingml/2006/table">
            <a:tbl>
              <a:tblPr/>
              <a:tblGrid>
                <a:gridCol w="1104840"/>
                <a:gridCol w="2019240"/>
              </a:tblGrid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pos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quo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#38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code ch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740-22EF-41B4-BF7C-6228AF485F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Processing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?target argument?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they mea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07560" y="3276720"/>
            <a:ext cx="7111440" cy="18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larm Clock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?ringBell 20?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.99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E58-9A5C-4417-91CF-12FBD8626C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 &lt;!-- .... Comment text... --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they are part of the data model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B21B-A316-4B41-ABEE-F05589E02C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::= [prefix:]local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7600" y="2828880"/>
            <a:ext cx="5982480" cy="26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xmlns:isb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www.isbn-org.org/def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5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….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92360" y="5009040"/>
            <a:ext cx="3567960" cy="1692360"/>
          </a:xfrm>
          <a:prstGeom prst="wedgeEllipseCallout">
            <a:avLst>
              <a:gd name="adj1" fmla="val -38250"/>
              <a:gd name="adj2" fmla="val -14708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 nothing 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L; just a uniq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9AD1-0D3E-4BBC-B872-F2EB7D5E06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71640" y="3141720"/>
            <a:ext cx="6968880" cy="311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xmlns:mysty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“http://…”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29520" cy="17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: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,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sbn: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antic: provide URL for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98160" y="3780720"/>
            <a:ext cx="3947040" cy="563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ong to this 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05160" y="3886200"/>
            <a:ext cx="824040" cy="549360"/>
          </a:xfrm>
          <a:custGeom>
            <a:avLst/>
            <a:gdLst/>
            <a:ahLst/>
            <a:rect l="l" t="t" r="r" b="b"/>
            <a:pathLst>
              <a:path w="1045" h="270">
                <a:moveTo>
                  <a:pt x="0" y="270"/>
                </a:moveTo>
                <a:cubicBezTo>
                  <a:pt x="54" y="232"/>
                  <a:pt x="151" y="78"/>
                  <a:pt x="325" y="39"/>
                </a:cubicBezTo>
                <a:cubicBezTo>
                  <a:pt x="499" y="0"/>
                  <a:pt x="895" y="39"/>
                  <a:pt x="1045" y="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98880" y="4267080"/>
            <a:ext cx="663840" cy="671760"/>
          </a:xfrm>
          <a:custGeom>
            <a:avLst/>
            <a:gdLst/>
            <a:ahLst/>
            <a:rect l="l" t="t" r="r" b="b"/>
            <a:pathLst>
              <a:path w="711" h="471">
                <a:moveTo>
                  <a:pt x="0" y="471"/>
                </a:moveTo>
                <a:cubicBezTo>
                  <a:pt x="34" y="428"/>
                  <a:pt x="78" y="302"/>
                  <a:pt x="197" y="223"/>
                </a:cubicBezTo>
                <a:cubicBezTo>
                  <a:pt x="316" y="144"/>
                  <a:pt x="534" y="63"/>
                  <a:pt x="7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9760" y="3605040"/>
            <a:ext cx="1038240" cy="281160"/>
          </a:xfrm>
          <a:custGeom>
            <a:avLst/>
            <a:gdLst/>
            <a:ahLst/>
            <a:rect l="l" t="t" r="r" b="b"/>
            <a:pathLst>
              <a:path w="234" h="163">
                <a:moveTo>
                  <a:pt x="234" y="163"/>
                </a:moveTo>
                <a:cubicBezTo>
                  <a:pt x="154" y="125"/>
                  <a:pt x="74" y="87"/>
                  <a:pt x="37" y="60"/>
                </a:cubicBezTo>
                <a:cubicBezTo>
                  <a:pt x="0" y="33"/>
                  <a:pt x="5" y="16"/>
                  <a:pt x="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987720" y="4422600"/>
            <a:ext cx="1501920" cy="1135080"/>
            <a:chOff x="3987720" y="4422600"/>
            <a:chExt cx="1501920" cy="1135080"/>
          </a:xfrm>
        </p:grpSpPr>
        <p:sp>
          <p:nvSpPr>
            <p:cNvPr id="97" name=""/>
            <p:cNvSpPr/>
            <p:nvPr/>
          </p:nvSpPr>
          <p:spPr>
            <a:xfrm>
              <a:off x="3987720" y="4422600"/>
              <a:ext cx="914400" cy="46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25960" y="4970520"/>
              <a:ext cx="1363680" cy="58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13F4-7ACA-4AF6-BD09-00B2A61F98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(4.6, 4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lecture: syntax, semistructu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lectures: DTDs, XPath, 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2B8-AA19-4749-B4EB-AC632B138C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emantics: a Tre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266760" y="2133720"/>
            <a:ext cx="389952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o555”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Mapl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345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Seattle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Thai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3456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61120" y="1974960"/>
            <a:ext cx="7336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4710240"/>
            <a:ext cx="9424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51600" y="2500560"/>
            <a:ext cx="1022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37600" y="2805120"/>
            <a:ext cx="1022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57760" y="37195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07960" y="3643560"/>
            <a:ext cx="11170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00960" y="39481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62360" y="3872160"/>
            <a:ext cx="11170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20600" y="46339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2480" y="4633920"/>
            <a:ext cx="5439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03440" y="4633920"/>
            <a:ext cx="68652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90480" y="5472360"/>
            <a:ext cx="1037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33120" y="5472360"/>
            <a:ext cx="6879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77880" y="5548320"/>
            <a:ext cx="1082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a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50360" y="4938840"/>
            <a:ext cx="8632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14640" y="4710240"/>
            <a:ext cx="8301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3"/>
            <a:endCxn id="103" idx="7"/>
          </p:cNvCxnSpPr>
          <p:nvPr/>
        </p:nvCxnSpPr>
        <p:spPr>
          <a:xfrm flipH="1">
            <a:off x="6001920" y="2371680"/>
            <a:ext cx="38664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5"/>
            <a:endCxn id="104" idx="1"/>
          </p:cNvCxnSpPr>
          <p:nvPr/>
        </p:nvCxnSpPr>
        <p:spPr>
          <a:xfrm>
            <a:off x="6867360" y="2371680"/>
            <a:ext cx="74232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3" idx="3"/>
            <a:endCxn id="105" idx="7"/>
          </p:cNvCxnSpPr>
          <p:nvPr/>
        </p:nvCxnSpPr>
        <p:spPr>
          <a:xfrm flipH="1">
            <a:off x="4583880" y="2897280"/>
            <a:ext cx="739080" cy="90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3" idx="4"/>
            <a:endCxn id="106" idx="0"/>
          </p:cNvCxnSpPr>
          <p:nvPr/>
        </p:nvCxnSpPr>
        <p:spPr>
          <a:xfrm flipH="1">
            <a:off x="5567040" y="2962080"/>
            <a:ext cx="95760" cy="69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4" idx="3"/>
            <a:endCxn id="107" idx="0"/>
          </p:cNvCxnSpPr>
          <p:nvPr/>
        </p:nvCxnSpPr>
        <p:spPr>
          <a:xfrm flipH="1">
            <a:off x="7038360" y="3201480"/>
            <a:ext cx="57060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4" idx="4"/>
            <a:endCxn id="108" idx="0"/>
          </p:cNvCxnSpPr>
          <p:nvPr/>
        </p:nvCxnSpPr>
        <p:spPr>
          <a:xfrm flipH="1">
            <a:off x="7921440" y="3267000"/>
            <a:ext cx="27360" cy="61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5" idx="4"/>
            <a:endCxn id="102" idx="0"/>
          </p:cNvCxnSpPr>
          <p:nvPr/>
        </p:nvCxnSpPr>
        <p:spPr>
          <a:xfrm flipH="1">
            <a:off x="4250880" y="4181400"/>
            <a:ext cx="4536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06" idx="3"/>
            <a:endCxn id="109" idx="0"/>
          </p:cNvCxnSpPr>
          <p:nvPr/>
        </p:nvCxnSpPr>
        <p:spPr>
          <a:xfrm flipH="1">
            <a:off x="5059440" y="4039920"/>
            <a:ext cx="13356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06" idx="4"/>
            <a:endCxn id="110" idx="0"/>
          </p:cNvCxnSpPr>
          <p:nvPr/>
        </p:nvCxnSpPr>
        <p:spPr>
          <a:xfrm>
            <a:off x="5567040" y="4105440"/>
            <a:ext cx="23724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06" idx="5"/>
            <a:endCxn id="111" idx="0"/>
          </p:cNvCxnSpPr>
          <p:nvPr/>
        </p:nvCxnSpPr>
        <p:spPr>
          <a:xfrm>
            <a:off x="5940000" y="4039920"/>
            <a:ext cx="50688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09" idx="4"/>
            <a:endCxn id="112" idx="0"/>
          </p:cNvCxnSpPr>
          <p:nvPr/>
        </p:nvCxnSpPr>
        <p:spPr>
          <a:xfrm flipH="1">
            <a:off x="4809240" y="5095440"/>
            <a:ext cx="25020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0" idx="4"/>
            <a:endCxn id="113" idx="0"/>
          </p:cNvCxnSpPr>
          <p:nvPr/>
        </p:nvCxnSpPr>
        <p:spPr>
          <a:xfrm flipH="1">
            <a:off x="5776200" y="5095440"/>
            <a:ext cx="2772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11" idx="4"/>
            <a:endCxn id="114" idx="0"/>
          </p:cNvCxnSpPr>
          <p:nvPr/>
        </p:nvCxnSpPr>
        <p:spPr>
          <a:xfrm>
            <a:off x="6446520" y="5095440"/>
            <a:ext cx="173880" cy="4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07" idx="4"/>
            <a:endCxn id="115" idx="0"/>
          </p:cNvCxnSpPr>
          <p:nvPr/>
        </p:nvCxnSpPr>
        <p:spPr>
          <a:xfrm>
            <a:off x="7038720" y="4410000"/>
            <a:ext cx="14364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08" idx="4"/>
            <a:endCxn id="116" idx="0"/>
          </p:cNvCxnSpPr>
          <p:nvPr/>
        </p:nvCxnSpPr>
        <p:spPr>
          <a:xfrm>
            <a:off x="7921800" y="4334040"/>
            <a:ext cx="8640" cy="39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8139600" y="4100760"/>
            <a:ext cx="9597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21960" y="5015160"/>
            <a:ext cx="977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34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04" idx="5"/>
            <a:endCxn id="132" idx="0"/>
          </p:cNvCxnSpPr>
          <p:nvPr/>
        </p:nvCxnSpPr>
        <p:spPr>
          <a:xfrm>
            <a:off x="8288280" y="3201840"/>
            <a:ext cx="33264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2" idx="4"/>
            <a:endCxn id="133" idx="0"/>
          </p:cNvCxnSpPr>
          <p:nvPr/>
        </p:nvCxnSpPr>
        <p:spPr>
          <a:xfrm flipH="1">
            <a:off x="8609760" y="4562640"/>
            <a:ext cx="10440" cy="46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627720" y="3338640"/>
            <a:ext cx="47880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22080" y="4253040"/>
            <a:ext cx="8326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5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03" idx="2"/>
            <a:endCxn id="136" idx="7"/>
          </p:cNvCxnSpPr>
          <p:nvPr/>
        </p:nvCxnSpPr>
        <p:spPr>
          <a:xfrm flipH="1">
            <a:off x="4014000" y="2738160"/>
            <a:ext cx="1167480" cy="68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6" idx="3"/>
            <a:endCxn id="137" idx="0"/>
          </p:cNvCxnSpPr>
          <p:nvPr/>
        </p:nvCxnSpPr>
        <p:spPr>
          <a:xfrm>
            <a:off x="3719160" y="3735000"/>
            <a:ext cx="19800" cy="5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0" name=""/>
          <p:cNvGrpSpPr/>
          <p:nvPr/>
        </p:nvGrpSpPr>
        <p:grpSpPr>
          <a:xfrm>
            <a:off x="3925440" y="1523880"/>
            <a:ext cx="5067360" cy="4701600"/>
            <a:chOff x="3925440" y="1523880"/>
            <a:chExt cx="5067360" cy="4701600"/>
          </a:xfrm>
        </p:grpSpPr>
        <p:sp>
          <p:nvSpPr>
            <p:cNvPr id="141" name=""/>
            <p:cNvSpPr/>
            <p:nvPr/>
          </p:nvSpPr>
          <p:spPr>
            <a:xfrm>
              <a:off x="7890120" y="1523880"/>
              <a:ext cx="1102680" cy="739080"/>
            </a:xfrm>
            <a:prstGeom prst="wedgeEllipseCallout">
              <a:avLst>
                <a:gd name="adj1" fmla="val -37958"/>
                <a:gd name="adj2" fmla="val 1143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83840" y="5486400"/>
              <a:ext cx="752040" cy="739080"/>
            </a:xfrm>
            <a:prstGeom prst="wedgeEllipseCallout">
              <a:avLst>
                <a:gd name="adj1" fmla="val -115884"/>
                <a:gd name="adj2" fmla="val -1519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25440" y="1752480"/>
              <a:ext cx="1176840" cy="739080"/>
            </a:xfrm>
            <a:prstGeom prst="wedgeEllipseCallout">
              <a:avLst>
                <a:gd name="adj1" fmla="val -52324"/>
                <a:gd name="adj2" fmla="val 15281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325760" y="621360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Order matters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6E03-A710-4FC1-B692-84E810F46C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lf-describ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elements become part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tional schema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(name,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XML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re part of the data, and are repeated many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XML is much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mistructu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7671-19E0-4716-95FE-D8B03510C5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8160" y="120600"/>
            <a:ext cx="8983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Relational Data to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66720" y="3657600"/>
            <a:ext cx="46818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6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Su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634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Dick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636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459400" y="1752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501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50120" y="17524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93848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72000" y="2313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081840" y="2313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50120" y="2286000"/>
            <a:ext cx="3175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071840" y="23130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5344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29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73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400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640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204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8732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29718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81280" y="332568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4376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77280" y="3325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96600" y="33256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ck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6308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1100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6360" y="2971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29000" y="1413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2880" y="1574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04920" y="3581280"/>
          <a:ext cx="3504960" cy="1822680"/>
        </p:xfrm>
        <a:graphic>
          <a:graphicData uri="http://schemas.openxmlformats.org/drawingml/2006/table">
            <a:tbl>
              <a:tblPr/>
              <a:tblGrid>
                <a:gridCol w="1752120"/>
                <a:gridCol w="1752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353880" y="153180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onical mapp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EC3-9850-499E-A841-177E186E2C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0320" y="120600"/>
            <a:ext cx="89834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Relational Data to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4143240" cy="527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363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2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izmo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adget &lt;/pro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c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Sue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6343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adget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6360" y="20574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2666880"/>
          <a:ext cx="3504960" cy="136692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352440" y="153180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specific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2320" y="41911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80880" y="4800600"/>
          <a:ext cx="3886200" cy="1822320"/>
        </p:xfrm>
        <a:graphic>
          <a:graphicData uri="http://schemas.openxmlformats.org/drawingml/2006/table">
            <a:tbl>
              <a:tblPr/>
              <a:tblGrid>
                <a:gridCol w="1752840"/>
                <a:gridCol w="914400"/>
                <a:gridCol w="1218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erson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574160" y="1219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D30-E0B1-4A0B-B55D-9737581B43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represent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le with nu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32400" y="2565360"/>
            <a:ext cx="4426200" cy="18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ohn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Joe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07840" y="3886200"/>
            <a:ext cx="1811520" cy="566640"/>
          </a:xfrm>
          <a:prstGeom prst="wedgeEllipseCallout">
            <a:avLst>
              <a:gd name="adj1" fmla="val -73601"/>
              <a:gd name="adj2" fmla="val 149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hon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029200" y="5029200"/>
          <a:ext cx="2133720" cy="155268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1813-ACAC-4EB0-9F88-1608B1E57DA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ssible in 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4680" y="2590920"/>
            <a:ext cx="42739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Mary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2345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3456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419720" y="5105520"/>
          <a:ext cx="3200400" cy="136656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  <a:gridCol w="1067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7925400" y="54864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42680" y="3886200"/>
            <a:ext cx="2253240" cy="566640"/>
          </a:xfrm>
          <a:prstGeom prst="wedgeEllipseCallout">
            <a:avLst>
              <a:gd name="adj1" fmla="val -70638"/>
              <a:gd name="adj2" fmla="val -6231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hon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843-4E03-45F8-A9DA-C120173D3D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with different types in different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ed collections (no 1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erogeneous colle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&lt;db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tains both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nd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ublisher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2590920"/>
            <a:ext cx="5125680" cy="173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16120" y="3822840"/>
            <a:ext cx="1765800" cy="999720"/>
          </a:xfrm>
          <a:prstGeom prst="wedgeEllipseCallout">
            <a:avLst>
              <a:gd name="adj1" fmla="val -87259"/>
              <a:gd name="adj2" fmla="val -8808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DAC7-36D8-4610-A449-8B300DE384B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ument Type Defini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the original XML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XML document may have a 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ocu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ll-form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if tags are correctly cl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f it has a DTD and conforms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 is useful in data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53F9-1B10-447E-8129-355B47EAB0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4320" y="2057400"/>
            <a:ext cx="711396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589-7296-43B7-89F5-01B0F12CC54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17960" y="2209680"/>
            <a:ext cx="455904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56789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ohn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432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987654321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im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123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... 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5120" y="164160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valid XML docu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0089-5B2F-448D-97F3-172A47C9CE6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Readings on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source: www.w3.org (but hard to 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w3.org/XML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ly recommend read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w3.org/XML/1999/XML-in-10-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zvon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org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xxl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/XMLTutorial/General/book_e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XPath and XQuery (next lectur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galaxquery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A62E-B055-44C4-B0D3-9096820DC5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: The Conten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 = a regular expression over other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-only = #PC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ty = 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= 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ed content = (#PCDATA | A | B | C)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41040" y="1905120"/>
            <a:ext cx="4779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09040" y="2590920"/>
            <a:ext cx="1215720" cy="912600"/>
          </a:xfrm>
          <a:prstGeom prst="wedgeEllipseCallout">
            <a:avLst>
              <a:gd name="adj1" fmla="val -78328"/>
              <a:gd name="adj2" fmla="val -7050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8225-096E-4A9A-8EB5-B58309D0FCA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: Regular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9440" y="2489040"/>
            <a:ext cx="42145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00800" y="2517840"/>
            <a:ext cx="3352320" cy="92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9800" y="4013280"/>
            <a:ext cx="51523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irstNam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20800" y="1600200"/>
            <a:ext cx="1144800" cy="652680"/>
          </a:xfrm>
          <a:prstGeom prst="wedgeEllipseCallout">
            <a:avLst>
              <a:gd name="adj1" fmla="val -2500"/>
              <a:gd name="adj2" fmla="val 8720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78240" y="1600200"/>
            <a:ext cx="1218240" cy="652680"/>
          </a:xfrm>
          <a:prstGeom prst="wedgeEllipseCallout">
            <a:avLst>
              <a:gd name="adj1" fmla="val -5245"/>
              <a:gd name="adj2" fmla="val 11416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160" y="5079960"/>
            <a:ext cx="4502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, phone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400" y="2022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4680" y="35463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9800" y="6146640"/>
            <a:ext cx="5247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, (phone|emai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520" y="46483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eene 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3120" y="571500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274320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05520" y="510552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51640" y="4422600"/>
            <a:ext cx="2742480" cy="154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. .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B63B-EC84-44A2-84B1-CBA8E545C2C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ble Markup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1.0 – a recommendation from W3C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s: SGML (a very nasty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roots: a format for sharing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0E82-684B-4BA8-8B8B-F168976D4C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data does not have a 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can’t “give” you my relationa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mport it from other other syntax, like CSV (comma-separated-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= rich syntax fo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XML is not relational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mistruct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 any data to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 it in files, exchange on the Web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query it directly, using XPath, 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4BF5-76BC-41FC-B8EF-5738DF597A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HTML to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57240" y="1700280"/>
            <a:ext cx="5429520" cy="3814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47800" y="5786280"/>
            <a:ext cx="564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HTML describes the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18EC-7E76-4300-AE42-84074439A6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Bibliography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teboul, Hull, Vi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br&gt; Addison Wesley, 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Data on the Web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teoul, Buneman, Suc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Morgan Kaufmann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C7BD-E727-4FD0-A0BF-55B7541C00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234200" cy="480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Foundations…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Vianu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ddison Wesle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0" y="62024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XML describes the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9203-1A96-4462-9782-A3E1695658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360" y="1752480"/>
            <a:ext cx="7810560" cy="35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s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ag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 end tag: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are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element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brv.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XML document: sing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o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0760" y="59324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cc"/>
                </a:solidFill>
                <a:latin typeface="Arial"/>
              </a:rPr>
              <a:t>well formed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XML document: if it has matching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42C3-F55A-4173-8CFB-A481AAAC31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10-17T00:13:03Z</dcterms:modified>
  <cp:revision>208</cp:revision>
  <dc:subject/>
  <dc:title>Lecture 09:</dc:title>
</cp:coreProperties>
</file>