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3940-4F4D-4105-949F-9F55BBB6C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6D4-AFF2-4B4B-80D8-677CAAAB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4CB-044F-4FDB-8E41-B91A9039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9711-FB76-4195-A1CD-EB5E3D8C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18D-0067-435A-90EC-EE61580F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EAA3-D339-4F2A-AC43-FDCC7320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38F1-BB6B-4E71-9360-DAE76B91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B95-4E20-4668-B0E0-CF451E99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51DA-2A48-4178-A07D-89473B83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F0E-2226-413B-BE2B-0E7D00E4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3F16-8779-444F-8373-C3B54D7A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3BB-ED37-4B18-8DB9-7AB34359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B4E8-502C-4075-9FBA-1E2E9C17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5B37-6119-4D5D-B738-182935521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14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566-59FE-45FF-9929-1BA63FE51C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4280" y="5410080"/>
            <a:ext cx="38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e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3000" y="1828800"/>
          <a:ext cx="7010280" cy="2278080"/>
        </p:xfrm>
        <a:graphic>
          <a:graphicData uri="http://schemas.openxmlformats.org/drawingml/2006/table">
            <a:tbl>
              <a:tblPr/>
              <a:tblGrid>
                <a:gridCol w="1219320"/>
                <a:gridCol w="1981080"/>
                <a:gridCol w="205740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612360" y="4419720"/>
            <a:ext cx="267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0720" y="5715000"/>
            <a:ext cx="35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“bad”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EDFE-C711-4914-B555-3FAD12DCF6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or Key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have more than one ke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B,C) define FD’s s.t. there are two or more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34A-447A-4241-A963-D8B63F5FAE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or Key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have more than one ke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B,C) define FD’s s.t. there are two or more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2360" y="4419720"/>
            <a:ext cx="14245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50120" y="4419720"/>
            <a:ext cx="14245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904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88760" y="579132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 he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03760" y="6235560"/>
            <a:ext cx="65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design FDs such that there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6FD-7D7E-4615-8407-EC3103DEE7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2000" y="190512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0600" y="457200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: there are no “bad” F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9840" y="2666880"/>
            <a:ext cx="6044040" cy="16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BCNF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is a non-trivial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 R ,   then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is a superkey for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8520" y="5334120"/>
            <a:ext cx="599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l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, either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)    or  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ll attrib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A241-8F29-407C-83EF-392FC07FF6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724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14240" y="49528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0984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975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9080" y="388620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9720" y="1752480"/>
            <a:ext cx="8423280" cy="207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p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hoos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violates BNC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plit R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[others]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ntinue with bo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more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77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47120" y="5943600"/>
            <a:ext cx="393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we ha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etter algorithm (coming 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427B-D5DA-42E5-8185-81C85775A6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4280" y="5410080"/>
            <a:ext cx="38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e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828800"/>
          <a:ext cx="7010280" cy="2278080"/>
        </p:xfrm>
        <a:graphic>
          <a:graphicData uri="http://schemas.openxmlformats.org/drawingml/2006/table">
            <a:tbl>
              <a:tblPr/>
              <a:tblGrid>
                <a:gridCol w="1219320"/>
                <a:gridCol w="1981080"/>
                <a:gridCol w="205740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612360" y="4419720"/>
            <a:ext cx="267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0720" y="5715000"/>
            <a:ext cx="316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AA4-6911-4323-A670-053FAE6845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00200" y="2209680"/>
          <a:ext cx="4514760" cy="118584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676520" y="3886200"/>
          <a:ext cx="3962160" cy="19764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6322680" y="2362320"/>
            <a:ext cx="26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87360" y="3809880"/>
            <a:ext cx="299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check anoma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D29C-DECF-47C8-A626-CF289947B2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compos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1000" y="167652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880" y="3089160"/>
            <a:ext cx="40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 BCNF (in 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038-FCCF-4AAE-9268-672C07A22E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42040" y="1752480"/>
            <a:ext cx="700056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_Decompose(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X s.t.: X ≠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t found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R is in BCNF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Z = [all attributes] -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decompose R into R1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) and R2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ontinue to decompose recursively R1 and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7AB3-F846-4C76-B0FD-5BCAADF371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5160" y="156528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0960" y="2922480"/>
            <a:ext cx="59781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1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+ = SSN, name,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to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age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2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+ =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opl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ag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Hair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g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2080" y="228600"/>
            <a:ext cx="44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X s.t.: X ≠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49280" y="5090400"/>
            <a:ext cx="198108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D4E-8800-40C2-AA23-5C4BE0AB9C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1: solutions are p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2: posted (due: Oct. 2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Phase 1A: due to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term: still November 2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: still December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site is now updated with all 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7FE-8C4C-4196-8464-7B8A63FE57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01920" y="4709880"/>
            <a:ext cx="198108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72160" y="380880"/>
            <a:ext cx="1381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81560" y="1828800"/>
            <a:ext cx="4386960" cy="121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,D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BC ≠ AB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920" y="177840"/>
            <a:ext cx="19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7960" y="6019920"/>
            <a:ext cx="8496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f in R we first pick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?  Or 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208520" y="2844720"/>
            <a:ext cx="7174440" cy="2158920"/>
            <a:chOff x="1208520" y="2844720"/>
            <a:chExt cx="7174440" cy="2158920"/>
          </a:xfrm>
        </p:grpSpPr>
        <p:sp>
          <p:nvSpPr>
            <p:cNvPr id="131" name=""/>
            <p:cNvSpPr/>
            <p:nvPr/>
          </p:nvSpPr>
          <p:spPr>
            <a:xfrm>
              <a:off x="1208520" y="3581280"/>
              <a:ext cx="3634560" cy="142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,B,C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BC ≠ AB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62000" y="3657600"/>
              <a:ext cx="1920960" cy="819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,D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" name=""/>
            <p:cNvCxnSpPr>
              <a:stCxn id="127" idx="3"/>
              <a:endCxn id="131" idx="0"/>
            </p:cNvCxnSpPr>
            <p:nvPr/>
          </p:nvCxnSpPr>
          <p:spPr>
            <a:xfrm flipH="1">
              <a:off x="3025080" y="2844720"/>
              <a:ext cx="205560" cy="73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7" idx="5"/>
              <a:endCxn id="132" idx="0"/>
            </p:cNvCxnSpPr>
            <p:nvPr/>
          </p:nvCxnSpPr>
          <p:spPr>
            <a:xfrm>
              <a:off x="6318000" y="2844720"/>
              <a:ext cx="1105560" cy="81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5" name=""/>
          <p:cNvGrpSpPr/>
          <p:nvPr/>
        </p:nvGrpSpPr>
        <p:grpSpPr>
          <a:xfrm>
            <a:off x="294840" y="4700160"/>
            <a:ext cx="5425920" cy="1198080"/>
            <a:chOff x="294840" y="4700160"/>
            <a:chExt cx="5425920" cy="1198080"/>
          </a:xfrm>
        </p:grpSpPr>
        <p:sp>
          <p:nvSpPr>
            <p:cNvPr id="136" name=""/>
            <p:cNvSpPr/>
            <p:nvPr/>
          </p:nvSpPr>
          <p:spPr>
            <a:xfrm>
              <a:off x="294840" y="5105520"/>
              <a:ext cx="1968120" cy="79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B,C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24920" y="5062320"/>
              <a:ext cx="1995840" cy="79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,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31" idx="3"/>
              <a:endCxn id="136" idx="0"/>
            </p:cNvCxnSpPr>
            <p:nvPr/>
          </p:nvCxnSpPr>
          <p:spPr>
            <a:xfrm flipH="1">
              <a:off x="1278720" y="4700160"/>
              <a:ext cx="46908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1" idx="5"/>
              <a:endCxn id="137" idx="0"/>
            </p:cNvCxnSpPr>
            <p:nvPr/>
          </p:nvCxnSpPr>
          <p:spPr>
            <a:xfrm>
              <a:off x="4303800" y="4700160"/>
              <a:ext cx="41976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2B3-D5F3-49F2-894A-92DA6E6959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9640" y="5029200"/>
            <a:ext cx="561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6152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5904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9356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654-50BC-489C-982D-DE6B476627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o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corr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819520" y="25909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447920" y="4648320"/>
          <a:ext cx="227952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486400" y="464832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 flipH="1">
            <a:off x="228600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1320" y="4114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35040" y="628956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les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D33-AB5C-44FE-A329-AF01ECD7EA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rect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no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819520" y="28195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914400" y="480060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715000" y="4876920"/>
          <a:ext cx="2170080" cy="1452600"/>
        </p:xfrm>
        <a:graphic>
          <a:graphicData uri="http://schemas.openxmlformats.org/drawingml/2006/table">
            <a:tbl>
              <a:tblPr/>
              <a:tblGrid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 flipH="1">
            <a:off x="1752120" y="4191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4114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71880" y="3033000"/>
            <a:ext cx="228312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rect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4400" y="626256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y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C1C-8B5A-4C50-8A20-9D22632782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6152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37880" y="4151160"/>
            <a:ext cx="4516200" cy="97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decomposi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4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9356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8960" y="6028560"/>
            <a:ext cx="7226280" cy="52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 decomposition is always lossless.  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7280" y="5334120"/>
            <a:ext cx="503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on’t ne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A45-36DE-43BA-90F5-A8E105109C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: A Problem with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64720" y="1828800"/>
            <a:ext cx="3410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50440" y="304812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,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8280" y="6172200"/>
            <a:ext cx="60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oose the FD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4572000" cy="1320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80880" y="3962520"/>
          <a:ext cx="3200400" cy="132084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419720" y="3962520"/>
          <a:ext cx="2819160" cy="1320840"/>
        </p:xfrm>
        <a:graphic>
          <a:graphicData uri="http://schemas.openxmlformats.org/drawingml/2006/table">
            <a:tbl>
              <a:tblPr/>
              <a:tblGrid>
                <a:gridCol w="1409400"/>
                <a:gridCol w="140976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1066320" y="3048120"/>
            <a:ext cx="3810600" cy="685800"/>
            <a:chOff x="1066320" y="3048120"/>
            <a:chExt cx="3810600" cy="685800"/>
          </a:xfrm>
        </p:grpSpPr>
        <p:sp>
          <p:nvSpPr>
            <p:cNvPr id="181" name=""/>
            <p:cNvSpPr/>
            <p:nvPr/>
          </p:nvSpPr>
          <p:spPr>
            <a:xfrm flipH="1">
              <a:off x="1066320" y="304812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67080" y="3048120"/>
              <a:ext cx="609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65200" y="5410080"/>
            <a:ext cx="230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9C68-08C7-47DB-8EC0-7F4CB56C15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’s the Probl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03240" y="3429000"/>
            <a:ext cx="64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 so far. All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D’s are satis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put all the data back into a single table ag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371600"/>
          <a:ext cx="3276720" cy="149220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aga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191120" y="1405080"/>
          <a:ext cx="3809880" cy="1490400"/>
        </p:xfrm>
        <a:graphic>
          <a:graphicData uri="http://schemas.openxmlformats.org/drawingml/2006/table">
            <a:tbl>
              <a:tblPr/>
              <a:tblGrid>
                <a:gridCol w="2058840"/>
                <a:gridCol w="1751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aga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95280" y="4419720"/>
          <a:ext cx="6095880" cy="15080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aga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641160" y="2895480"/>
            <a:ext cx="230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990000" y="6095880"/>
            <a:ext cx="6337080" cy="464760"/>
            <a:chOff x="990000" y="6095880"/>
            <a:chExt cx="6337080" cy="464760"/>
          </a:xfrm>
        </p:grpSpPr>
        <p:sp>
          <p:nvSpPr>
            <p:cNvPr id="191" name=""/>
            <p:cNvSpPr/>
            <p:nvPr/>
          </p:nvSpPr>
          <p:spPr>
            <a:xfrm>
              <a:off x="3916800" y="6095880"/>
              <a:ext cx="34102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Company, Produc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U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90000" y="6100920"/>
              <a:ext cx="21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olates the F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5926-8052-4CFE-97B1-BB61EA385F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tarted with a table R and 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composed R into BCNF tables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heir own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reconstruct R fro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e cannot reconstruct FD from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4E3-D2ED-4D7A-AF8A-ABB1AB4095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: 3rd Normal Form (3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5280" y="194616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9040" y="2819520"/>
            <a:ext cx="7919640" cy="224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3rd normal form if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re is a nontrivial dependency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R , then 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a super-key for 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 B is part of a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8840" y="541008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off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= no anomalies, but may lose some F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NF = keeps all FDs, but may have some 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CDF1-D8D9-4FD5-B25A-3BDCDD2ACD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3480" y="1676520"/>
            <a:ext cx="7587720" cy="478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NF_Decompose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 = [all attributes that are part of some key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X s.t.: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X - K ≠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t found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R is already in 3NF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X - 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Z = [all attributes] - 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 into R1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) and R2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ecompose, recursively, R1 and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8BA-4257-4A58-8B6B-0C27E063A6A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of a Relational schema (3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E48-8180-4215-AE71-E0193B97C7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3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120" y="1600200"/>
            <a:ext cx="2008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A,B,C,D,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8760" y="2209680"/>
            <a:ext cx="12049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0480" y="1905120"/>
            <a:ext cx="552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: (need to compute X+, for several X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, AC, 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7680" y="29718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{A, B, C, 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32120" y="3505320"/>
            <a:ext cx="391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X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+  = BC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DE is a BCNF 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1440" y="5791320"/>
            <a:ext cx="574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is in 3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 is in 3NF (because its keys: AB, AC, 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60560" y="4603680"/>
            <a:ext cx="47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3NF: remove B, D (part of K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is a 3NF 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  R1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), R2(A,B,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BD9F-BB33-4855-A907-FB97A97E5DE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6320" y="5867280"/>
            <a:ext cx="8915400" cy="914400"/>
          </a:xfrm>
          <a:prstGeom prst="ellipse">
            <a:avLst/>
          </a:prstGeom>
          <a:solidFill>
            <a:srgbClr val="00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 v.s.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828800" y="1828800"/>
          <a:ext cx="5486400" cy="54756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04920" y="3124080"/>
          <a:ext cx="3047760" cy="54792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5105520" y="3124080"/>
          <a:ext cx="3047760" cy="547560"/>
        </p:xfrm>
        <a:graphic>
          <a:graphicData uri="http://schemas.openxmlformats.org/drawingml/2006/table">
            <a:tbl>
              <a:tblPr/>
              <a:tblGrid>
                <a:gridCol w="609120"/>
                <a:gridCol w="609840"/>
                <a:gridCol w="609480"/>
                <a:gridCol w="609480"/>
                <a:gridCol w="60984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800600" y="4481640"/>
          <a:ext cx="1828800" cy="54756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7086600" y="4481640"/>
          <a:ext cx="1828800" cy="547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52280" y="4495680"/>
          <a:ext cx="1828800" cy="54792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438280" y="4495680"/>
          <a:ext cx="1828800" cy="547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 flipH="1">
            <a:off x="2133360" y="24382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24382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38862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38862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3772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5623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5334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28240" y="5334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5334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514240" y="5334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5334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952520" y="5334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29600" y="52578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7238520" y="52578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632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44792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243828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388620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060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624852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7238880" y="601992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8458200" y="5943600"/>
          <a:ext cx="457200" cy="54756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0" name=""/>
          <p:cNvGrpSpPr/>
          <p:nvPr/>
        </p:nvGrpSpPr>
        <p:grpSpPr>
          <a:xfrm>
            <a:off x="33480" y="3860640"/>
            <a:ext cx="8958240" cy="2928960"/>
            <a:chOff x="33480" y="3860640"/>
            <a:chExt cx="8958240" cy="2928960"/>
          </a:xfrm>
        </p:grpSpPr>
        <p:sp>
          <p:nvSpPr>
            <p:cNvPr id="241" name=""/>
            <p:cNvSpPr/>
            <p:nvPr/>
          </p:nvSpPr>
          <p:spPr>
            <a:xfrm>
              <a:off x="33480" y="3860640"/>
              <a:ext cx="8958240" cy="2928960"/>
            </a:xfrm>
            <a:custGeom>
              <a:avLst/>
              <a:gdLst/>
              <a:ahLst/>
              <a:rect l="l" t="t" r="r" b="b"/>
              <a:pathLst>
                <a:path w="5643" h="1845">
                  <a:moveTo>
                    <a:pt x="0" y="1248"/>
                  </a:moveTo>
                  <a:cubicBezTo>
                    <a:pt x="3" y="1369"/>
                    <a:pt x="5" y="1490"/>
                    <a:pt x="11" y="1611"/>
                  </a:cubicBezTo>
                  <a:cubicBezTo>
                    <a:pt x="17" y="1774"/>
                    <a:pt x="262" y="1822"/>
                    <a:pt x="384" y="1835"/>
                  </a:cubicBezTo>
                  <a:cubicBezTo>
                    <a:pt x="419" y="1838"/>
                    <a:pt x="455" y="1841"/>
                    <a:pt x="491" y="1845"/>
                  </a:cubicBezTo>
                  <a:cubicBezTo>
                    <a:pt x="625" y="1839"/>
                    <a:pt x="753" y="1828"/>
                    <a:pt x="886" y="1819"/>
                  </a:cubicBezTo>
                  <a:cubicBezTo>
                    <a:pt x="922" y="1808"/>
                    <a:pt x="960" y="1808"/>
                    <a:pt x="998" y="1803"/>
                  </a:cubicBezTo>
                  <a:cubicBezTo>
                    <a:pt x="1081" y="1771"/>
                    <a:pt x="1167" y="1774"/>
                    <a:pt x="1254" y="1755"/>
                  </a:cubicBezTo>
                  <a:cubicBezTo>
                    <a:pt x="1280" y="1728"/>
                    <a:pt x="1297" y="1707"/>
                    <a:pt x="1328" y="1685"/>
                  </a:cubicBezTo>
                  <a:cubicBezTo>
                    <a:pt x="1340" y="1665"/>
                    <a:pt x="1356" y="1648"/>
                    <a:pt x="1366" y="1627"/>
                  </a:cubicBezTo>
                  <a:cubicBezTo>
                    <a:pt x="1379" y="1597"/>
                    <a:pt x="1388" y="1565"/>
                    <a:pt x="1403" y="1536"/>
                  </a:cubicBezTo>
                  <a:cubicBezTo>
                    <a:pt x="1433" y="1472"/>
                    <a:pt x="1476" y="1420"/>
                    <a:pt x="1488" y="1349"/>
                  </a:cubicBezTo>
                  <a:cubicBezTo>
                    <a:pt x="1495" y="1196"/>
                    <a:pt x="1504" y="970"/>
                    <a:pt x="1670" y="901"/>
                  </a:cubicBezTo>
                  <a:cubicBezTo>
                    <a:pt x="1741" y="871"/>
                    <a:pt x="1847" y="880"/>
                    <a:pt x="1920" y="875"/>
                  </a:cubicBezTo>
                  <a:cubicBezTo>
                    <a:pt x="2180" y="855"/>
                    <a:pt x="1849" y="868"/>
                    <a:pt x="2230" y="859"/>
                  </a:cubicBezTo>
                  <a:cubicBezTo>
                    <a:pt x="2372" y="862"/>
                    <a:pt x="2471" y="870"/>
                    <a:pt x="2603" y="901"/>
                  </a:cubicBezTo>
                  <a:cubicBezTo>
                    <a:pt x="2627" y="917"/>
                    <a:pt x="2654" y="917"/>
                    <a:pt x="2683" y="923"/>
                  </a:cubicBezTo>
                  <a:cubicBezTo>
                    <a:pt x="2712" y="942"/>
                    <a:pt x="2717" y="951"/>
                    <a:pt x="2742" y="976"/>
                  </a:cubicBezTo>
                  <a:cubicBezTo>
                    <a:pt x="2753" y="999"/>
                    <a:pt x="2764" y="1023"/>
                    <a:pt x="2779" y="1045"/>
                  </a:cubicBezTo>
                  <a:cubicBezTo>
                    <a:pt x="2791" y="1097"/>
                    <a:pt x="2797" y="1153"/>
                    <a:pt x="2816" y="1205"/>
                  </a:cubicBezTo>
                  <a:cubicBezTo>
                    <a:pt x="2845" y="1287"/>
                    <a:pt x="2882" y="1367"/>
                    <a:pt x="2907" y="1451"/>
                  </a:cubicBezTo>
                  <a:cubicBezTo>
                    <a:pt x="2913" y="1522"/>
                    <a:pt x="2938" y="1585"/>
                    <a:pt x="2960" y="1653"/>
                  </a:cubicBezTo>
                  <a:cubicBezTo>
                    <a:pt x="2979" y="1713"/>
                    <a:pt x="2968" y="1745"/>
                    <a:pt x="3030" y="1776"/>
                  </a:cubicBezTo>
                  <a:cubicBezTo>
                    <a:pt x="3920" y="1757"/>
                    <a:pt x="3555" y="1764"/>
                    <a:pt x="4123" y="1755"/>
                  </a:cubicBezTo>
                  <a:cubicBezTo>
                    <a:pt x="4126" y="1754"/>
                    <a:pt x="4194" y="1749"/>
                    <a:pt x="4219" y="1739"/>
                  </a:cubicBezTo>
                  <a:cubicBezTo>
                    <a:pt x="4313" y="1698"/>
                    <a:pt x="4340" y="1642"/>
                    <a:pt x="4400" y="1568"/>
                  </a:cubicBezTo>
                  <a:cubicBezTo>
                    <a:pt x="4411" y="1554"/>
                    <a:pt x="4427" y="1544"/>
                    <a:pt x="4438" y="1531"/>
                  </a:cubicBezTo>
                  <a:cubicBezTo>
                    <a:pt x="4452" y="1512"/>
                    <a:pt x="4467" y="1470"/>
                    <a:pt x="4480" y="1451"/>
                  </a:cubicBezTo>
                  <a:cubicBezTo>
                    <a:pt x="4487" y="1439"/>
                    <a:pt x="4499" y="1430"/>
                    <a:pt x="4507" y="1419"/>
                  </a:cubicBezTo>
                  <a:cubicBezTo>
                    <a:pt x="4531" y="1380"/>
                    <a:pt x="4564" y="1329"/>
                    <a:pt x="4576" y="1285"/>
                  </a:cubicBezTo>
                  <a:cubicBezTo>
                    <a:pt x="4580" y="1265"/>
                    <a:pt x="4587" y="1227"/>
                    <a:pt x="4587" y="1227"/>
                  </a:cubicBezTo>
                  <a:cubicBezTo>
                    <a:pt x="4582" y="1192"/>
                    <a:pt x="4582" y="1017"/>
                    <a:pt x="4523" y="976"/>
                  </a:cubicBezTo>
                  <a:cubicBezTo>
                    <a:pt x="4500" y="881"/>
                    <a:pt x="4585" y="845"/>
                    <a:pt x="4662" y="837"/>
                  </a:cubicBezTo>
                  <a:cubicBezTo>
                    <a:pt x="4829" y="797"/>
                    <a:pt x="5078" y="820"/>
                    <a:pt x="5264" y="816"/>
                  </a:cubicBezTo>
                  <a:cubicBezTo>
                    <a:pt x="5379" y="809"/>
                    <a:pt x="5508" y="814"/>
                    <a:pt x="5622" y="779"/>
                  </a:cubicBezTo>
                  <a:cubicBezTo>
                    <a:pt x="5625" y="765"/>
                    <a:pt x="5637" y="754"/>
                    <a:pt x="5638" y="741"/>
                  </a:cubicBezTo>
                  <a:cubicBezTo>
                    <a:pt x="5639" y="695"/>
                    <a:pt x="5643" y="590"/>
                    <a:pt x="5616" y="539"/>
                  </a:cubicBezTo>
                  <a:cubicBezTo>
                    <a:pt x="5608" y="475"/>
                    <a:pt x="5594" y="431"/>
                    <a:pt x="5568" y="373"/>
                  </a:cubicBezTo>
                  <a:cubicBezTo>
                    <a:pt x="5550" y="334"/>
                    <a:pt x="5535" y="270"/>
                    <a:pt x="5499" y="245"/>
                  </a:cubicBezTo>
                  <a:cubicBezTo>
                    <a:pt x="5352" y="248"/>
                    <a:pt x="5238" y="257"/>
                    <a:pt x="5099" y="267"/>
                  </a:cubicBezTo>
                  <a:cubicBezTo>
                    <a:pt x="4864" y="262"/>
                    <a:pt x="4659" y="239"/>
                    <a:pt x="4438" y="309"/>
                  </a:cubicBezTo>
                  <a:cubicBezTo>
                    <a:pt x="4399" y="335"/>
                    <a:pt x="4407" y="334"/>
                    <a:pt x="4384" y="373"/>
                  </a:cubicBezTo>
                  <a:cubicBezTo>
                    <a:pt x="4370" y="431"/>
                    <a:pt x="4339" y="488"/>
                    <a:pt x="4315" y="544"/>
                  </a:cubicBezTo>
                  <a:cubicBezTo>
                    <a:pt x="4309" y="582"/>
                    <a:pt x="4294" y="613"/>
                    <a:pt x="4283" y="651"/>
                  </a:cubicBezTo>
                  <a:cubicBezTo>
                    <a:pt x="4273" y="682"/>
                    <a:pt x="4275" y="715"/>
                    <a:pt x="4267" y="747"/>
                  </a:cubicBezTo>
                  <a:cubicBezTo>
                    <a:pt x="4260" y="771"/>
                    <a:pt x="4227" y="816"/>
                    <a:pt x="4208" y="832"/>
                  </a:cubicBezTo>
                  <a:cubicBezTo>
                    <a:pt x="4167" y="865"/>
                    <a:pt x="4157" y="859"/>
                    <a:pt x="4118" y="880"/>
                  </a:cubicBezTo>
                  <a:cubicBezTo>
                    <a:pt x="4090" y="894"/>
                    <a:pt x="4079" y="911"/>
                    <a:pt x="4048" y="917"/>
                  </a:cubicBezTo>
                  <a:cubicBezTo>
                    <a:pt x="4011" y="942"/>
                    <a:pt x="3968" y="948"/>
                    <a:pt x="3926" y="960"/>
                  </a:cubicBezTo>
                  <a:cubicBezTo>
                    <a:pt x="3822" y="1030"/>
                    <a:pt x="3567" y="986"/>
                    <a:pt x="3536" y="987"/>
                  </a:cubicBezTo>
                  <a:cubicBezTo>
                    <a:pt x="3323" y="983"/>
                    <a:pt x="3221" y="980"/>
                    <a:pt x="3046" y="965"/>
                  </a:cubicBezTo>
                  <a:cubicBezTo>
                    <a:pt x="3021" y="953"/>
                    <a:pt x="2995" y="945"/>
                    <a:pt x="2971" y="933"/>
                  </a:cubicBezTo>
                  <a:cubicBezTo>
                    <a:pt x="2949" y="889"/>
                    <a:pt x="2943" y="850"/>
                    <a:pt x="2928" y="805"/>
                  </a:cubicBezTo>
                  <a:cubicBezTo>
                    <a:pt x="2917" y="739"/>
                    <a:pt x="2926" y="672"/>
                    <a:pt x="2912" y="608"/>
                  </a:cubicBezTo>
                  <a:cubicBezTo>
                    <a:pt x="2887" y="504"/>
                    <a:pt x="2864" y="424"/>
                    <a:pt x="2816" y="331"/>
                  </a:cubicBezTo>
                  <a:cubicBezTo>
                    <a:pt x="2802" y="305"/>
                    <a:pt x="2765" y="212"/>
                    <a:pt x="2731" y="181"/>
                  </a:cubicBezTo>
                  <a:cubicBezTo>
                    <a:pt x="2685" y="139"/>
                    <a:pt x="2618" y="113"/>
                    <a:pt x="2566" y="85"/>
                  </a:cubicBezTo>
                  <a:cubicBezTo>
                    <a:pt x="2506" y="52"/>
                    <a:pt x="2424" y="6"/>
                    <a:pt x="2358" y="5"/>
                  </a:cubicBezTo>
                  <a:cubicBezTo>
                    <a:pt x="2279" y="3"/>
                    <a:pt x="2201" y="1"/>
                    <a:pt x="2123" y="0"/>
                  </a:cubicBezTo>
                  <a:cubicBezTo>
                    <a:pt x="2036" y="3"/>
                    <a:pt x="1948" y="2"/>
                    <a:pt x="1862" y="11"/>
                  </a:cubicBezTo>
                  <a:cubicBezTo>
                    <a:pt x="1815" y="15"/>
                    <a:pt x="1815" y="32"/>
                    <a:pt x="1782" y="48"/>
                  </a:cubicBezTo>
                  <a:cubicBezTo>
                    <a:pt x="1736" y="69"/>
                    <a:pt x="1687" y="83"/>
                    <a:pt x="1643" y="107"/>
                  </a:cubicBezTo>
                  <a:cubicBezTo>
                    <a:pt x="1616" y="121"/>
                    <a:pt x="1597" y="139"/>
                    <a:pt x="1568" y="149"/>
                  </a:cubicBezTo>
                  <a:cubicBezTo>
                    <a:pt x="1533" y="172"/>
                    <a:pt x="1506" y="201"/>
                    <a:pt x="1488" y="240"/>
                  </a:cubicBezTo>
                  <a:cubicBezTo>
                    <a:pt x="1470" y="276"/>
                    <a:pt x="1484" y="258"/>
                    <a:pt x="1472" y="299"/>
                  </a:cubicBezTo>
                  <a:cubicBezTo>
                    <a:pt x="1468" y="311"/>
                    <a:pt x="1451" y="337"/>
                    <a:pt x="1446" y="347"/>
                  </a:cubicBezTo>
                  <a:cubicBezTo>
                    <a:pt x="1436" y="395"/>
                    <a:pt x="1403" y="433"/>
                    <a:pt x="1387" y="480"/>
                  </a:cubicBezTo>
                  <a:cubicBezTo>
                    <a:pt x="1373" y="517"/>
                    <a:pt x="1362" y="544"/>
                    <a:pt x="1344" y="581"/>
                  </a:cubicBezTo>
                  <a:cubicBezTo>
                    <a:pt x="1339" y="602"/>
                    <a:pt x="1329" y="619"/>
                    <a:pt x="1323" y="640"/>
                  </a:cubicBezTo>
                  <a:cubicBezTo>
                    <a:pt x="1326" y="672"/>
                    <a:pt x="1326" y="704"/>
                    <a:pt x="1334" y="736"/>
                  </a:cubicBezTo>
                  <a:cubicBezTo>
                    <a:pt x="1338" y="755"/>
                    <a:pt x="1360" y="789"/>
                    <a:pt x="1360" y="789"/>
                  </a:cubicBezTo>
                  <a:cubicBezTo>
                    <a:pt x="1358" y="798"/>
                    <a:pt x="1360" y="808"/>
                    <a:pt x="1355" y="816"/>
                  </a:cubicBezTo>
                  <a:cubicBezTo>
                    <a:pt x="1350" y="821"/>
                    <a:pt x="1340" y="817"/>
                    <a:pt x="1334" y="821"/>
                  </a:cubicBezTo>
                  <a:cubicBezTo>
                    <a:pt x="1322" y="826"/>
                    <a:pt x="1313" y="837"/>
                    <a:pt x="1302" y="843"/>
                  </a:cubicBezTo>
                  <a:cubicBezTo>
                    <a:pt x="1276" y="853"/>
                    <a:pt x="1223" y="856"/>
                    <a:pt x="1200" y="859"/>
                  </a:cubicBezTo>
                  <a:cubicBezTo>
                    <a:pt x="1170" y="865"/>
                    <a:pt x="1097" y="899"/>
                    <a:pt x="1067" y="901"/>
                  </a:cubicBezTo>
                  <a:cubicBezTo>
                    <a:pt x="971" y="904"/>
                    <a:pt x="875" y="905"/>
                    <a:pt x="779" y="907"/>
                  </a:cubicBezTo>
                  <a:cubicBezTo>
                    <a:pt x="728" y="931"/>
                    <a:pt x="778" y="901"/>
                    <a:pt x="752" y="933"/>
                  </a:cubicBezTo>
                  <a:cubicBezTo>
                    <a:pt x="699" y="995"/>
                    <a:pt x="589" y="958"/>
                    <a:pt x="507" y="960"/>
                  </a:cubicBezTo>
                  <a:cubicBezTo>
                    <a:pt x="449" y="999"/>
                    <a:pt x="393" y="978"/>
                    <a:pt x="315" y="981"/>
                  </a:cubicBezTo>
                  <a:cubicBezTo>
                    <a:pt x="257" y="1009"/>
                    <a:pt x="195" y="1009"/>
                    <a:pt x="139" y="1045"/>
                  </a:cubicBezTo>
                  <a:cubicBezTo>
                    <a:pt x="119" y="1072"/>
                    <a:pt x="103" y="1093"/>
                    <a:pt x="70" y="1104"/>
                  </a:cubicBezTo>
                  <a:cubicBezTo>
                    <a:pt x="48" y="1118"/>
                    <a:pt x="49" y="1134"/>
                    <a:pt x="38" y="1157"/>
                  </a:cubicBezTo>
                  <a:lnTo>
                    <a:pt x="27" y="1264"/>
                  </a:lnTo>
                </a:path>
              </a:pathLst>
            </a:custGeom>
            <a:solidFill>
              <a:srgbClr val="ccffff">
                <a:alpha val="4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59760" y="3886200"/>
              <a:ext cx="8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N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73F-CA41-4BBC-A5CF-97ABA701DC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1960" y="2022480"/>
            <a:ext cx="83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ven a relation constructed from an E/R diagram, what is its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3120" y="2530440"/>
            <a:ext cx="8070480" cy="131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 1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 relation comes from an entity se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ttributes which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of the entity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28600" y="4648320"/>
            <a:ext cx="4723920" cy="1396800"/>
            <a:chOff x="228600" y="4648320"/>
            <a:chExt cx="4723920" cy="1396800"/>
          </a:xfrm>
        </p:grpSpPr>
        <p:sp>
          <p:nvSpPr>
            <p:cNvPr id="247" name=""/>
            <p:cNvSpPr/>
            <p:nvPr/>
          </p:nvSpPr>
          <p:spPr>
            <a:xfrm>
              <a:off x="228600" y="5561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53800" y="5507640"/>
              <a:ext cx="101952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32640" y="5507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s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17040" y="4648320"/>
              <a:ext cx="1771560" cy="537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140480" y="5185440"/>
              <a:ext cx="118116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22000" y="5185440"/>
              <a:ext cx="21456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2000" y="5185440"/>
              <a:ext cx="1717560" cy="42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333040" y="46483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, nam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4952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C36-F947-485F-A6F2-EA47F0986D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5840" y="3321000"/>
            <a:ext cx="1822320" cy="55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21040" y="3154320"/>
            <a:ext cx="1104840" cy="9939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97200" y="3443400"/>
            <a:ext cx="1546200" cy="552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58760" y="293364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5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63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1998720" y="3321000"/>
            <a:ext cx="10944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052720" y="3983040"/>
            <a:ext cx="38736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33680" y="36511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25880" y="3651120"/>
            <a:ext cx="9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195960" y="3871800"/>
            <a:ext cx="38736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83320" y="3871800"/>
            <a:ext cx="44136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65680" y="6033960"/>
            <a:ext cx="33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me, 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78280" y="445788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1800" y="4152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9040" y="1158840"/>
            <a:ext cx="8181720" cy="131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f the relation comes from a many-many relationshi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ll attribute keys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 corresponding to the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6D7-9F07-430F-A11C-400E5C425AF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2600" y="1332000"/>
            <a:ext cx="7813080" cy="91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cep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re is an arrow from the relationship to E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need the key of E as part of the relation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057400" y="2514600"/>
            <a:ext cx="5029200" cy="2239920"/>
            <a:chOff x="2057400" y="2514600"/>
            <a:chExt cx="5029200" cy="2239920"/>
          </a:xfrm>
        </p:grpSpPr>
        <p:sp>
          <p:nvSpPr>
            <p:cNvPr id="278" name=""/>
            <p:cNvSpPr/>
            <p:nvPr/>
          </p:nvSpPr>
          <p:spPr>
            <a:xfrm>
              <a:off x="4069080" y="3017160"/>
              <a:ext cx="914040" cy="822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40280" y="2514600"/>
              <a:ext cx="13255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40480" y="429732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60720" y="320004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83480" y="3428640"/>
              <a:ext cx="7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26280" y="3840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66160" y="2971800"/>
              <a:ext cx="5029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57400" y="4205880"/>
              <a:ext cx="1325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reditC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3382920" y="3428640"/>
              <a:ext cx="685800" cy="77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371600" y="312408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4114800"/>
            <a:ext cx="91440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d-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62720" y="4343400"/>
            <a:ext cx="7617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5880" y="251460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98072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1523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68600" y="579132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, sname, 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rd-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CE8-8BBD-40C9-B0F7-F4B43BD8F08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, one-many, one-on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ry to find them yourself, or check bo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70B-087F-43A8-B4E0-C8520B65D30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9320" y="1371600"/>
            <a:ext cx="56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: “the CreditCard determines the Pers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68720" y="3017880"/>
            <a:ext cx="914400" cy="822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39920" y="251460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40120" y="429732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61080" y="320040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983120" y="3429000"/>
            <a:ext cx="7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25920" y="3840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65440" y="2971800"/>
            <a:ext cx="503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57400" y="420516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ditC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3382560" y="3429000"/>
            <a:ext cx="6858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71600" y="312408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4114800"/>
            <a:ext cx="91440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d-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2720" y="4343400"/>
            <a:ext cx="7617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251460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98072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523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68600" y="579132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, sname, 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rd-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42080" y="3581280"/>
            <a:ext cx="2209680" cy="1692360"/>
          </a:xfrm>
          <a:prstGeom prst="wedgeEllipseCallout">
            <a:avLst>
              <a:gd name="adj1" fmla="val -148921"/>
              <a:gd name="adj2" fmla="val -21291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a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48880" y="6289560"/>
            <a:ext cx="19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-n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4EA-F04D-44DC-9420-883039E5225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er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attributes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.t. for any other attribute B, we hav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minimal super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 set of attributes which is a superkey and for which no subset is a supe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EB2-B098-4CC1-ABB8-38906A7656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ing (Super)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sets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ll attributes, then X is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nly the minimal X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EF6B-B2B3-44CB-ABAB-B96CDB93D1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name, price, category, co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3800" y="2971800"/>
            <a:ext cx="3591360" cy="95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, 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33280" y="45846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CA4-DD5F-4DA3-92AA-616838AB08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name, price, category, co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3800" y="2971800"/>
            <a:ext cx="3591360" cy="95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, 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3280" y="45846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48760" y="533412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me, category) +  = name, category, price,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3800" y="594360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(name, category) is a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C74-E245-42F0-AEC1-646FE9F8D2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rollment(student, address, course, room,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88760" y="3016080"/>
            <a:ext cx="3810960" cy="12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, tim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,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m,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69840" y="507852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nd keys at h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038-344C-4CDD-992E-2CF548E3E1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is OK if X is a (super)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is not OK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520B-E263-4AC8-9574-C8A2221357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10-14T05:00:51Z</dcterms:modified>
  <cp:revision>222</cp:revision>
  <dc:subject/>
  <dc:title>Lecture 10</dc:title>
</cp:coreProperties>
</file>