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9BE-B863-4039-B975-3369D966D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2DE-D27C-4066-9E56-89F24BCA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D22-3DA0-4F86-8DD9-9BC8BDC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0F4-2183-4FE9-8462-2B07221F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2F3-9289-46D5-BAA8-82AD9F2F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0CA-010E-4E2B-832C-415DB2F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0BD-E740-478C-8AA3-277AFC0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F7B-6AA2-4EB4-A983-1A75344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119-66A5-4850-95DF-87E43BC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2A4-0756-4FE8-A481-742A4F3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DC0-527A-4E42-B9E3-58CFFF0B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345-50CE-41C2-A7C9-C45FD883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7EF-4EF5-4B65-976B-DDF245C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592B-6D14-4392-9E6A-791582DB9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 and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E4A-153B-4499-A547-FAA5BBA1C4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0B7-46AA-41FA-821C-6AB7917BF6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00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682-5788-4C27-8145-3D6BC2BF74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9752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670-D508-48C1-8F8B-5B96762E6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133720"/>
          <a:ext cx="6629400" cy="25876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281520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03D-2AF7-4FC9-B37E-AB840E116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628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725-A099-4A20-BC6B-DA2AB2949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27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288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356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7A7-C24C-48D0-B985-52AA38E66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310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584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F9D-0F5F-4E67-B01D-FB73C0FA6D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397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284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228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284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80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1A3-96F7-4C12-885E-0C5DBD92E7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C4C-6258-4738-BD53-0A88B5FB6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94E-C0DE-4E6E-84FE-2B6D2761A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569-CAC1-4E47-9A3F-537FEDB94C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687-F5B8-4580-9509-91ACD31508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DFA-7F3B-449D-84FF-912D9807E4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373-5401-4335-85AE-4600E7C4DB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92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776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F2F-CE37-4151-95D9-E4141AA57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692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510408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13F-B218-419B-A853-6DF84D75E3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 simple rules are all we need to derive all possibl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“Armstrong Rul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ey are clumsy to use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use “closure” of a set of attributes (n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E90-8CD9-44A3-821B-2442C29135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668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456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80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13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D78-8F68-4893-A1E3-27D724F175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0864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0936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3572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392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25D-BED9-4C6F-8378-A282303FCF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780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168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D42-21A8-421A-8B01-2CF4AA648E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127-B5BB-4909-B8E3-A74BE73D12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54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588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178-29A9-4752-8681-B984DB470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72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296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48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48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840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441-3C1C-4001-A6AD-9EA11F8C46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85C-0908-4F48-A3AC-FB398336E4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Conceptu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know how to find more FDs, it’s e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“bad” F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such, then decompose the table into two tables, repeat for the sub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ne, the database schem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rm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tunately, there are several normal for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BF5-5348-48DF-B5F7-094C4360E7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AED-424B-4C1E-8559-BC19E1B9E9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274-C728-43E1-8B76-5486BF25F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75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2452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F35-AF77-466E-A695-3D5CF9D61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7584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F6A-EFEF-4812-AD93-C3AB2F5D04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896-2607-4274-BFF1-45AA65295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F96-637C-416B-B256-55D154BB47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55-356C-4A22-962D-EDE1B5ABD7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10-12T15:29:57Z</dcterms:modified>
  <cp:revision>385</cp:revision>
  <dc:subject/>
  <dc:title>PowerPoint Presentation</dc:title>
</cp:coreProperties>
</file>