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FB4-D6D6-4B6B-8C2D-9246B454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CA5-4041-4288-BB55-F4D383D9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970-2A3C-4606-AF66-F8A1337B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CCA-1DA8-4D61-829E-3B22CFC4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55F-6D82-46DF-ADE3-70CE29F2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CED-D9F6-4324-AD7C-664238B0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507-7385-448E-B53A-21FEC645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3D8-7AB2-47C4-A0AA-730C860C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8BE-476C-4712-9B98-CD06703B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6E2-E2D1-4764-A7B9-4929DB42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D87-8A89-40E1-9182-A7F3559A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130-30DF-47C4-938B-9F95198B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F73F-DAB0-4083-BE21-BB70EAB34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: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10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6AA-7C5F-4B63-9ABC-F3B24CA775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594360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51814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5638680"/>
            <a:ext cx="175248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437920" y="5181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51080" y="5146560"/>
            <a:ext cx="29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pick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nd of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6B6-1A7D-489E-8374-C6D56C5984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220968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22860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400800" y="2590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680" y="4917960"/>
            <a:ext cx="30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do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icate lif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an it already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BC6-F210-4EC2-92EA-C9CB9F7F7C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600" y="20988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in a class may be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 defin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76000" y="40035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9000" y="48769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09000" y="487692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048120" y="44956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44956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7640" y="606096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--- we define subclasses in E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910-0E3F-4117-981B-E551AC76FC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26668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38280" y="17524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58092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34340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952880" y="15235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257800"/>
            <a:ext cx="26668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257800"/>
            <a:ext cx="23623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676160" y="4572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819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599840" y="6019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60199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1008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3400" y="22860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9E0-6011-4A4E-8B27-16FAAD0357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terms of rec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257800" y="2514600"/>
            <a:ext cx="1218960" cy="838080"/>
            <a:chOff x="5257800" y="2514600"/>
            <a:chExt cx="1218960" cy="838080"/>
          </a:xfrm>
        </p:grpSpPr>
        <p:sp>
          <p:nvSpPr>
            <p:cNvPr id="220" name=""/>
            <p:cNvSpPr/>
            <p:nvPr/>
          </p:nvSpPr>
          <p:spPr>
            <a:xfrm>
              <a:off x="5257800" y="25146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57800" y="29718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257800" y="3733920"/>
            <a:ext cx="1218960" cy="838080"/>
            <a:chOff x="5257800" y="3733920"/>
            <a:chExt cx="1218960" cy="838080"/>
          </a:xfrm>
        </p:grpSpPr>
        <p:sp>
          <p:nvSpPr>
            <p:cNvPr id="223" name=""/>
            <p:cNvSpPr/>
            <p:nvPr/>
          </p:nvSpPr>
          <p:spPr>
            <a:xfrm>
              <a:off x="5257800" y="37339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7800" y="41911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57800" y="5257800"/>
            <a:ext cx="1218960" cy="838080"/>
            <a:chOff x="5257800" y="5257800"/>
            <a:chExt cx="1218960" cy="838080"/>
          </a:xfrm>
        </p:grpSpPr>
        <p:sp>
          <p:nvSpPr>
            <p:cNvPr id="226" name=""/>
            <p:cNvSpPr/>
            <p:nvPr/>
          </p:nvSpPr>
          <p:spPr>
            <a:xfrm>
              <a:off x="5257800" y="52578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57800" y="57150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257800" y="45720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48769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477120" y="457164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7800" y="6095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63244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477120" y="60955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63244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65530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477120" y="63241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394960" y="2479680"/>
            <a:ext cx="893880" cy="916920"/>
            <a:chOff x="5394960" y="2479680"/>
            <a:chExt cx="893880" cy="916920"/>
          </a:xfrm>
        </p:grpSpPr>
        <p:sp>
          <p:nvSpPr>
            <p:cNvPr id="238" name=""/>
            <p:cNvSpPr/>
            <p:nvPr/>
          </p:nvSpPr>
          <p:spPr>
            <a:xfrm>
              <a:off x="5394960" y="24796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94960" y="29368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410800" y="3733920"/>
            <a:ext cx="893880" cy="916920"/>
            <a:chOff x="5410800" y="3733920"/>
            <a:chExt cx="893880" cy="916920"/>
          </a:xfrm>
        </p:grpSpPr>
        <p:sp>
          <p:nvSpPr>
            <p:cNvPr id="241" name=""/>
            <p:cNvSpPr/>
            <p:nvPr/>
          </p:nvSpPr>
          <p:spPr>
            <a:xfrm>
              <a:off x="5410800" y="37339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10800" y="41911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410800" y="5257800"/>
            <a:ext cx="893880" cy="916920"/>
            <a:chOff x="5410800" y="5257800"/>
            <a:chExt cx="893880" cy="916920"/>
          </a:xfrm>
        </p:grpSpPr>
        <p:sp>
          <p:nvSpPr>
            <p:cNvPr id="244" name=""/>
            <p:cNvSpPr/>
            <p:nvPr/>
          </p:nvSpPr>
          <p:spPr>
            <a:xfrm>
              <a:off x="541080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10800" y="57150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471280" y="4533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87120" y="60436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7120" y="62722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264-7560-482E-9CF1-654DA7E012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to Relations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6320" y="1981080"/>
            <a:ext cx="5866920" cy="3927240"/>
            <a:chOff x="76320" y="1981080"/>
            <a:chExt cx="5866920" cy="3927240"/>
          </a:xfrm>
        </p:grpSpPr>
        <p:sp>
          <p:nvSpPr>
            <p:cNvPr id="251" name=""/>
            <p:cNvSpPr/>
            <p:nvPr/>
          </p:nvSpPr>
          <p:spPr>
            <a:xfrm>
              <a:off x="2115000" y="3174120"/>
              <a:ext cx="13917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13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57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67800" y="25776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2313720" y="2975040"/>
              <a:ext cx="1987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810880" y="24278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208680" y="2427840"/>
              <a:ext cx="49716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6844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5616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06480" y="4864680"/>
              <a:ext cx="173988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ucational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4400" y="4864680"/>
              <a:ext cx="15411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ftware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070280" y="4417200"/>
              <a:ext cx="74556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4280" y="4417200"/>
              <a:ext cx="34812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816560" y="3671280"/>
              <a:ext cx="2980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860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2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t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020600" y="5361840"/>
              <a:ext cx="69588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53040" y="5361840"/>
              <a:ext cx="7455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07120" y="3671280"/>
              <a:ext cx="49716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0" name=""/>
          <p:cNvGraphicFramePr/>
          <p:nvPr/>
        </p:nvGraphicFramePr>
        <p:xfrm>
          <a:off x="5486400" y="914400"/>
          <a:ext cx="3429000" cy="1981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6248520" y="3276720"/>
          <a:ext cx="2666880" cy="9903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lat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6172200" y="4800600"/>
          <a:ext cx="2666880" cy="1486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g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5563440" y="15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3800" y="3200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w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06960" y="4267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69B-C250-4033-A92B-F0E6E7D313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:   classes are disjoint (same for Java, C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135520" y="3409920"/>
            <a:ext cx="3939480" cy="1454400"/>
            <a:chOff x="2135520" y="3409920"/>
            <a:chExt cx="3939480" cy="1454400"/>
          </a:xfrm>
        </p:grpSpPr>
        <p:sp>
          <p:nvSpPr>
            <p:cNvPr id="278" name=""/>
            <p:cNvSpPr/>
            <p:nvPr/>
          </p:nvSpPr>
          <p:spPr>
            <a:xfrm>
              <a:off x="3125520" y="350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12760" y="3409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16240" y="3733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35520" y="396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68320" y="44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06240" y="365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63440" y="4114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82560" y="44960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429000"/>
            <a:ext cx="167652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2757600">
            <a:off x="2017080" y="40784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358128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06760" y="2971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15480" y="42670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560" y="3962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015-CC42-4DE1-B524-3D898D0712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   entity sets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3200" y="4572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19560" y="41911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211480" y="3657600"/>
            <a:ext cx="3940200" cy="1454400"/>
            <a:chOff x="2211480" y="3657600"/>
            <a:chExt cx="3940200" cy="1454400"/>
          </a:xfrm>
        </p:grpSpPr>
        <p:sp>
          <p:nvSpPr>
            <p:cNvPr id="298" name=""/>
            <p:cNvSpPr/>
            <p:nvPr/>
          </p:nvSpPr>
          <p:spPr>
            <a:xfrm>
              <a:off x="3202200" y="37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89440" y="36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9256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11480" y="4210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45000" y="466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82920" y="3905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40120" y="43624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59240" y="47437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828800" y="3581280"/>
            <a:ext cx="4648320" cy="17528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2720" y="3276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2757600">
            <a:off x="2093400" y="43070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373392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E3C-90C8-4478-AFAA-23E1FAE949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for multiple inheritance in E/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ree entity sets, but four different kind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ed if we want extra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5480" y="3962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71840" y="35812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364120" y="3048120"/>
            <a:ext cx="3939480" cy="1454400"/>
            <a:chOff x="2364120" y="3048120"/>
            <a:chExt cx="3939480" cy="1454400"/>
          </a:xfrm>
        </p:grpSpPr>
        <p:sp>
          <p:nvSpPr>
            <p:cNvPr id="314" name=""/>
            <p:cNvSpPr/>
            <p:nvPr/>
          </p:nvSpPr>
          <p:spPr>
            <a:xfrm>
              <a:off x="3354120" y="3143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4136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44840" y="3372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64120" y="3600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96920" y="4057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34840" y="3295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92040" y="3753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1160" y="41342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981080" y="2971800"/>
            <a:ext cx="4648320" cy="1752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53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263760"/>
            <a:ext cx="3060720" cy="1320840"/>
          </a:xfrm>
          <a:custGeom>
            <a:avLst/>
            <a:gdLst/>
            <a:ahLst/>
            <a:rect l="l" t="t" r="r" b="b"/>
            <a:pathLst>
              <a:path w="1560" h="832">
                <a:moveTo>
                  <a:pt x="880" y="104"/>
                </a:moveTo>
                <a:cubicBezTo>
                  <a:pt x="920" y="32"/>
                  <a:pt x="1104" y="0"/>
                  <a:pt x="1216" y="56"/>
                </a:cubicBezTo>
                <a:cubicBezTo>
                  <a:pt x="1328" y="112"/>
                  <a:pt x="1544" y="328"/>
                  <a:pt x="1552" y="440"/>
                </a:cubicBezTo>
                <a:cubicBezTo>
                  <a:pt x="1560" y="552"/>
                  <a:pt x="1440" y="664"/>
                  <a:pt x="1264" y="728"/>
                </a:cubicBezTo>
                <a:cubicBezTo>
                  <a:pt x="1088" y="792"/>
                  <a:pt x="704" y="832"/>
                  <a:pt x="496" y="824"/>
                </a:cubicBezTo>
                <a:cubicBezTo>
                  <a:pt x="288" y="816"/>
                  <a:pt x="32" y="728"/>
                  <a:pt x="16" y="680"/>
                </a:cubicBezTo>
                <a:cubicBezTo>
                  <a:pt x="0" y="632"/>
                  <a:pt x="240" y="568"/>
                  <a:pt x="400" y="536"/>
                </a:cubicBezTo>
                <a:cubicBezTo>
                  <a:pt x="560" y="504"/>
                  <a:pt x="896" y="560"/>
                  <a:pt x="976" y="488"/>
                </a:cubicBezTo>
                <a:cubicBezTo>
                  <a:pt x="1056" y="416"/>
                  <a:pt x="840" y="176"/>
                  <a:pt x="880" y="104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3530520"/>
            <a:ext cx="2654280" cy="1155960"/>
          </a:xfrm>
          <a:custGeom>
            <a:avLst/>
            <a:gdLst/>
            <a:ahLst/>
            <a:rect l="l" t="t" r="r" b="b"/>
            <a:pathLst>
              <a:path w="1672" h="728">
                <a:moveTo>
                  <a:pt x="0" y="128"/>
                </a:moveTo>
                <a:cubicBezTo>
                  <a:pt x="0" y="48"/>
                  <a:pt x="216" y="0"/>
                  <a:pt x="336" y="32"/>
                </a:cubicBezTo>
                <a:cubicBezTo>
                  <a:pt x="456" y="64"/>
                  <a:pt x="560" y="280"/>
                  <a:pt x="720" y="320"/>
                </a:cubicBezTo>
                <a:cubicBezTo>
                  <a:pt x="880" y="360"/>
                  <a:pt x="1144" y="264"/>
                  <a:pt x="1296" y="272"/>
                </a:cubicBezTo>
                <a:cubicBezTo>
                  <a:pt x="1448" y="280"/>
                  <a:pt x="1592" y="304"/>
                  <a:pt x="1632" y="368"/>
                </a:cubicBezTo>
                <a:cubicBezTo>
                  <a:pt x="1672" y="432"/>
                  <a:pt x="1648" y="600"/>
                  <a:pt x="1536" y="656"/>
                </a:cubicBezTo>
                <a:cubicBezTo>
                  <a:pt x="1424" y="712"/>
                  <a:pt x="1160" y="728"/>
                  <a:pt x="960" y="704"/>
                </a:cubicBezTo>
                <a:cubicBezTo>
                  <a:pt x="760" y="680"/>
                  <a:pt x="496" y="608"/>
                  <a:pt x="336" y="512"/>
                </a:cubicBezTo>
                <a:cubicBezTo>
                  <a:pt x="176" y="416"/>
                  <a:pt x="0" y="208"/>
                  <a:pt x="0" y="12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3080" y="4191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92560" y="41148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9FC-A79C-411E-BD3F-7D51DA6CB2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 Stru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152388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00800" y="34290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581280"/>
            <a:ext cx="221004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44840" y="5562720"/>
            <a:ext cx="220968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-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45240" y="236232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243828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66920" y="5527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654520" y="5866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00800" y="4648320"/>
            <a:ext cx="83808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91320" y="2666880"/>
            <a:ext cx="838080" cy="60984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8006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95480" y="27432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1" idx="0"/>
            <a:endCxn id="340" idx="3"/>
          </p:cNvCxnSpPr>
          <p:nvPr/>
        </p:nvCxnSpPr>
        <p:spPr>
          <a:xfrm flipV="1">
            <a:off x="1943280" y="3351960"/>
            <a:ext cx="1372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40" idx="0"/>
            <a:endCxn id="329" idx="2"/>
          </p:cNvCxnSpPr>
          <p:nvPr/>
        </p:nvCxnSpPr>
        <p:spPr>
          <a:xfrm flipV="1">
            <a:off x="3314880" y="251388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29" idx="2"/>
            <a:endCxn id="338" idx="0"/>
          </p:cNvCxnSpPr>
          <p:nvPr/>
        </p:nvCxnSpPr>
        <p:spPr>
          <a:xfrm>
            <a:off x="4609800" y="2514240"/>
            <a:ext cx="1600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8" idx="3"/>
            <a:endCxn id="330" idx="0"/>
          </p:cNvCxnSpPr>
          <p:nvPr/>
        </p:nvCxnSpPr>
        <p:spPr>
          <a:xfrm>
            <a:off x="6210360" y="3276360"/>
            <a:ext cx="12960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31" idx="2"/>
            <a:endCxn id="339" idx="0"/>
          </p:cNvCxnSpPr>
          <p:nvPr/>
        </p:nvCxnSpPr>
        <p:spPr>
          <a:xfrm>
            <a:off x="1943280" y="4571640"/>
            <a:ext cx="915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39" idx="3"/>
            <a:endCxn id="332" idx="0"/>
          </p:cNvCxnSpPr>
          <p:nvPr/>
        </p:nvCxnSpPr>
        <p:spPr>
          <a:xfrm>
            <a:off x="2857680" y="5410080"/>
            <a:ext cx="16927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37" idx="0"/>
            <a:endCxn id="330" idx="2"/>
          </p:cNvCxnSpPr>
          <p:nvPr/>
        </p:nvCxnSpPr>
        <p:spPr>
          <a:xfrm flipV="1">
            <a:off x="6819480" y="441900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32" idx="0"/>
            <a:endCxn id="337" idx="3"/>
          </p:cNvCxnSpPr>
          <p:nvPr/>
        </p:nvCxnSpPr>
        <p:spPr>
          <a:xfrm flipV="1">
            <a:off x="4549680" y="5257080"/>
            <a:ext cx="2270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" name=""/>
          <p:cNvCxnSpPr>
            <a:stCxn id="334" idx="2"/>
            <a:endCxn id="331" idx="0"/>
          </p:cNvCxnSpPr>
          <p:nvPr/>
        </p:nvCxnSpPr>
        <p:spPr>
          <a:xfrm>
            <a:off x="1146240" y="3260880"/>
            <a:ext cx="79776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0" name=""/>
          <p:cNvCxnSpPr>
            <a:stCxn id="333" idx="2"/>
            <a:endCxn id="330" idx="0"/>
          </p:cNvCxnSpPr>
          <p:nvPr/>
        </p:nvCxnSpPr>
        <p:spPr>
          <a:xfrm flipH="1">
            <a:off x="7504920" y="3184200"/>
            <a:ext cx="73260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C60-4841-4F17-99EB-F918D53FDA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/R diagrams to relations (3.2, 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: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ime: Functional dependencies: 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1B1-D220-417A-BDD4-56CB6ADB08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442960" y="2517840"/>
            <a:ext cx="4573800" cy="1679040"/>
            <a:chOff x="2442960" y="2517840"/>
            <a:chExt cx="4573800" cy="1679040"/>
          </a:xfrm>
        </p:grpSpPr>
        <p:sp>
          <p:nvSpPr>
            <p:cNvPr id="353" name=""/>
            <p:cNvSpPr/>
            <p:nvPr/>
          </p:nvSpPr>
          <p:spPr>
            <a:xfrm>
              <a:off x="358560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PlaceHolder 2"/>
            <p:cNvSpPr>
              <a:spLocks noGrp="1"/>
            </p:cNvSpPr>
            <p:nvPr>
              <p:ph/>
            </p:nvPr>
          </p:nvSpPr>
          <p:spPr>
            <a:xfrm>
              <a:off x="5638680" y="3580920"/>
              <a:ext cx="1378080" cy="466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5E4-3E02-48E7-BFE2-A3011EF7A2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25440" y="3809880"/>
            <a:ext cx="7086240" cy="2558880"/>
            <a:chOff x="1225440" y="3809880"/>
            <a:chExt cx="7086240" cy="2558880"/>
          </a:xfrm>
        </p:grpSpPr>
        <p:sp>
          <p:nvSpPr>
            <p:cNvPr id="360" name=""/>
            <p:cNvSpPr/>
            <p:nvPr/>
          </p:nvSpPr>
          <p:spPr>
            <a:xfrm>
              <a:off x="366192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PlaceHolder 3"/>
            <p:cNvSpPr>
              <a:spLocks noGrp="1"/>
            </p:cNvSpPr>
            <p:nvPr>
              <p:ph/>
            </p:nvPr>
          </p:nvSpPr>
          <p:spPr>
            <a:xfrm>
              <a:off x="6933960" y="3809880"/>
              <a:ext cx="1377720" cy="466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431-DD1E-4A2E-831F-5003E9FF1A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6192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2236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3" idx="0"/>
            <a:endCxn id="371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74" idx="0"/>
            <a:endCxn id="377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71" idx="0"/>
            <a:endCxn id="376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7" idx="0"/>
            <a:endCxn id="376" idx="3"/>
          </p:cNvCxnSpPr>
          <p:nvPr/>
        </p:nvCxnSpPr>
        <p:spPr>
          <a:xfrm flipV="1" rot="16200000">
            <a:off x="6038280" y="2075400"/>
            <a:ext cx="453240" cy="2253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DD0-9E7B-45B8-8F8D-9797BC1F4C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7720" y="1523880"/>
            <a:ext cx="80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constraints is part of the modeling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ecurity number uniquely identifies a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-value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person can have only one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tial integrity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work for a company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xist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oples’ ages are between 0 and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D3E-1928-471E-9680-2707AA044B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290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339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41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25146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37339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495680" y="2285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105520" y="228564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627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010280" y="6400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65760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ormal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pecify 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s in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0320" y="1946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C42-2C59-4BF2-A492-97BF6BA49A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85640" y="3309840"/>
            <a:ext cx="1921320" cy="91872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723760" y="37688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29200" y="3768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04720" y="5221440"/>
            <a:ext cx="1921320" cy="9183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2742840" y="56800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48280" y="5680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7160" y="449568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0C9-9F3F-4569-8DB0-80C893968A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7220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22860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9880" y="19051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8954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41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72200" y="48006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48006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9880" y="44197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28954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4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39760" y="4800600"/>
            <a:ext cx="5320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995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995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64520" y="3276720"/>
            <a:ext cx="56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at most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ducts made by no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88560" y="6019920"/>
            <a:ext cx="56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4DD-2DF1-47E3-8DAF-F022348C8F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33526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33526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09880" y="2971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957400" y="3089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69440" y="522288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is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C51-D1F7-4BE6-BD51-E0E80CE3F8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910440" y="167652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 are weak when their key comes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to which they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2448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1440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2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0481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1460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088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48520" y="5105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3962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581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556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294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3712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57400" y="4876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68576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3840" y="5943600"/>
            <a:ext cx="73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we encountered this when conver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way relationships to binary relationships (last le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AE6-5A17-4C31-8077-08621F00F7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72200" y="1752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17524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9880" y="1371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8954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62320" y="2819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588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1676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57600" y="1295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12193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905120" y="25909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705360" y="2514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41960" y="407988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to a relational schema (in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95E-3DB3-47F2-A3EA-B18383824B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Multi-way Relationships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5812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5638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9625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21337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3657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828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5257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676520" y="251460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1447560" y="4343040"/>
            <a:ext cx="19047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6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905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219320" y="259056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3A0-3433-4C80-8B9A-9F1E7B7B29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al 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200" y="2063880"/>
            <a:ext cx="1368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433680" y="1981080"/>
            <a:ext cx="1512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40080" y="1981080"/>
            <a:ext cx="1215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24382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0292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9080" y="4613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3320" y="4648320"/>
            <a:ext cx="34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names: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: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27960" y="434340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d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9072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96252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9152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56600" y="3276720"/>
            <a:ext cx="1756800" cy="912600"/>
          </a:xfrm>
          <a:prstGeom prst="wedgeEllipseCallout">
            <a:avLst>
              <a:gd name="adj1" fmla="val -36421"/>
              <a:gd name="adj2" fmla="val -81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s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n 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9640" y="5638680"/>
            <a:ext cx="1603800" cy="912600"/>
          </a:xfrm>
          <a:prstGeom prst="wedgeEllipseCallout">
            <a:avLst>
              <a:gd name="adj1" fmla="val 11601"/>
              <a:gd name="adj2" fmla="val -11119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s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t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36720" y="5772240"/>
            <a:ext cx="1908720" cy="523080"/>
          </a:xfrm>
          <a:prstGeom prst="wedgeEllipseCallout">
            <a:avLst>
              <a:gd name="adj1" fmla="val -21245"/>
              <a:gd name="adj2" fmla="val -8321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0BD-EA65-4301-8CAA-C00B5448F9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96040" y="1793880"/>
            <a:ext cx="729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Price              Category          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$1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gizmo   $2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ouch    $149.99          photography     Ca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ouch      $203.99          household         Hita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24382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24852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670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6080" y="5985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up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486040" y="9907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85800" y="5562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685800" y="46483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685800" y="396216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685800" y="32767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447920" y="1447920"/>
            <a:ext cx="449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2895120" y="1447920"/>
            <a:ext cx="3048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4648320" y="14479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43600" y="1447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0480" y="838080"/>
            <a:ext cx="36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ab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l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2640" y="1371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380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94560" y="5769360"/>
            <a:ext cx="4829760" cy="708480"/>
          </a:xfrm>
          <a:prstGeom prst="cloudCallout">
            <a:avLst>
              <a:gd name="adj1" fmla="val -53888"/>
              <a:gd name="adj2" fmla="val -39796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know this alread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465-E551-4E32-9DD9-5EDB713E29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name plus 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relation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Name, Address, Phone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62120" y="5769360"/>
            <a:ext cx="4051080" cy="708480"/>
          </a:xfrm>
          <a:prstGeom prst="cloudCallout">
            <a:avLst>
              <a:gd name="adj1" fmla="val -53745"/>
              <a:gd name="adj2" fmla="val -39796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know this to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6C3-1B1B-4507-B68D-87307C10E5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al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elation with k attributes (of “type”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, …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 relations, of typ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80A-2F98-46C1-A4EF-C980D4351E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30240" y="2514600"/>
            <a:ext cx="7467480" cy="3844800"/>
            <a:chOff x="930240" y="2514600"/>
            <a:chExt cx="7467480" cy="3844800"/>
          </a:xfrm>
        </p:grpSpPr>
        <p:sp>
          <p:nvSpPr>
            <p:cNvPr id="512" name=""/>
            <p:cNvSpPr/>
            <p:nvPr/>
          </p:nvSpPr>
          <p:spPr>
            <a:xfrm>
              <a:off x="988200" y="2514600"/>
              <a:ext cx="72903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ame              Price              Category           Manufactu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izmo              $1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wer gizmo   $2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gleTouch    $149.99          photography     Can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ltiTouch      $203.99          household         Hitach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30240" y="30067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0240" y="31590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59040" y="262584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4032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35924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ma: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34C0-9DAE-4B17-93CE-34E41967906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Normal Form (1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schema is in First Normal Form if all tables are 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609480" y="3200400"/>
          <a:ext cx="2743200" cy="34286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66880" y="4172040"/>
          <a:ext cx="457200" cy="728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2666880" y="5153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76600" y="5972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"/>
          <p:cNvSpPr/>
          <p:nvPr/>
        </p:nvSpPr>
        <p:spPr>
          <a:xfrm>
            <a:off x="213840" y="270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5410080" y="2743200"/>
          <a:ext cx="1828800" cy="1373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"/>
          <p:cNvSpPr/>
          <p:nvPr/>
        </p:nvSpPr>
        <p:spPr>
          <a:xfrm>
            <a:off x="5411160" y="2209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7772400" y="4876920"/>
          <a:ext cx="914400" cy="12128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5486400" y="4583160"/>
          <a:ext cx="1828800" cy="21225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>
            <a:off x="5411160" y="4181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24440" y="4267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657600" y="4800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706560" y="5505480"/>
            <a:ext cx="1740240" cy="912600"/>
          </a:xfrm>
          <a:prstGeom prst="wedgeEllipseCallout">
            <a:avLst>
              <a:gd name="adj1" fmla="val 2263"/>
              <a:gd name="adj2" fmla="val -9936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ne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dd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B03-FDC7-461A-B6A6-897A7C2D574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NF = rather triv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NF, BCNF = very subtle;  nex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normal forms = in th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F128-6DBD-4051-A471-C8B0C9384A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/R Diagra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se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BBA6-CC1F-4B4C-8CFE-E07E28651D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Set to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5053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590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733920" y="3200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49568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105520" y="23619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160" y="457200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category                   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gadgets                     $1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06560" y="590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06560" y="5978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3536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5452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EB66-E1EE-44C3-B6DB-CA7370EB9F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800" y="4308480"/>
            <a:ext cx="89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uct-name, product-category, company-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yea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-name    Product-Category  Company-name    Starting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gadgets            gizmoWorks         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486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5562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6292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80" idx="0"/>
            <a:endCxn id="95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0" idx="0"/>
            <a:endCxn id="81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80" idx="0"/>
            <a:endCxn id="82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78" idx="0"/>
            <a:endCxn id="89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78" idx="3"/>
            <a:endCxn id="79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2049480" y="628020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atch out for attribute name confli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E2A-0FF0-4D03-A935-E8BDFB7950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9160" y="44956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Modif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category   price    StartYear   company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gadgets    19.99    1963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6736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749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06" idx="0"/>
            <a:endCxn id="121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06" idx="0"/>
            <a:endCxn id="107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06" idx="0"/>
            <a:endCxn id="108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" name=""/>
          <p:cNvCxnSpPr>
            <a:stCxn id="104" idx="0"/>
            <a:endCxn id="115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04" idx="3"/>
            <a:endCxn id="105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8098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BED-F7C0-456F-8F4C-52C07612B1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6480" y="2824200"/>
            <a:ext cx="1393920" cy="12556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05740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7280" y="477684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26240" y="310356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0400" y="3451320"/>
            <a:ext cx="118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43440" y="4079880"/>
            <a:ext cx="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79680" y="2754360"/>
            <a:ext cx="76680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32004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1240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18288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17524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743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4674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320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54864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6280" y="4038480"/>
            <a:ext cx="4249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Name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Name,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ABE-123B-4641-86CE-251599DE7D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19051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2209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43792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6360" y="137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4800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51814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181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36196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6080" y="62895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  be faith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9E0-C092-44AC-B28E-B9C0178C15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10-10T01:18:22Z</dcterms:modified>
  <cp:revision>303</cp:revision>
  <dc:subject/>
  <dc:title>PowerPoint Presentation</dc:title>
</cp:coreProperties>
</file>