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6A0-0B2A-4A23-8601-E004D4CA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236-7DDD-4CC3-902A-CBF227C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D7F-4A8A-4750-BF6F-A1928954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BC4-BB76-4AB1-8069-083A80A6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29E-ACE3-46DE-A336-07E01611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BCF-2668-4A51-B5A5-E8188756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996-34E5-4B40-8C2F-BC6ED236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631-C02B-477A-B24F-1F568E02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BBB-50E4-4C5D-B5DE-49452E2D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8A0-AFA1-41F3-B43D-5F2E44F8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C3F-7F2B-407E-87C1-6803280E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181-ECF0-4004-9C7A-EDEB9EC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C29B-08FB-4EB3-8092-6D8F1E6FA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F5D-6DD4-472E-B4AF-8701452B7F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8760" y="2743200"/>
            <a:ext cx="4771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uyer-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buyer, y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.product =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: Par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1520" y="4495680"/>
            <a:ext cx="43840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Buyer-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John Smith’, ‘Gadgets INC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10360" y="6019920"/>
            <a:ext cx="1000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 ? ? ?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54100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87520" y="2804400"/>
            <a:ext cx="30110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update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9920" y="15238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maker, 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6360" y="5565600"/>
            <a:ext cx="2062800" cy="825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view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updat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266-127D-4E51-8AEE-EDE1791254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317-CF26-43AE-A11C-913160BA90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3656160"/>
            <a:ext cx="1750680" cy="1172520"/>
          </a:xfrm>
          <a:prstGeom prst="wedgeEllipseCallout">
            <a:avLst>
              <a:gd name="adj1" fmla="val -123782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E67-064D-4EB6-868D-BD136D7272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268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7600" y="37339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E4C-A897-4B89-833F-AFEE2B26EE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103360" y="480060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22B-9B2F-4842-BD1F-67A450AE7B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600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BB8-A6FD-478A-8941-4780EC5742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913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2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726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42080" y="4495680"/>
            <a:ext cx="2341800" cy="1692360"/>
          </a:xfrm>
          <a:prstGeom prst="wedgeEllipseCallout">
            <a:avLst>
              <a:gd name="adj1" fmla="val -93541"/>
              <a:gd name="adj2" fmla="val -96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r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79E-99B3-43C3-A4C7-9D537A9EF2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19051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575-32D1-4A29-B17C-0208507AE0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D84-C175-4EE9-A40D-DA2D43C146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65E-0EC0-4CA9-B04A-85D9F12F51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begin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CE7-2482-4145-9DB7-009D18185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B07-3A41-4CB4-B81E-455F52AC5D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181-2A26-4FA2-9F49-8076579CFE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404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3000" y="304920"/>
            <a:ext cx="4007520" cy="1692360"/>
          </a:xfrm>
          <a:prstGeom prst="wedgeEllipseCallout">
            <a:avLst>
              <a:gd name="adj1" fmla="val -39486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DD5-3B02-4CDD-B643-D6A8FE0CB2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20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52F-940B-48ED-B028-7845C6AA96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7F3-5A7B-4DC5-8370-70DBF104A3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CDF-BA10-4E3B-8C36-1307CB3B84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Object Definition Language (OD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r in spirit to object-orient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not cover i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Entity/Relationship model (E/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lational in n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L to OO-schema: direct transformation (C++ or Smalltalk based syst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99F-18AD-4A2C-B4B7-51EA3794FC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740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97D-0E5A-461E-9EAB-813918662A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48" idx="0"/>
            <a:endCxn id="149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9" idx="2"/>
            <a:endCxn id="153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3C2-2117-441A-B202-5F58137197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CB6-79AD-462E-B42B-DE9D1A8F73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012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AEA-05A5-4AAB-BF4B-00AC74A68C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182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438280" y="5843520"/>
            <a:ext cx="3810240" cy="709200"/>
            <a:chOff x="2438280" y="5843520"/>
            <a:chExt cx="3810240" cy="709200"/>
          </a:xfrm>
        </p:grpSpPr>
        <p:sp>
          <p:nvSpPr>
            <p:cNvPr id="197" name=""/>
            <p:cNvSpPr/>
            <p:nvPr/>
          </p:nvSpPr>
          <p:spPr>
            <a:xfrm>
              <a:off x="3820320" y="58435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65280" y="59929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61794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67320" y="61794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483720" y="61794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F71-71C7-4645-A52D-EF47BD8FE4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214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220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223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F03-CFAC-4E3E-AD3E-E7A5A16265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41" idx="0"/>
            <a:endCxn id="242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42" idx="2"/>
            <a:endCxn id="246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3697200" y="3200400"/>
            <a:ext cx="2099520" cy="1172520"/>
          </a:xfrm>
          <a:prstGeom prst="wedgeEllipseCallout">
            <a:avLst>
              <a:gd name="adj1" fmla="val 77254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760-E307-49AE-8D1D-27F4CC512E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656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267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6564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8AB-937C-42DD-83D8-1434F0AA3F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6200" y="5943600"/>
            <a:ext cx="779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D0B-CB86-4AE9-A12E-AE9C24CC65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6200" y="5943600"/>
            <a:ext cx="7794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store sells to every person at most one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C29-CAC0-48F7-BD3F-E6094EDEB6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0740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do we say that every person shops at at most one sto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8360" y="5943600"/>
            <a:ext cx="5379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annot.  This is the best approxim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only approxim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10E-F1BB-4F0F-BFC7-AA6B8C10C2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9920" y="1447920"/>
            <a:ext cx="48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maker, 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6960" y="2743200"/>
            <a:ext cx="63910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buyer, y.seller, y.product, y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 x, Purchas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name = y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4440" y="5410080"/>
            <a:ext cx="57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3760" y="54100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142-2BC1-47D3-B722-9704D70A9F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8360" y="3200400"/>
            <a:ext cx="5019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.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Purchase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v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category = ‘sho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1AF-FF02-49D1-8719-449BA9B78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3760" y="4267080"/>
            <a:ext cx="6187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.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 x, Purchase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.city = ‘Seattle’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.name = y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v.name          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category = ‘sho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8960" y="1905120"/>
            <a:ext cx="5059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.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Purchase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v.name   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category = ‘sho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215-5E1A-4055-8AFE-01A1647DD7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EE7-8CCD-4D28-BB1B-D90611C686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29920" y="15238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maker, 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9480" y="2743200"/>
            <a:ext cx="52513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Expensive-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: 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2960" y="4495680"/>
            <a:ext cx="392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pensive-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Gizmo’, ‘Gadgets INC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9360" y="5867280"/>
            <a:ext cx="5537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Gizmo’, ‘Gadgets INC.’, NULL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4100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B7C-4A53-4B15-8402-5660AED96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50560" y="274320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Toy-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 = ‘Toy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: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2960" y="4495680"/>
            <a:ext cx="3922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Toy-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Gizmo’, ‘Gadgets INC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99360" y="5867280"/>
            <a:ext cx="5537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‘Gizmo’, ‘Gadgets INC.’, NULL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54100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76040" y="4595400"/>
            <a:ext cx="1099080" cy="1172520"/>
          </a:xfrm>
          <a:prstGeom prst="wedgeEllipseCallout">
            <a:avLst>
              <a:gd name="adj1" fmla="val -86574"/>
              <a:gd name="adj2" fmla="val 8256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920" y="15238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maker, 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1ED-B594-469D-B9C4-A561C1D249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10-07T01:05:59Z</dcterms:modified>
  <cp:revision>291</cp:revision>
  <dc:subject/>
  <dc:title>PowerPoint Presentation</dc:title>
</cp:coreProperties>
</file>