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24C-A102-417C-AB85-791280D7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6F3-8179-4C39-8B55-8855DE6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0CE-D7B0-41FF-97E6-ECCF77B6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EDD-6220-402C-8FFE-4F3F49C1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9FE-D6E6-4CF1-98CA-E4E3CC9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8A1-E261-4441-8D8D-EEBDF70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061-33A7-4FD6-BB4F-62167E10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23C-8BB3-420B-917A-D34E107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F87-696F-45A0-AF95-1D1EE680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75C-6597-40F2-B943-722A6F88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F22-2B04-41F5-AC0B-40BFBDB4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D82-0B2C-4472-AC24-AE227105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EDFC-E3E7-4334-8B08-42A0433FD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C21-DA9C-4DD7-84F9-DC029856F2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2B6-62B5-433D-B451-2FCAE0EE8A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A1E-E32B-4481-85A7-42465EB560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75C-AD69-4C51-97E4-58E11352F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 = “inner joins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6200" y="2819520"/>
            <a:ext cx="694440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8680" y="4495680"/>
            <a:ext cx="59691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1240" y="441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8480" y="5943600"/>
            <a:ext cx="525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0B0-DF7E-44EB-9EDE-6B256C2CB1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533-5AE3-4689-A9A4-7993DE1B0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FE2-3C96-462C-BBE8-0C611AC0C3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288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84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C97-C5DE-4428-83AC-6F02BFFFA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148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204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797-7FF7-4177-92A5-88350A6A4D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2AD-A667-429E-93C6-B6AD83651A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5A7-5C4A-45AD-9360-1EBB74061B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kip in class; please study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D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E1B-A116-4452-8FED-9110387D6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B18-6992-4B4A-916C-7BB281E42A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CC0-5BFB-45F8-B154-FE7B51CDAB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387-434E-4401-86BA-920D0B5DFA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011-A23E-4779-B523-C07250EE2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C36-523E-4DBF-9FE0-31C26EA371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D46-B6D1-4C12-89FA-05E7912D3B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63C-2554-4917-A3BE-75F5051B07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72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F4F-5309-4249-82FB-D6AF6A6C04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1600" y="2082960"/>
            <a:ext cx="746064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0C4-33DD-4EAA-9EC6-51B6B89D9C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20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04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00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128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9948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664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448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0156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957-535F-4E7C-8260-9EBA9574F5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520" y="21877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4320" y="3886200"/>
            <a:ext cx="78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06D-50C4-413A-93FB-3F4066E75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68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360" y="2514600"/>
            <a:ext cx="807012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CHAR(1)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68C-8C80-4D3C-8204-71949B528A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F2D-63A6-4814-B80E-C95FF72251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45720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61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114800"/>
            <a:ext cx="106704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2160" y="5638680"/>
            <a:ext cx="568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FBF-9F11-4EAC-A91B-98B7B2AE77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4DE-7AFF-4DA4-8D6F-1C93BA1CF0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F17-00CF-43D5-B657-02A2BC3A1B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52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5440" y="3071880"/>
            <a:ext cx="6109920" cy="1008720"/>
            <a:chOff x="685440" y="3071880"/>
            <a:chExt cx="6109920" cy="1008720"/>
          </a:xfrm>
        </p:grpSpPr>
        <p:sp>
          <p:nvSpPr>
            <p:cNvPr id="190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44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84720" y="5557680"/>
            <a:ext cx="4551840" cy="1008720"/>
            <a:chOff x="684720" y="5557680"/>
            <a:chExt cx="4551840" cy="1008720"/>
          </a:xfrm>
        </p:grpSpPr>
        <p:sp>
          <p:nvSpPr>
            <p:cNvPr id="193" name=""/>
            <p:cNvSpPr/>
            <p:nvPr/>
          </p:nvSpPr>
          <p:spPr>
            <a:xfrm>
              <a:off x="251820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472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85800" y="2135160"/>
            <a:ext cx="5779080" cy="703800"/>
            <a:chOff x="685800" y="2135160"/>
            <a:chExt cx="5779080" cy="703800"/>
          </a:xfrm>
        </p:grpSpPr>
        <p:sp>
          <p:nvSpPr>
            <p:cNvPr id="196" name=""/>
            <p:cNvSpPr/>
            <p:nvPr/>
          </p:nvSpPr>
          <p:spPr>
            <a:xfrm>
              <a:off x="25077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84360" y="4314960"/>
            <a:ext cx="3864960" cy="1008720"/>
            <a:chOff x="684360" y="4314960"/>
            <a:chExt cx="3864960" cy="1008720"/>
          </a:xfrm>
        </p:grpSpPr>
        <p:sp>
          <p:nvSpPr>
            <p:cNvPr id="199" name=""/>
            <p:cNvSpPr/>
            <p:nvPr/>
          </p:nvSpPr>
          <p:spPr>
            <a:xfrm>
              <a:off x="251820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436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5E5-102F-4507-9F22-A7BA896345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977-9F06-4E54-97A5-108C03F970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6960" y="13032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508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8628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6840" y="289548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equival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1040" y="699480"/>
            <a:ext cx="2278800" cy="652680"/>
          </a:xfrm>
          <a:prstGeom prst="wedgeEllipseCallout">
            <a:avLst>
              <a:gd name="adj1" fmla="val -104824"/>
              <a:gd name="adj2" fmla="val 6934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bo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5D7-C0FE-4B39-A99E-D48098DF35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6160" y="2187720"/>
            <a:ext cx="458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240" y="3886200"/>
            <a:ext cx="46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t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most expensiv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71C-9919-4611-AB88-E1B1C509E6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800" y="1905120"/>
            <a:ext cx="539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064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x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5720" y="15238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200" y="4724280"/>
            <a:ext cx="196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n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233-41E2-4888-BD52-0CBAE51DF1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20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x.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356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0E4-761B-433C-A702-D119B7B3C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566-CE35-4BE6-9DF3-8CFCCB1AA5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E4C-B4E7-468E-80E5-A3FA10481B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10-05T03:11:11Z</dcterms:modified>
  <cp:revision>212</cp:revision>
  <dc:subject/>
  <dc:title>PowerPoint Presentation</dc:title>
</cp:coreProperties>
</file>