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545-C0CC-4E0D-B22B-AB328A63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C22-C083-402E-825F-5D36C82C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4AB-EE33-43AC-8811-E574C1B0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BB0-8CE1-4DE3-BEA7-0F226CB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4F7-3153-449A-9B0C-CBFC37E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690-F7DE-482C-9424-7C279FF7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0E0-91BB-4D18-A701-AFE4A775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197-F694-4D3E-A0FC-64A2B20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A7E-3041-4BDA-9472-ABBAC0C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4D3-891A-4FDA-98AB-8434FC4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676-53D7-4590-84DC-5630DFC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040-274F-435C-B2DE-D46C5F4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B24-04A0-40CA-9D69-9C1C3CB2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5D8-988A-4B5A-8787-EAC7AEA0CC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60E-51A1-4952-81E1-A0CE322E26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6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981080"/>
          <a:ext cx="4038480" cy="18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891000"/>
                <a:gridCol w="112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8F2-A5F5-4CB1-8394-F4D65F7B1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96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118-51BE-410C-8C73-00D38AC7AD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95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4472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BC9-1806-494E-9BDE-288125B65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50A-40A4-47FD-BC99-63CE36578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015-F1BF-4D19-8352-8D7337295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864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BA8-7C2D-42BE-869B-AA44E9030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EB1-B00D-48A9-9525-A01F0F790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5520" y="1143000"/>
            <a:ext cx="2540880" cy="1862280"/>
          </a:xfrm>
          <a:prstGeom prst="wedgeEllipseCallout">
            <a:avLst>
              <a:gd name="adj1" fmla="val -57675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DD-FE5E-4BAF-BA7C-8120472C54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16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96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432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1C9-F073-407D-8330-7170DF43CD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3400" y="5257800"/>
            <a:ext cx="679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for Nerds”: chapter 4, “More Complex que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33F-E236-4787-83B1-ADDD8126C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400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0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764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615-9567-4273-961D-B8C07B6E80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888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432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53F-7FB5-4FEA-A44E-AEBDAFE52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F67-ECCB-42EA-B15C-7DE280DD1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FC2-E6BE-47F2-B43F-5CE68941D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56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68D-7480-446D-B783-FC62518AD2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468-29BE-432D-8C26-833377D19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245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436-9B17-48DE-ADBD-0084C3DA2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156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32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612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6C7-1DEB-4A79-87F9-DCBDBB6DB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776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428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96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4160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3EA-33D4-400E-97AB-01B24206B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8920"/>
                <a:gridCol w="1619280"/>
                <a:gridCol w="1619280"/>
              </a:tblGrid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5936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73C-8309-423C-B4F7-4F9822FF4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332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16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072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93D-E958-437B-ACD0-C778A529A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24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A64-FCFD-4A13-AADE-9743DECD5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10-03T02:41:38Z</dcterms:modified>
  <cp:revision>317</cp:revision>
  <dc:subject/>
  <dc:title>PowerPoint Presentation</dc:title>
</cp:coreProperties>
</file>