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25F-B501-4E8A-9D8F-FB164A05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CEB-D374-4C32-A2E4-6D48B00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A6C-C7AA-40AB-9318-633513B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75C-E8E6-4447-BC08-C0B5102F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374-A08E-4C69-A393-F3B339B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3D0-8BF4-46AF-A780-02DA76D9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878-658D-49EF-B797-0B09DD33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246-FCB8-4E41-863D-E7AAC06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CFC-94F1-4BD4-B2A4-0563306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3F1-F778-4BBE-959B-B2E3728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EA7-0F68-46E5-8EDE-0D8B946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3F9-CBBE-450C-84EB-494091B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9449-05EF-4438-A80E-89347103F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September 3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247-2E40-41A1-8223-83B8AFD220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24F-902C-446B-8E3B-61946A34A7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2D5-707D-4640-A190-AA73EBF19D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003-4FBA-4FB8-B53E-B3020498F8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92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089-43F3-46FA-91D3-11D1E3301A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1800" y="5852160"/>
            <a:ext cx="217584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ACE-AE6F-40DF-8CB3-8F2F7C9BB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3EA-4A18-4E79-A655-673B1BB218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E87-67D2-4DDB-8743-08FF22F80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592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296-C33D-4617-9D33-43C6A3B851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308-AD34-4290-83FE-BF83C8E722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AC3-6BD0-4CDB-BA9E-69A5312D77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Wed., Oct.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FB9-D14D-4677-9D73-6B5416404C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29000" y="228600"/>
          <a:ext cx="5410080" cy="16747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66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66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0EB-351E-47CC-A178-6206E6269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4724280"/>
          <a:ext cx="63244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F77-2AF1-44A5-BE00-642024922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588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30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F6A-42BA-4CC6-A802-38B7EB0049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7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1" name=""/>
          <p:cNvGraphicFramePr/>
          <p:nvPr/>
        </p:nvGraphicFramePr>
        <p:xfrm>
          <a:off x="6019920" y="525780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4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812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C53-E792-4455-84C0-07ECB8D975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oin Subtl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57B-CABA-4FA0-9DD0-AA3B1084D9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oin Subtl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7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A98-45C5-4057-816C-2CB1264D44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7244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6000" y="1752480"/>
            <a:ext cx="50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520" y="4152960"/>
            <a:ext cx="8338680" cy="1191240"/>
            <a:chOff x="533520" y="4152960"/>
            <a:chExt cx="8338680" cy="1191240"/>
          </a:xfrm>
        </p:grpSpPr>
        <p:sp>
          <p:nvSpPr>
            <p:cNvPr id="171" name=""/>
            <p:cNvSpPr/>
            <p:nvPr/>
          </p:nvSpPr>
          <p:spPr>
            <a:xfrm>
              <a:off x="183348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5486400"/>
            <a:ext cx="6628320" cy="1191240"/>
            <a:chOff x="533520" y="5486400"/>
            <a:chExt cx="6628320" cy="1191240"/>
          </a:xfrm>
        </p:grpSpPr>
        <p:sp>
          <p:nvSpPr>
            <p:cNvPr id="174" name=""/>
            <p:cNvSpPr/>
            <p:nvPr/>
          </p:nvSpPr>
          <p:spPr>
            <a:xfrm>
              <a:off x="183456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847-26D2-46C0-90D0-A91262A876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12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A64-D071-4FE5-AEDE-B976E4414F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6120" y="5562720"/>
            <a:ext cx="6540840" cy="459720"/>
            <a:chOff x="906120" y="5562720"/>
            <a:chExt cx="6540840" cy="459720"/>
          </a:xfrm>
        </p:grpSpPr>
        <p:sp>
          <p:nvSpPr>
            <p:cNvPr id="182" name=""/>
            <p:cNvSpPr/>
            <p:nvPr/>
          </p:nvSpPr>
          <p:spPr>
            <a:xfrm>
              <a:off x="90612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90988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3E5-D9BD-41E9-9E52-DD98ABF693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64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3880" y="2971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of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51C-DCE7-476E-9AE0-030CAFF500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 (out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1: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2: B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3: 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4: Phase 1A due.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: Phase 1B due. The 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FA-2E80-4BCB-AE79-B7C2A30C8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888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300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348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6FB-2EFE-40F7-9A67-D98DEA0A51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64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940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57E-E7E3-44A1-B72A-912270F5B7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A84-ADBF-4F40-B02F-0D72390D72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F7C-686A-421F-B422-1A645C04ED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F25-CA1F-46FC-8EC3-DF8E4A2287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65-BA8A-4850-AC8A-CEA224A817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 for Mo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from the textb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 columns: SELECT x.name AS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3E5-99C0-4401-8323-E9014F9080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databas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the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: October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p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: Octobe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3C7-5CE5-4B63-8924-CD44A6788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CI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FD6-FAAB-4E5D-8D8F-447D48ACA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6B4-1273-427A-B7DA-9586153EC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880" y="3200400"/>
            <a:ext cx="88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46B-D035-44AC-9BAC-6C5ACE3E0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FD7-33C7-4B96-8B3E-ECA8C17D1D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563-D265-4C3F-B665-1741D94075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5-09-30T03:38:10Z</dcterms:modified>
  <cp:revision>230</cp:revision>
  <dc:subject/>
  <dc:title>PowerPoint Presentation</dc:title>
</cp:coreProperties>
</file>