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ACA-B327-4573-ABA8-72D3B9B4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13A-9ECD-4DC6-B7A0-4B6FF23C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7EF-32B1-4C69-A351-79E5927C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5DC-9DF0-4D93-B77B-4B8DF47A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E89-63CD-416C-AE02-A3FA418C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544-851E-4F20-9484-EC5D96D3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0D9-680A-4960-8937-0F3CD200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D40-4C3E-4C18-A4D2-548F7302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F04-910D-424E-9858-B90860AE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353-F428-4A80-BA95-D262D695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D6F-1657-4932-8FC7-3F9FF3B1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BE4-C25F-4C22-BE39-C99B03E5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DB58-7B1F-4E0A-A740-5A7A23CE2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mdb.com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washington.edu/444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8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796-E367-4C8E-8BED-6E286876CA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DBM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big C program written by someone else that allows us to manage efficiently a large database and allows it to persist over long period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examples of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erver (MS), DB2 (IBM), Oracle, S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SQL, Postgr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F7D-7247-49E2-9610-81405050E8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BM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-oriented DBM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O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-relational DBM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62280" y="3102840"/>
            <a:ext cx="2595240" cy="652680"/>
          </a:xfrm>
          <a:prstGeom prst="wedgeEllipseCallout">
            <a:avLst>
              <a:gd name="adj1" fmla="val -60828"/>
              <a:gd name="adj2" fmla="val 99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457-E646-42B3-848E-1D0957F5FA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Movie Database</a:t>
            </a: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mdb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i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ors (800k), Movies (400k), Directors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played where, who directed what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640" y="6172200"/>
            <a:ext cx="78876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store and process locally; what functions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E2A-6B75-4BF7-A092-6C400683C9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/store large data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/query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access to many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 from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DED-62F1-48FA-9E55-FC4927F80D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Organ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CE1-99CE-4AD7-ADA2-E7F57DC37B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e/store Large Data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84640" y="1812240"/>
            <a:ext cx="2134080" cy="652680"/>
          </a:xfrm>
          <a:prstGeom prst="wedgeEllipseCallout">
            <a:avLst>
              <a:gd name="adj1" fmla="val -99180"/>
              <a:gd name="adj2" fmla="val 6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89720" y="3259800"/>
            <a:ext cx="2436840" cy="652680"/>
          </a:xfrm>
          <a:prstGeom prst="wedgeEllipseCallout">
            <a:avLst>
              <a:gd name="adj1" fmla="val -90944"/>
              <a:gd name="adj2" fmla="val 4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real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7520" y="4326840"/>
            <a:ext cx="929880" cy="652680"/>
          </a:xfrm>
          <a:prstGeom prst="wedgeEllipseCallout">
            <a:avLst>
              <a:gd name="adj1" fmla="val -80995"/>
              <a:gd name="adj2" fmla="val 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F57-8C0B-4706-B699-8F49E3B882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earch/Query/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year w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Rain man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table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movies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Coppol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actor,  count her/his mo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new movie; add an actor to a movie;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214-0B03-4623-BDDE-B17DE3FB3A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earch/Query/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25720" y="1812240"/>
            <a:ext cx="2848680" cy="652680"/>
          </a:xfrm>
          <a:prstGeom prst="wedgeEllipseCallout">
            <a:avLst>
              <a:gd name="adj1" fmla="val -99694"/>
              <a:gd name="adj2" fmla="val 6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17680" y="2999880"/>
            <a:ext cx="3573720" cy="1172520"/>
          </a:xfrm>
          <a:prstGeom prst="wedgeEllipseCallout">
            <a:avLst>
              <a:gd name="adj1" fmla="val -91587"/>
              <a:gd name="adj2" fmla="val 4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table que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y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6920" y="4326840"/>
            <a:ext cx="810720" cy="652680"/>
          </a:xfrm>
          <a:prstGeom prst="wedgeEllipseCallout">
            <a:avLst>
              <a:gd name="adj1" fmla="val -79912"/>
              <a:gd name="adj2" fmla="val 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59436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s: generally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31A-7D17-484D-BD89-3705B7BDA9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Change th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94240" y="2878920"/>
            <a:ext cx="2002320" cy="652680"/>
          </a:xfrm>
          <a:prstGeom prst="wedgeEllipseCallout">
            <a:avLst>
              <a:gd name="adj1" fmla="val -109013"/>
              <a:gd name="adj2" fmla="val -46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85840" y="4326840"/>
            <a:ext cx="929880" cy="652680"/>
          </a:xfrm>
          <a:prstGeom prst="wedgeEllipseCallout">
            <a:avLst>
              <a:gd name="adj1" fmla="val -88699"/>
              <a:gd name="adj2" fmla="val -67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33400" y="5393520"/>
            <a:ext cx="929880" cy="652680"/>
          </a:xfrm>
          <a:prstGeom prst="wedgeEllipseCallout">
            <a:avLst>
              <a:gd name="adj1" fmla="val -264703"/>
              <a:gd name="adj2" fmla="val 168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DD0-3A21-4588-8083-6C2E167C01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curren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users access/update the data con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go wron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protect against that in 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insufficient in databases;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187-706D-4206-8A87-365E00D11F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4837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:  Dan Su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n, Room 662, suciu@cs.washington.ed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 Wednesdays, at 11:30 (or by appoin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ish Gupta, akgupta@cs.washington.ed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TBA (check mailing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han Bales, nbales@cs.washington.edu, nathan@ls3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8CE-7314-4BC0-B637-BB2C3D493F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curren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users access/update the data con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go wron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update; resulting in inconsisten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protect against that in 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insufficient in databases;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gical action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9C0-5E13-41D7-BFB3-61EF196280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Recover from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$100 from account #4662 to #7199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819520"/>
            <a:ext cx="4405320" cy="246096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Read(Accounts, 466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amount = X.amount - 1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Accounts, 4662, X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Read(Accounts, 719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amount = Y.amount + 1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Accounts, 7199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24320" y="3505320"/>
            <a:ext cx="1949760" cy="652680"/>
          </a:xfrm>
          <a:prstGeom prst="wedgeEllipseCallout">
            <a:avLst>
              <a:gd name="adj1" fmla="val -78407"/>
              <a:gd name="adj2" fmla="val -93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7480" y="617220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143-5CDD-4F8F-B4C0-F7B821502E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2438280"/>
            <a:ext cx="289584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s a DM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114444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26668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5812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57200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4160" y="6019920"/>
            <a:ext cx="1932840" cy="652680"/>
          </a:xfrm>
          <a:prstGeom prst="wedgeEllipseCallout">
            <a:avLst>
              <a:gd name="adj1" fmla="val -171"/>
              <a:gd name="adj2" fmla="val -11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02160" y="5207040"/>
            <a:ext cx="3041280" cy="1692360"/>
          </a:xfrm>
          <a:prstGeom prst="wedgeEllipseCallout">
            <a:avLst>
              <a:gd name="adj1" fmla="val -29157"/>
              <a:gd name="adj2" fmla="val -6235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one else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13840" y="5943600"/>
            <a:ext cx="2474280" cy="652680"/>
          </a:xfrm>
          <a:prstGeom prst="wedgeEllipseCallout">
            <a:avLst>
              <a:gd name="adj1" fmla="val -8685"/>
              <a:gd name="adj2" fmla="val -880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81280" y="2209680"/>
            <a:ext cx="4267440" cy="3429000"/>
            <a:chOff x="3581280" y="2209680"/>
            <a:chExt cx="4267440" cy="34290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6553080" y="220968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6705720" y="3562200"/>
              <a:ext cx="9903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6858000" y="493380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flipV="1">
              <a:off x="3581280" y="27428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57600" y="3886200"/>
              <a:ext cx="2743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9880" y="4572000"/>
              <a:ext cx="2895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18040" y="3429000"/>
              <a:ext cx="21254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ODBC, JDB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61880" y="167652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ier system” or “client-ser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055-67B3-4732-8FFE-55C081EC11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MS = Collection of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5181120"/>
            <a:ext cx="669924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mplemented as fil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behind the scenes can be quit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35960" y="19810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_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760" y="36576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6400" y="6248520"/>
            <a:ext cx="317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2438280"/>
          <a:ext cx="449568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24452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is 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133720" y="3886200"/>
          <a:ext cx="487656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God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486400" y="2438280"/>
          <a:ext cx="3251160" cy="119700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1B0-DA25-434B-8400-7382F523F6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e/store Large Data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QL to create and populat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6800" y="2819520"/>
            <a:ext cx="403200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 Actors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OfBirth CHAR(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8240" y="3048120"/>
            <a:ext cx="434124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INTO 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(‘Tom Hanks’, . . 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85680" y="4952880"/>
            <a:ext cx="6563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and physical organization is handled by 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ocus on modeling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4360" y="6099480"/>
            <a:ext cx="49827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tudy data modeling in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F78-B57F-4AAE-839F-603CFA6338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earching/Querying/Upd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movies by  ‘Coppol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behind the scen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04280" y="2666880"/>
            <a:ext cx="7352640" cy="20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 tit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s, Directors, Movie_Dire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Directors.lname = ‘Coppola’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Movies.mid = Movie_Directors.mid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Movie_Directors.id = Directors.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59720" y="5086440"/>
            <a:ext cx="60739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study SQL in gory details in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8720" y="6175440"/>
            <a:ext cx="56444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iscuss the query optimizer in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7B6-F385-4BA3-B216-DC10062BF4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erver Management 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Type = Databas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Name = IISQLS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= SQL Serv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n = your 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 = [write it down in clas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your password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lay with IMDB, create your own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06A-35AA-4DE1-B9B0-6C29D2A61A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Changing th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72040" y="3124080"/>
            <a:ext cx="4305960" cy="124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 TABLE Act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ADD address CHAR(50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DEFAULT ‘unknow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5400" y="5562720"/>
            <a:ext cx="56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cleverness goes on behind the sc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83B-DE7A-4723-B5F3-F80D892996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quence of statements that either all succeed, or all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Transfer 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3276720"/>
            <a:ext cx="315396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EGIN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Accou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amount = amount - 1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umber = 46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Accou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amount = amount + 1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umber = 71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8BC-DB4F-468C-AC1C-334E2571E6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have the ACI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=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A9C-223B-4045-9379-35D29E26EA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s.washington.edu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s will be availab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s will be pos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description will b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subscribe (see instructions on the Web 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FB5-E632-48B6-8678-6757EE8725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curren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le execution of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 in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240" y="3889800"/>
            <a:ext cx="6773400" cy="58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tudy three techniques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9720" y="4724280"/>
            <a:ext cx="1916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439-4562-4077-A0A4-A40A3B922E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Recovery from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ansaction either executes completely, or doesn’t execute 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 in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0000" y="3889800"/>
            <a:ext cx="7758000" cy="58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tudy three types of log files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760" y="4724280"/>
            <a:ext cx="292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/Redo lo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3F0-4160-4525-8F14-FD916BA6F8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, Relational model, databas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ecurity,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dnesday, November 2nd (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cy control and reco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execution an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cember 12th, 8:30-10:20 (this r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96E-4011-4EC7-87DD-007D9B58BD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Data structures course (CSE-32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&amp; Gr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: 25%  (4 of them; some light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: 30%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: 1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2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s: 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A90-543D-4708-90A9-4601B8AF2F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data management needs of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have three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 to Real World phases of system evolution in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details on Fri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CBC-2A08-4696-9AB6-1735D182B4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is in this cours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t of everything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s: SQL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: Functional dependencies, norm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 and data structures (in Part 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programming and hacking for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mportantly: how to meet Real World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6CC-CA92-4D9F-A1F3-38AB3885356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 for Fri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 for Web Nerd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hilip Greenspun, http://philip.greenspun.com/sql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 SQL Server, change your passwd, play with I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1 is posted on the Web: due on October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CC3-DDB9-4EC5-9707-A90F05B03B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extbook, available at the bookst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Systems: The Complete 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ector Garcia-Molina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ffrey Ullm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nifer Wi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7400" y="5562720"/>
            <a:ext cx="80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hapters are good.  Some are not (functional dependecies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TO CLASS !  ASK QUESTIONS ! READ SLID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C63-D019-49D7-B8A8-21EA6D0036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serve at the Engineering Libr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amakrish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compreh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Query from the Expe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Katz, 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ference on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lmasri, Nava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widely used, but we don’t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ndations of Datab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biteboul, Hull, Vian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theory of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on the Web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iteboul, Buneman, Su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and other new/advanced st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ACD-2C0B-4DA4-836A-666F004CFA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of 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s for Fri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708-8FEF-4386-90C0-F57563C65B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1ED-67F9-46C1-8509-FA6321C0E1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files storing relat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s database; payroll database; UW’s students database; Amazon’s products database; airline reservation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DFF-BA86-4588-9C4C-8C09899CE4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BM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861-B117-4675-A1B8-B1C51D7ABC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Dan Suciu</dc:creator>
  <dc:description/>
  <dc:language>en-US</dc:language>
  <cp:lastModifiedBy>uw</cp:lastModifiedBy>
  <cp:lastPrinted>1998-09-26T21:35:18Z</cp:lastPrinted>
  <dcterms:modified xsi:type="dcterms:W3CDTF">2005-09-28T04:13:09Z</dcterms:modified>
  <cp:revision>440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