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C40-88B5-4E12-B42E-966FFCA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B2D-D3E6-4EEF-B4E9-4977EABC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895-8CAC-47B1-921A-BFCEF79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E50-DF9D-4821-BB22-766DED2C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E7F-F0B0-4EE0-AB02-B2A7695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A37-69AC-4368-AE27-8F042C6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3A7-A944-44B5-AE5C-80635C6D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337-8041-4B90-9E0F-9FAAC6D4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E3A-F51D-484C-A580-E3553B7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662-8A4A-41BE-BF55-7CEBD5C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ACA-4C25-4D6D-A0F7-6417EB6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0A7-B419-4137-AD6F-586A0A9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C9F-372F-4A8C-B796-CA32106B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ing &amp;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5B3-D650-4431-94B3-1FD444831C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quantit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18F-0310-470B-B440-AABB50A20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2720" y="1766880"/>
            <a:ext cx="593244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n[20], c[30], city[3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oduct-name, company-name, c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    p, q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ice, quant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506-7E62-49A4-B502-D501567A39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name, 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an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Produc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,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WHERE maker = :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2C3-CD1A-45D6-9FE8-6B0D42E04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with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OP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mpany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c, :c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&lt;company&gt; &lt;name&gt; %s &lt;/name&gt; &lt;city&gt; %s &lt;/city&gt;”, c, ci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Product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n, :p, :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&lt;product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name&gt;      %s    &lt;/name&gt;\n”,    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price&gt;       %d   &lt;/price&gt;\n”,     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quantity&gt;  %d   &lt;/quantity&gt;\n”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       &lt;maker&gt;     %s   &lt;/maker&gt;\n”,    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    &lt;/product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ECT SQL 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f(“&lt;/company&gt;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B2E-1300-4B90-996F-DDFE03515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O_MORE_TUP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 NO_MORE_TUPLES !(strcmp(SQLSTATE,”02000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74F-413C-4B4A-878B-95B08C88A4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1T18:18:12Z</dcterms:modified>
  <cp:revision>304</cp:revision>
  <dc:subject/>
  <dc:title>Lecture 09:</dc:title>
</cp:coreProperties>
</file>