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624-7FB0-4231-A8C5-C30EC17C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738-C257-4C97-9DBA-A2F5A468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B29-37F5-475E-B3AB-8F683002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D08-AF1F-4065-B1AF-BF803AE5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818-3573-4029-AF60-C36A3DFE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F35-8F7B-40D4-868A-2EB82093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1B0-7677-4CAD-9A6C-A8831A5F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CFC-F58D-429E-A5E8-0DCF53AB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1B4-3188-4468-8532-B7D74443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76D-2A22-4564-97B2-DD03B777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A17-FE95-4652-9256-F86ACDC8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587-BB12-4B5F-867C-E6B105FA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5FB1-BD25-405B-B253-3C101AF0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shing &amp;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1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9AA-5FB9-48E8-A6D9-1FD277881F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quantit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2BB-96DF-4438-8940-AE11491072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with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2720" y="1766880"/>
            <a:ext cx="593244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 simpleInser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n[20], c[30], city[3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oduct-name, company-name, ci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    p, q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ice, quanti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DF5-7428-43C9-BA1C-F1A684E801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with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DECL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Company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URSOR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cname, c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an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DECL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Produc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URSOR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,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WHERE maker = :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111-8572-4E7A-A473-8A81DAEEBA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with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OP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Compan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FETCH 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Company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c, :c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&lt;company&gt; &lt;name&gt; %s &lt;/name&gt; &lt;city&gt; %s &lt;/city&gt;”, c, cit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FETCH 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Produc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n, :p, :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O_MORE_TUP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&lt;product&gt;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       &lt;name&gt;      %s    &lt;/name&gt;\n”,    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       &lt;price&gt;       %d   &lt;/price&gt;\n”,     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       &lt;quantity&gt;  %d   &lt;/quantity&gt;\n”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       &lt;maker&gt;     %s   &lt;/maker&gt;\n”,    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&lt;/product&gt;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T SQL 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&lt;/company&gt;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E5E-1328-44CB-ABF6-696D4BB89F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NO_MORE_TUPL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efine NO_MORE_TUPLES !(strcmp(SQLSTATE,”02000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DE8-227A-491F-BEAE-47835598D0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01T18:18:12Z</dcterms:modified>
  <cp:revision>304</cp:revision>
  <dc:subject/>
  <dc:title>Lecture 09:</dc:title>
</cp:coreProperties>
</file>