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470-EC80-4F3F-885F-38E2B6D2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F0F-9E7B-422B-914E-E414AB8E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C11-F5C7-47BA-911F-F84AEDB1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B90-568F-4711-B9AA-CE775D10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A17-3659-4559-9E1F-E3C702A6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11A-2FC4-4054-8C32-0907737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135-BC5F-4683-B02D-53413A81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3BE-788D-427A-AE97-E7BDEFFF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C9A-5D19-4EDF-B358-B945F829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2B8-3E86-4E12-89E1-1B613868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DB4-F215-41C8-8326-56E5C6D1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00E-8F88-43EC-85AB-BB710CF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280C-93BF-44A5-B028-833739E7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/Cost Estimation,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6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4BE-0C29-4263-9E10-6818C318B5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D8F-6244-4B25-B126-F17D7639CC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054-A80F-47AD-80CE-9B6C9A1453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152-DA76-489C-94C9-4206F6DAAA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size of Employe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D13-992A-4F77-B0D7-B78959A3A8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dep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00400" y="213372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00400" y="362916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202-2710-4A96-B9FD-B75C642608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per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=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uple t in 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ins with how many tuples in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: with T(Ran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/T(Rank) *  T(Rank)/250 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‘/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(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BC4-0239-48E7-BA4E-404FE06A49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0B3-8E40-4BCD-BA7A-B20ADF1843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: Given an expression E, compute T(E) and V(E, 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 without computing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‘estimate’ them inst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450-9A1C-43D5-A307-6B9A4246D3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A4D-0053-4229-A778-ADD60EDF2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T(R)/V(R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V(R,A) is not available, estimate T(S) = T(R)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(c - Low(R, A))/(High(R,A) - Low(R,A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Low, High unavailable, estimate T(S) = T(R)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7C8-7E4C-410F-87E5-DA99667778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955-7941-4089-9DBB-F9D768AD53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other attribute B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8C0-80B9-4EC1-BC87-D8C24B63A9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will contribute T(S)/V(S,A) tuples in R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: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145-7594-4DCD-948A-9EED8ADA7F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610-1D2B-42DA-9AD9-23065AE6D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2-06T07:04:08Z</dcterms:modified>
  <cp:revision>463</cp:revision>
  <dc:subject/>
  <dc:title>Lecture 09:</dc:title>
</cp:coreProperties>
</file>