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E07-83AA-4CA7-BB3A-2D25DF9D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A7F-21C2-457E-911B-9CE2F15D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262-5C61-4884-A4F7-20D65E65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4DB-9439-499F-AAA3-5640943F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2AA-3398-4795-A510-1A76668F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51E-CA3B-4D39-BC7A-1A242EE3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BCF-9918-45DB-93CC-874EA413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B8D-A89F-457D-95AA-FF685201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C36-98D0-41BD-9294-EFC7C99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094-FA33-4D96-A578-6247D6F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9AC-2327-461B-B098-B1F877A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14B-FAC8-4A1F-9CCF-6249A18A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87CA-59DB-4DDE-B733-C3A0AB751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/Cost Estimation,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6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3DF-CA4D-4DE8-9CD1-8C6E6B223D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62D-3EC3-4555-A672-0E1989C652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074-3867-4969-B8C2-19E1681C6D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F29-B27A-46EA-8B3A-A7935087A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size of Employe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A79-F64E-410A-8A4E-D364BD1C46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00400" y="213372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00400" y="362916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0DC-5614-45B4-A65F-A89BDF2333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=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uple t in 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ins with how many tuples in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: with T(Ran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T(Rank) *  T(Rank)/250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‘/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(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A11-A0D9-4049-9CD2-0596D783BC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92F-3E83-4372-8AA4-2C493852DF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: Given an expression E, compute T(E) and V(E, 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 without computing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7F6-24AF-490B-9CC6-ECCDD1FC9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785-CC77-4E7D-9756-2EE1886B18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T(R)/V(R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V(R,A) is not available, estimate T(S) = T(R)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(c - Low(R, A))/(High(R,A) - Low(R,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Low, High unavailable, estimate T(S) = T(R)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46C-7BA3-45D9-A00B-0996AC239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EF8-E34F-4D49-BBDC-25DE8C1DA0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other attribute 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2D0-878A-47F6-B7A6-06052DD1C4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will contribute T(S)/V(S,A) tuples in R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: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D79-175A-4268-B862-230CA3931D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261-B103-4ECD-B78E-E9BA7AEF56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2-06T07:04:08Z</dcterms:modified>
  <cp:revision>463</cp:revision>
  <dc:subject/>
  <dc:title>Lecture 09:</dc:title>
</cp:coreProperties>
</file>