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DF8217-7323-4AE7-A297-490CE917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44E-4596-4894-98EB-74ADF5CD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9FD-D0D8-4F62-86DE-6D76C6B0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C52-05EE-4622-9C72-B78F461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7F9-E546-4FBE-96CC-261BBF2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83D-7772-4E0C-B2A6-283A9C92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23E-B94B-4A0F-9E9C-08236501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DEF-F656-4742-AF1E-62697DC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16A-F009-47AC-933D-AD951C80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91A-0243-4684-BEF7-54734A24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A8F-6A48-4EA7-895C-E18167D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B0A-45C0-4F4E-B318-D2B3ECD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0D4-2DFE-44C2-B7A3-B5C67F2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5E1-2DA6-4C27-81AF-136DE4C59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3rd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DB1-CC95-4778-817C-A813607A6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32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37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42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53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C5F-A040-44A5-B62C-40BC13884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63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8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73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8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2DB-EF02-444C-A152-F30FB8913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63D-CF2A-4747-8F78-191B4ED527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97B-A931-45C6-B745-9E88010151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B09-D0B9-48A1-B73C-251BE439D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C9B-7BAE-4FF0-AB04-1CF3BBED2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A1A-7FDE-4E77-83C0-FDB86E1AE8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18A-0EC0-49E7-BC05-6E1BFC514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FE3-FF05-4BEA-A45A-DAC4086926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453-62B7-49C5-8D2C-26BB5E444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54A-A4C2-4767-8494-49DB82DEE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FCA-62C4-4ABA-AF89-3310A7264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550-8969-4192-9BC2-F5F3F760D3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ABA-8CA3-4283-A4F1-43C5167BF1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9D3-2942-4270-ACA6-70391857EF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C0F-B8E2-40B6-B91F-5A0D5175A0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7B2-4ADA-43C7-A218-0FD940CA1A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2D2-561E-44D1-B5B2-31FD3D2C15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4" idx="3"/>
            <a:endCxn id="225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5" idx="3"/>
            <a:endCxn id="226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6" idx="3"/>
            <a:endCxn id="230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6" idx="5"/>
            <a:endCxn id="231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5" idx="5"/>
            <a:endCxn id="229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4" idx="5"/>
            <a:endCxn id="232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F81-4DEC-4128-B3AF-B2C76A6688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BEA-5B2B-424B-9AE2-2671D3EAF4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3"/>
            <a:endCxn id="249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9" idx="3"/>
            <a:endCxn id="250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0" idx="3"/>
            <a:endCxn id="254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0" idx="5"/>
            <a:endCxn id="255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9" idx="5"/>
            <a:endCxn id="253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8" idx="5"/>
            <a:endCxn id="256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66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570000">
              <a:off x="484920" y="324396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F64-057E-4D10-B451-A0DA7B626B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do transformation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imite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decisions based on data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: Syste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-based optimizations: DB2, SQL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FEB-0849-42D8-9B50-B5787366AA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C05-145A-41BD-96A6-59BE49C406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1" idx="3"/>
            <a:endCxn id="272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2" idx="3"/>
            <a:endCxn id="273" idx="7"/>
          </p:cNvCxnSpPr>
          <p:nvPr/>
        </p:nvCxnSpPr>
        <p:spPr>
          <a:xfrm flipH="1">
            <a:off x="1312200" y="4109760"/>
            <a:ext cx="93564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3" idx="3"/>
            <a:endCxn id="277" idx="7"/>
          </p:cNvCxnSpPr>
          <p:nvPr/>
        </p:nvCxnSpPr>
        <p:spPr>
          <a:xfrm flipH="1">
            <a:off x="713520" y="5544720"/>
            <a:ext cx="19764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73" idx="4"/>
            <a:endCxn id="278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2" idx="5"/>
            <a:endCxn id="282" idx="1"/>
          </p:cNvCxnSpPr>
          <p:nvPr/>
        </p:nvCxnSpPr>
        <p:spPr>
          <a:xfrm>
            <a:off x="2649240" y="4110120"/>
            <a:ext cx="2437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1" idx="5"/>
            <a:endCxn id="284" idx="1"/>
          </p:cNvCxnSpPr>
          <p:nvPr/>
        </p:nvCxnSpPr>
        <p:spPr>
          <a:xfrm>
            <a:off x="3659040" y="2725200"/>
            <a:ext cx="174240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4" idx="3"/>
            <a:endCxn id="288" idx="7"/>
          </p:cNvCxnSpPr>
          <p:nvPr/>
        </p:nvCxnSpPr>
        <p:spPr>
          <a:xfrm flipH="1">
            <a:off x="4791960" y="43254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88" idx="3"/>
            <a:endCxn id="276" idx="7"/>
          </p:cNvCxnSpPr>
          <p:nvPr/>
        </p:nvCxnSpPr>
        <p:spPr>
          <a:xfrm flipH="1">
            <a:off x="4215600" y="5710320"/>
            <a:ext cx="1753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4" idx="5"/>
            <a:endCxn id="291" idx="1"/>
          </p:cNvCxnSpPr>
          <p:nvPr/>
        </p:nvCxnSpPr>
        <p:spPr>
          <a:xfrm>
            <a:off x="5802120" y="4325760"/>
            <a:ext cx="61812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88" idx="5"/>
            <a:endCxn id="293" idx="1"/>
          </p:cNvCxnSpPr>
          <p:nvPr/>
        </p:nvCxnSpPr>
        <p:spPr>
          <a:xfrm>
            <a:off x="4792680" y="5710320"/>
            <a:ext cx="1720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2" idx="3"/>
            <a:endCxn id="296" idx="7"/>
          </p:cNvCxnSpPr>
          <p:nvPr/>
        </p:nvCxnSpPr>
        <p:spPr>
          <a:xfrm flipH="1">
            <a:off x="2760480" y="4935240"/>
            <a:ext cx="1324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5"/>
            <a:endCxn id="297" idx="1"/>
          </p:cNvCxnSpPr>
          <p:nvPr/>
        </p:nvCxnSpPr>
        <p:spPr>
          <a:xfrm>
            <a:off x="3293640" y="4935240"/>
            <a:ext cx="299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6" idx="3"/>
            <a:endCxn id="299" idx="7"/>
          </p:cNvCxnSpPr>
          <p:nvPr/>
        </p:nvCxnSpPr>
        <p:spPr>
          <a:xfrm flipH="1">
            <a:off x="2211120" y="5850000"/>
            <a:ext cx="148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96" idx="5"/>
            <a:endCxn id="301" idx="1"/>
          </p:cNvCxnSpPr>
          <p:nvPr/>
        </p:nvCxnSpPr>
        <p:spPr>
          <a:xfrm>
            <a:off x="2760840" y="5850000"/>
            <a:ext cx="1512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F2C-238B-4F37-9CB4-676497BA63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313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318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7620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3924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4892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5E5-6434-4FF7-B728-087ED51BBD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3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3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732-441B-49D8-95B2-F5ECDA6966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5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6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A83-52EC-4E29-9DE5-20C28E9BC1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7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7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8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1B8-ED13-4C61-9508-2C8EF221E7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9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0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0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805-8FD9-4C19-B0AF-710AD1CADA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42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2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2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E54-83FD-43DC-95F4-4B584A64ED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4B7-23F9-4090-BAD1-DDB6070E13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F66-B2C0-4E3D-A026-8A49EFB14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562-5144-4466-896C-391409809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2C1-663F-4FDB-B228-46C6B7AE8F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4440" y="2819520"/>
            <a:ext cx="61963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876-9DC4-4EB3-A1CA-87EF0B41A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70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75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80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2DE-F885-4FC0-9452-753468379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93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8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103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8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3E2-DD44-40DE-9BCC-700388457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3T02:41:28Z</dcterms:modified>
  <cp:revision>347</cp:revision>
  <dc:subject/>
  <dc:title>Lecture 09:</dc:title>
</cp:coreProperties>
</file>