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FB8101-5DE2-481C-9AD6-AE8B378E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910-FC78-4E6B-A8B3-AB9A60E5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D72-C220-4EB5-A595-CAA1CA5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38A-FDC0-4B19-8E66-87A33BA7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DD8-3979-489B-A5B7-C2D43D72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B65-9BE8-45DA-808A-6B2CBAE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01B-A7DF-4BF8-9683-AEBEF49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299-2FE8-4AD3-8CB9-AA20D62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DC7-D7AE-48CC-B6A9-0B6FE50D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9BB-4070-47E8-B509-A72EF28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D4A-B287-4EE8-93D4-7FCBDB9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2B1-D3BA-4BA0-8B0D-AB3BACC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8F1-F443-47F4-8A81-5F203FB8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E1C9-A458-40EE-A05E-5B26BD587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3rd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2DB-7BD3-4926-A14C-59D0D48959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32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37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42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53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D4F-724F-4DA3-A636-DF4BB2769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63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8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73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8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B48-4FA9-45D5-8E05-988515146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0DF-3C13-4B15-AEC6-7BAEDB56C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818-A476-43F1-AA3D-E597AAA0B2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E00-4853-4086-8F8C-1D1B1CC97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DC1-5C71-476A-BA92-115C569A43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DA9-3E96-43F8-B53B-EC3972AD6C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5EC-76AB-4F81-A5FB-BC726D681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938-FEFD-4044-AFC3-77F573B02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7F5-EF1C-4156-BD7C-42E4743D9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1A7-E21B-4C49-BC0B-B98AA5061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9CA-1F63-45C9-9EFE-FD5BCF31F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FFC-6D17-4DD1-B5FB-106638CB2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5CE-C5C4-401A-B663-61B3E481A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AB5-1EA5-4A36-91F1-2B4B1DD689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67A-86F9-45CC-ACCA-66A4067A64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5E8-AFF1-4803-BDBB-4CF62C5C0E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868-6FE1-4F58-A212-5AE5317F40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4" idx="3"/>
            <a:endCxn id="225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5" idx="3"/>
            <a:endCxn id="226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6" idx="3"/>
            <a:endCxn id="230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6" idx="5"/>
            <a:endCxn id="231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5" idx="5"/>
            <a:endCxn id="229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4" idx="5"/>
            <a:endCxn id="232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9E0-0CEB-4064-9F38-DE81307B45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1A1-672D-4FA3-95B6-06A463D2A3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3"/>
            <a:endCxn id="249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9" idx="3"/>
            <a:endCxn id="250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0" idx="3"/>
            <a:endCxn id="254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0" idx="5"/>
            <a:endCxn id="255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9" idx="5"/>
            <a:endCxn id="253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8" idx="5"/>
            <a:endCxn id="256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66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570000">
              <a:off x="484920" y="324396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453-3C2F-489C-BB7A-C75F63F8FB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do transformation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imite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decisions based on data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: Syste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-based optimizations: DB2, SQL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051-7FCA-42E8-8188-D8DCA54E3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42F-BF80-47E8-A36E-7A7E3DF514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1" idx="3"/>
            <a:endCxn id="272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2" idx="3"/>
            <a:endCxn id="273" idx="7"/>
          </p:cNvCxnSpPr>
          <p:nvPr/>
        </p:nvCxnSpPr>
        <p:spPr>
          <a:xfrm flipH="1">
            <a:off x="1312200" y="4109760"/>
            <a:ext cx="93564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3" idx="3"/>
            <a:endCxn id="277" idx="7"/>
          </p:cNvCxnSpPr>
          <p:nvPr/>
        </p:nvCxnSpPr>
        <p:spPr>
          <a:xfrm flipH="1">
            <a:off x="713520" y="5544720"/>
            <a:ext cx="19764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73" idx="4"/>
            <a:endCxn id="278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2" idx="5"/>
            <a:endCxn id="282" idx="1"/>
          </p:cNvCxnSpPr>
          <p:nvPr/>
        </p:nvCxnSpPr>
        <p:spPr>
          <a:xfrm>
            <a:off x="2649240" y="4110120"/>
            <a:ext cx="2437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1" idx="5"/>
            <a:endCxn id="284" idx="1"/>
          </p:cNvCxnSpPr>
          <p:nvPr/>
        </p:nvCxnSpPr>
        <p:spPr>
          <a:xfrm>
            <a:off x="3659040" y="2725200"/>
            <a:ext cx="174240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4" idx="3"/>
            <a:endCxn id="288" idx="7"/>
          </p:cNvCxnSpPr>
          <p:nvPr/>
        </p:nvCxnSpPr>
        <p:spPr>
          <a:xfrm flipH="1">
            <a:off x="4791960" y="43254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88" idx="3"/>
            <a:endCxn id="276" idx="7"/>
          </p:cNvCxnSpPr>
          <p:nvPr/>
        </p:nvCxnSpPr>
        <p:spPr>
          <a:xfrm flipH="1">
            <a:off x="4215600" y="5710320"/>
            <a:ext cx="1753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4" idx="5"/>
            <a:endCxn id="291" idx="1"/>
          </p:cNvCxnSpPr>
          <p:nvPr/>
        </p:nvCxnSpPr>
        <p:spPr>
          <a:xfrm>
            <a:off x="5802120" y="4325760"/>
            <a:ext cx="61812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88" idx="5"/>
            <a:endCxn id="293" idx="1"/>
          </p:cNvCxnSpPr>
          <p:nvPr/>
        </p:nvCxnSpPr>
        <p:spPr>
          <a:xfrm>
            <a:off x="4792680" y="5710320"/>
            <a:ext cx="1720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2" idx="3"/>
            <a:endCxn id="296" idx="7"/>
          </p:cNvCxnSpPr>
          <p:nvPr/>
        </p:nvCxnSpPr>
        <p:spPr>
          <a:xfrm flipH="1">
            <a:off x="2760480" y="4935240"/>
            <a:ext cx="1324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5"/>
            <a:endCxn id="297" idx="1"/>
          </p:cNvCxnSpPr>
          <p:nvPr/>
        </p:nvCxnSpPr>
        <p:spPr>
          <a:xfrm>
            <a:off x="3293640" y="4935240"/>
            <a:ext cx="299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6" idx="3"/>
            <a:endCxn id="299" idx="7"/>
          </p:cNvCxnSpPr>
          <p:nvPr/>
        </p:nvCxnSpPr>
        <p:spPr>
          <a:xfrm flipH="1">
            <a:off x="2211120" y="5850000"/>
            <a:ext cx="148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96" idx="5"/>
            <a:endCxn id="301" idx="1"/>
          </p:cNvCxnSpPr>
          <p:nvPr/>
        </p:nvCxnSpPr>
        <p:spPr>
          <a:xfrm>
            <a:off x="2760840" y="5850000"/>
            <a:ext cx="1512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87-146E-4987-85D3-D59004C966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313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318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7620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3924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4892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F9E-8CD3-452C-BD37-51320BB70F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3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3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2D8-442D-41FF-9FBE-6CB001DEAE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5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6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3D1-0AB1-4CB2-8A2E-974AD50462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7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7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8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75E-7AD2-46C8-ABFB-FF491876E7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39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0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0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0D6-28C4-4750-B441-3AA7DBA456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42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2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2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B07-99A1-47D8-BC8A-0D1BE301AD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7B9-F965-486A-890D-5CAC99AC9D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F4E-23EB-4233-B023-8793927781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58C-D02C-4E9C-B231-F793E906A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776-B52A-493F-A4BE-72D2AE02F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4440" y="2819520"/>
            <a:ext cx="61963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358-30C9-4AD8-B20D-EE8407FC59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70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75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80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EDF-6869-45F8-AA90-D91F75E00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93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8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103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8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386-96E2-4A6B-BEDA-0F40457F9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2-03T02:41:28Z</dcterms:modified>
  <cp:revision>347</cp:revision>
  <dc:subject/>
  <dc:title>Lecture 09:</dc:title>
</cp:coreProperties>
</file>