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E66-1BA1-4670-8A74-36E19600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759-A87B-404A-B9D1-478D7B0D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9C5-B771-4DCC-AAF5-58940CB4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C1E-6ABB-4FAD-8DF1-37B22F9F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C3C-28EE-494C-A2AC-22FC4EED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420-EFDC-4012-B8C0-1200A40A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712-083C-4857-95F6-44421D0C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309-DB32-45F8-BADD-8C412518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3AA-6DB6-4C43-9D96-31EF3BF3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529-0A78-423B-A22A-64208710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C4A-1274-4A91-A951-395E02D6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1B1-1368-4CB8-80D3-96B700B2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C5A1-8C09-42B1-B628-BFCAEC9E6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6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December 1st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EF5-4E83-40F4-BBAF-599358B1F6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joins: a bit of theory (see [AHV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ll reducer for Q is a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no dangling tuples remain in any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89800" y="2971800"/>
            <a:ext cx="33184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: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. . . |x|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49640" y="4267080"/>
            <a:ext cx="1663560" cy="13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 .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24160" y="4429080"/>
            <a:ext cx="228600" cy="952560"/>
            <a:chOff x="4124160" y="4429080"/>
            <a:chExt cx="228600" cy="952560"/>
          </a:xfrm>
        </p:grpSpPr>
        <p:sp>
          <p:nvSpPr>
            <p:cNvPr id="66" name=""/>
            <p:cNvSpPr/>
            <p:nvPr/>
          </p:nvSpPr>
          <p:spPr>
            <a:xfrm>
              <a:off x="4124160" y="442908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24160" y="465768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4160" y="526716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84F-CCE1-4036-800C-C60A6F75E8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 reducer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1280" y="2133720"/>
            <a:ext cx="540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E) :- R1(A,B) |x| R2(B,C) |x|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93400" y="3276720"/>
            <a:ext cx="46368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1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(C,D,E) := R3(C,D,E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(A,B) := R1(A,B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7640" y="609480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ables have only the tuples necessary to compute Q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3D7-B4FE-4230-9FBB-37D8947ADE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have a full reducer (we can reduce for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query has a full reducer iff it is “acycl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74080" y="2895480"/>
            <a:ext cx="5478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E) :- R1(A,B) |x| R2(B,C) |x| R3(A,C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E7A-7A78-432D-9B62-8B3EB2080B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in [Chaudhuri’9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0960" y="2819520"/>
            <a:ext cx="522072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DepAvgSal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9AD-0B7C-4A4A-A10F-132E0468E1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85920" y="2819520"/>
            <a:ext cx="57816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pt D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WHERE E.did = D.did AND D.bu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B56-1E57-4C73-934F-F028F8B50C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full redu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590920"/>
            <a:ext cx="638640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PartialResult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id, E.sal, E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=D.did AND E.age &l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.budget &gt; 100k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Filter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DISTINCT P.did FROM PartialResult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LimitedAvgSal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Filt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F.did 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D16-1F4C-4FEA-9FF5-1EF3D086AA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1720" y="2971800"/>
            <a:ext cx="4867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P.eid, P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PartialResult P, Limited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.did = V.did AND P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95F-6C64-4923-905C-F59E784862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610-B827-49F8-A700-1F3087625A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 (to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 (Fri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 (Monday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A6B-7C95-4D13-81CF-78E151ACD6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F1D-11E5-4E39-9194-730A99C6CB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AFA-81C4-43C5-BB0E-29E90B8352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18A-7DAA-4FCB-89DD-B3D54486CE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DED-97C1-424B-B85E-9B2976E49E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6BF-0112-4B38-8807-D96850CF73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DVANCED STUFF; NOT ON THE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      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he schema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R(A1,…An),  S(B1,…,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T(A1,…,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4149720"/>
            <a:ext cx="3049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lnTo>
                  <a:pt x="0" y="96"/>
                </a:lnTo>
                <a:lnTo>
                  <a:pt x="0" y="0"/>
                </a:lnTo>
                <a:lnTo>
                  <a:pt x="1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5201280" y="40536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BAE-2E32-4DA7-AB84-86732D52C6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2-01T05:05:55Z</dcterms:modified>
  <cp:revision>359</cp:revision>
  <dc:subject/>
  <dc:title>Lecture 09:</dc:title>
</cp:coreProperties>
</file>