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CA65-A492-4077-957D-DBC9E033E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B870-EC21-4AF4-987C-03F9138F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E4AD-3A4F-4DDA-8E73-A9680EFB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809E-4001-4215-89D1-FFBBFA3D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CB9D-617D-41E1-A810-90A2A1AE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ED10-8954-4C96-BE3F-3D2DFE20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8C88-008B-4ED1-B972-4855645B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06AE-6714-4D2B-A1AC-2F251F26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4794-E6B9-4E50-A21E-1DC01439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E2A7-9720-428E-BA0C-B3174B04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EF2E-E0B4-44EF-92D5-A10B701F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915B-2089-43D7-9A00-3ADF818A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A01B-085C-4553-9CA8-269678B93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6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December 1st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8170-D666-4D55-9A10-4CF0520E35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joins: a bit of theory (see [AHV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ll reducer for Q is a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hat no dangling tuples remain in any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89800" y="2971800"/>
            <a:ext cx="331848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: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x|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x| . . . |x|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49640" y="4267080"/>
            <a:ext cx="1663560" cy="134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. .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124160" y="4429080"/>
            <a:ext cx="228600" cy="952560"/>
            <a:chOff x="4124160" y="4429080"/>
            <a:chExt cx="228600" cy="952560"/>
          </a:xfrm>
        </p:grpSpPr>
        <p:sp>
          <p:nvSpPr>
            <p:cNvPr id="66" name=""/>
            <p:cNvSpPr/>
            <p:nvPr/>
          </p:nvSpPr>
          <p:spPr>
            <a:xfrm>
              <a:off x="4124160" y="4429080"/>
              <a:ext cx="228600" cy="1144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92" y="0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9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24160" y="4657680"/>
              <a:ext cx="228600" cy="1144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92" y="0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9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24160" y="5267160"/>
              <a:ext cx="228600" cy="1144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92" y="0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9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E004-433A-4BA4-AA09-F5B926B319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ll reducer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31280" y="2133720"/>
            <a:ext cx="5401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E) :- R1(A,B) |x| R2(B,C) |x| R3(C,D,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93400" y="3276720"/>
            <a:ext cx="46368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2(B,C) := R2(B,C) |x R1(A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3(C,D,E) := R3(C,D,E) |x R2(B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2(B,C) := R2(B,C) |x R3(C,D,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1(A,B) := R1(A,B) |x R2(B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7640" y="6094800"/>
            <a:ext cx="79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tables have only the tuples necessary to compute Q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9D96-D1CB-47E8-A3B5-7A036D2F66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have a full reducer (we can reduce fore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query has a full reducer iff it is “acycli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74080" y="2895480"/>
            <a:ext cx="5478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E) :- R1(A,B) |x| R2(B,C) |x| R3(A,C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8707-49C1-4A57-A1ED-F9CFA07B75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joins in [Chaudhuri’98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0960" y="2819520"/>
            <a:ext cx="522072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DepAvgSal As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E.did, Avg(E.Sal) AS 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BY E.d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E.eid, E.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Dept D, DepAvgSal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.did = D.did AND E.did = V.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.age &lt; 30 AND D.budget &gt; 10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.sal &gt; V.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4B84-A3F4-4B83-8ED1-9832A43236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85920" y="2819520"/>
            <a:ext cx="57816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imitedAvgS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E.did, Avg(E.Sal) AS 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ept D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    WHERE E.did = D.did AND D.buget &gt; 10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BY E.d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E.eid, E.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Dept D,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imitedAvgS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.did = D.did AND E.did = V.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.age &lt; 30 AND D.budget &gt; 10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.sal &gt; V.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0340-D8DB-4D19-B845-95D970CE74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: full redu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2590920"/>
            <a:ext cx="638640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PartialResult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LECT E.id, E.sal, E.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Dept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.did=D.did AND E.age &lt;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.budget &gt; 100k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Filter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LECT DISTINCT P.did FROM PartialResult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LimitedAvgSal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LECT E.did, Avg(E.Sal) AS 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Filter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.did = F.did GROUP BY E.d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7610-A611-4BD8-94C6-E2B743059F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1720" y="2971800"/>
            <a:ext cx="48672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P.eid, P.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PartialResult P, LimitedDepAvgSal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P.did = V.did AND P.sal &gt; V.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84CF-03EE-4758-B453-ADB095B17B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optimization: algebraic laws 16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0DB1-B475-4D5B-B3B4-C7D6B41D2C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components of an 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hree things in an optimiz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ebraic laws (tod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timization algorithm (Frid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st estimator (Monday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FB34-D719-4E16-9AA5-D102A33FA2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tative and Associa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= 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,  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) = (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 = 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R, 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) =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 = 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R, 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) =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)  = 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FBAD-1461-4143-921F-A2B89BB5D4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AND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OR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C involves only attributes of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–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–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ABA1-81BD-424F-BB07-1050554F0A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R(A, B, C, 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=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           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5 AND G=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0CAB-49AD-4246-A67A-9A0088491F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,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R(A,B,C,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B,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?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792A-B005-4ECB-9AD8-9785548687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ws involving grouping and aggreg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) if agg is “duplicate insensitiv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are “duplicate insensitive” 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, count, avg, min,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 agg(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(A,B)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B=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(C,D)) =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 agg(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(A,B)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B=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, agg(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(C,D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6362-CBBE-47E7-99FA-6CC530569B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DVANCED STUFF; NOT ON THE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  S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        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he schema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R(A1,…An),  S(B1,…,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 T(A1,…,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4149720"/>
            <a:ext cx="304920" cy="15228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92" y="0"/>
                </a:moveTo>
                <a:lnTo>
                  <a:pt x="0" y="96"/>
                </a:lnTo>
                <a:lnTo>
                  <a:pt x="0" y="0"/>
                </a:lnTo>
                <a:lnTo>
                  <a:pt x="192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5201280" y="405360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AB44-FEEF-4697-9E61-5FDAB304B3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2-01T05:05:55Z</dcterms:modified>
  <cp:revision>359</cp:revision>
  <dc:subject/>
  <dc:title>Lecture 09:</dc:title>
</cp:coreProperties>
</file>