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B448-689D-46D5-BAFC-4343B26B8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606-6880-428D-9BF7-B2ADD6B7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18F-503E-4EE3-94D3-56C3ECD3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D70-8CC4-4888-85F4-D1C2C801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C67-5C23-4FF1-B90C-4161EB5A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D9F-2C32-43CE-8B0F-2C77DDFC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90B-FFD8-4AE3-9367-85B1CDE2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18F-558C-47F3-BCA8-3DF8F44A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48B-CD69-4FDA-B52D-C2D8F7D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8A3-0077-436A-9C38-08C0F9DE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88C-3EFB-4794-A51E-5E1D1891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39F-38A2-4715-B9D8-700C57C8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96E-B533-40D1-AAA6-099363D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18FE-E34D-491D-B960-0F0A34F17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: Lecture 2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9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 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 ru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 bytes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5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5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625G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9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9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ata can we sort with 10MB 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MB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s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5GB data    (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M/B = 25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590840" y="2209680"/>
                <a:ext cx="36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/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ze/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 in the XML toolkit sorts using thi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1GB of XML data in about 8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ulti-way merge sort needs only two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98360" y="2133720"/>
            <a:ext cx="10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output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x = next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18880" y="21337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9200" y="212868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2272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5520" y="2900520"/>
            <a:ext cx="192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R.A =S.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1456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.A &lt; y.B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.A=y.B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.A &gt; y.B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4560" y="133668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C) sorted o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B,D) sorted 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Nested Loop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S) + B(R)*B(S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min(B(R),B(S)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B(R)+B(S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+ T(R)B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8732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9316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576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70272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69080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340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8956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16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in memory: CPU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nota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tabases time is dominated by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too, but for I/O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big O becomes a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need to redesign certai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orting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70272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996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16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4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6184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80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0956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9080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340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6460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036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188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4404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888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4972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8104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9652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6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916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140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sort 1 GB of data with 1MB of 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449568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524520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 in 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 merge two runs, writ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1872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872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589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6092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0936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83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86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120" y="3200400"/>
            <a:ext cx="3182040" cy="652680"/>
          </a:xfrm>
          <a:prstGeom prst="wedgeEllipseCallout">
            <a:avLst>
              <a:gd name="adj1" fmla="val 9611"/>
              <a:gd name="adj2" fmla="val 855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9520" y="2895480"/>
            <a:ext cx="3398760" cy="652680"/>
          </a:xfrm>
          <a:prstGeom prst="wedgeEllipseCallout">
            <a:avLst>
              <a:gd name="adj1" fmla="val 12009"/>
              <a:gd name="adj2" fmla="val 13588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2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block size is B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8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6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GB 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8960" y="6099480"/>
            <a:ext cx="615780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19 iterations over the disk data to sort 1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1MB of main memory, but only used 12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size  (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= 4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  (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= 1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cords in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on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 bytes ( 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1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25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28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1:41:11Z</dcterms:created>
  <dc:creator>Dan Suciu</dc:creator>
  <dc:description/>
  <dc:language>en-US</dc:language>
  <cp:lastModifiedBy>Dan Suciu</cp:lastModifiedBy>
  <dcterms:modified xsi:type="dcterms:W3CDTF">2004-11-29T04:30:19Z</dcterms:modified>
  <cp:revision>16</cp:revision>
  <dc:subject/>
  <dc:title>Sorting</dc:title>
</cp:coreProperties>
</file>