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9F66-9C96-4180-904E-A5EABC0D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440-5731-4C1D-A6DB-23280859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1F6-7873-4A2B-A275-1ECA66A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DE2-991F-4951-8714-3F18EC47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23F-2BEE-48F8-A6CF-604B7AE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AF2-DF28-4715-8151-5CC2A40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E8D-514E-4661-A58F-CA8EB67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A94-313C-47F4-9246-D6DE376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95E-D5C0-4394-890F-C3CF4C9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EA4-A40E-4019-AADC-8A6D790E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F86-8F27-4DEB-B167-87A7A0B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331-6A68-44FC-97C9-AD39B6EA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128-47E2-4043-A507-200FAFB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3AF-A0A9-4888-8ECC-5DBF343D3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: Lecture 2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5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5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625G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9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9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ulti-way merge sort needs only two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836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888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5520" y="2900520"/>
            <a:ext cx="192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456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Nested Loop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S) + B(R)*B(S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min(B(R),B(S)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B(R)+B(S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+ T(R)B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732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9316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184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0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956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888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4972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916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872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72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589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6092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936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83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86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120" y="3200400"/>
            <a:ext cx="3182040" cy="652680"/>
          </a:xfrm>
          <a:prstGeom prst="wedgeEllipseCallout">
            <a:avLst>
              <a:gd name="adj1" fmla="val 961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952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896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2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2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41:11Z</dcterms:created>
  <dc:creator>Dan Suciu</dc:creator>
  <dc:description/>
  <dc:language>en-US</dc:language>
  <cp:lastModifiedBy>Dan Suciu</cp:lastModifiedBy>
  <dcterms:modified xsi:type="dcterms:W3CDTF">2004-11-29T04:30:19Z</dcterms:modified>
  <cp:revision>16</cp:revision>
  <dc:subject/>
  <dc:title>Sorting</dc:title>
</cp:coreProperties>
</file>