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11A69E-45A0-4116-819E-F67D27254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EA9F0C-4890-4BF8-AD41-091DEEBBA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997-690F-4C26-B926-855561F1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3BE-3F54-46A6-A21F-0BEC4719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C7C-9EC0-4E1D-8575-6F4E8627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500-8E16-4B40-8F2A-7F0C8620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B48-DE43-4723-B0CF-02EF479A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C4C-F244-4907-9B7B-4B0EDF47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A2D-28D1-46E4-B9E3-B8B61EE6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F1A-E893-4DB6-9C71-2FA04D84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CC9-B07D-45F5-B996-DDC18203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CBC-45D8-44DF-B674-3F3E37D9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218-3E58-4AA4-BC4E-109CC9FC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7E6-56CC-40BC-932D-A9D541FF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8CCD-2C30-4A7A-91D9-A856991B5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24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6B8-71D7-42E7-8F67-3C8A9952A2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choose k and 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k large but s.t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/k large but s.t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t/k * B(S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over:                        t/k * B(S) + k-t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t/k * B(S) &gt;&gt; k-t:     t/k = M/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B75-3020-499E-8367-D2D3349CE1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partitioned hash join:                    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join saves 2 I/Os for a t/k fraction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join saves   2t/k(B(R) + B(S))  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(3-2t/k)(B(R) + B(S)) =     (3-2M/B(S))(B(R) + B(S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10F-C5CB-45C8-B867-F1F2FD2D93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at is the real advantage of the hybrid algorith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B62-8EE3-4490-AD41-1D72F3D687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139840" y="3965760"/>
            <a:ext cx="4112280" cy="459720"/>
            <a:chOff x="2139840" y="3965760"/>
            <a:chExt cx="4112280" cy="459720"/>
          </a:xfrm>
        </p:grpSpPr>
        <p:sp>
          <p:nvSpPr>
            <p:cNvPr id="244" name=""/>
            <p:cNvSpPr/>
            <p:nvPr/>
          </p:nvSpPr>
          <p:spPr>
            <a:xfrm>
              <a:off x="213984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4392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326-0020-4359-8952-F3F6F85978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B12-9F7D-4BA9-B84D-5DBE428269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scan (assuming R is cluster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2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: don’t build unclustered indexes when V(R,a) is smal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2320" y="152388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4812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37C-F151-4198-8671-F2AF470034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735-8D7D-4F54-8931-B9676424F0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zig-zag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896-660D-4EDF-92EE-4EF93ADFE9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3AF-EFD0-4858-9897-F43FB6114C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55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65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5092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7352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5092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092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86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4832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95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95C-8E1E-4BC2-8244-B721830075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615-538D-496B-8CD4-864640CEF8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518-341C-4ED7-9934-2B47E49150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A7B-2E17-47F5-8F9C-A1EA3D404D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124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1820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147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168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433680" y="328680"/>
            <a:ext cx="5726880" cy="2971800"/>
            <a:chOff x="3433680" y="328680"/>
            <a:chExt cx="5726880" cy="2971800"/>
          </a:xfrm>
        </p:grpSpPr>
        <p:sp>
          <p:nvSpPr>
            <p:cNvPr id="177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187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08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4176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217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97B-98E1-428F-8D08-C03B46F111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D07-4D3C-40E2-BC32-55D45795BC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bucke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…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y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-t bucke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 buckets join immediately with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k-t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t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A80-0AE3-44C9-9E56-DF38F1C999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24T04:56:21Z</dcterms:modified>
  <cp:revision>345</cp:revision>
  <dc:subject/>
  <dc:title>Lecture 09:</dc:title>
</cp:coreProperties>
</file>