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66CF75-BE81-4DAD-B13C-876FB0206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A8B341-AEAA-472E-81DE-6313B67B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B12-CDFE-499E-AE7C-143BDBEF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C7-FEFB-44AC-A989-DCFA26B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562-6BD6-4BF1-BF77-A678565A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FB7-31BB-43E6-B572-CFBD0E2B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AD9-17ED-4F21-B531-32873CB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BEC-85DA-497A-887D-1B076B0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798-F180-4A5D-AA3F-D4ED577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351-4AE7-412A-B109-9AB2993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9FE-E9AA-4B14-9DCB-A2ECBB9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105-36D1-453D-9163-E11D91C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9AA-213E-4771-B45F-5E761CF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221-A98F-4303-A4F9-0AD6D82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13CF-073E-4097-857A-BBC60E8B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704-B062-487A-96E3-F89D88526B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hoose k and 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k large but s.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/k large but s.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/k * B(S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:                        t/k * B(S) + k-t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/k * B(S) &gt;&gt; k-t:     t/k = M/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709-0865-4979-8F22-79D312B118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partitioned hash join:                    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2 I/Os for a t/k fraction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  2t/k(B(R) + B(S))  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(3-2t/k)(B(R) + B(S)) =     (3-2M/B(S))(B(R) + B(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4BB-3069-4325-A08B-74843FF367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202-CBBD-4CFC-BA7D-0BDAD07654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9840" y="3965760"/>
            <a:ext cx="4112280" cy="459720"/>
            <a:chOff x="2139840" y="3965760"/>
            <a:chExt cx="4112280" cy="459720"/>
          </a:xfrm>
        </p:grpSpPr>
        <p:sp>
          <p:nvSpPr>
            <p:cNvPr id="244" name=""/>
            <p:cNvSpPr/>
            <p:nvPr/>
          </p:nvSpPr>
          <p:spPr>
            <a:xfrm>
              <a:off x="213984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392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7C8-F6E1-4CB9-8F94-7313CC99FE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91B-5B98-4759-AB32-0E7724B9B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CB7-E459-4C3D-8B80-CBBC96BAE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36E-7BB1-4158-8C0D-83F7F03273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9C-8CC1-453C-B343-A4893C757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79F-25CF-4856-9654-A46C44E32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832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C2B-CC68-485B-82F8-68105ED65A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36C-EE21-45A4-A6E0-9BFEF9908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9D3-D5A4-46D3-BC1A-F9B13E2E4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218-ECB3-43F4-AE22-E7D754E6F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17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176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1A9-8F67-4FA2-83E0-C7C6D9E588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0A3-4179-4FA7-845A-57200C7950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 buckets join immediately with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k-t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t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D38-5598-4E0D-A30C-B5284BA8D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24T04:56:21Z</dcterms:modified>
  <cp:revision>345</cp:revision>
  <dc:subject/>
  <dc:title>Lecture 09:</dc:title>
</cp:coreProperties>
</file>