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2BC1CBA-DF92-48F6-9A85-63CD3DCC2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3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DD3B-1592-427C-9B79-853384E05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46D3-D413-424F-8BD1-57D99AF2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EB53-3BE7-49ED-9689-1E80DD06F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90C3-D858-4889-AFEB-903DBD125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E12E-22BE-46B3-A3F8-85601881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DDBA-61DA-47F4-B95F-72DCC89F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A9F5-84A5-4A32-9C7F-A176D0D0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6537-1B63-4AB4-9777-E2DF8CF2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4E31-3C31-4B8C-8A82-6AB4E63D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A847-633D-4FBA-9E88-80AB5AC8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672E-1067-49CB-B0B6-C588831B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AEB2-689E-4126-9C9E-3A255D93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AA56-2320-4A7B-94E8-0327F3532C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3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Execu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November 22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2BBB-D2D6-46BE-987F-58E870F5CB5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database systems the data is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sk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t in main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n operation = total number of I/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(R) = number of blocks for relation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R) = number of tuples in relation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(R, a) = number of distinct values of attribut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43F4-6E13-4568-BA85-B6F2419E20F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uste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able 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s consists only of records from this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(R) / block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cluste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able 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records are placed on blocks with other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R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cluste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B(R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is a key, V(R,a) = T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is not a key, V(R,a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F09F-55A7-4971-B735-1842CF9A6D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of an operation =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disk I/Os needed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the oper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the res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of writing the result to disk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t includ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the following sl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9A22-FD53-4E26-9951-B244010DF5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nning a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ed rel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sc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 may be unsorted:  B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 needs to be sorted:    3B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 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orted: B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rted: B(R) or 3B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clustered 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sorted: 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ed: T(R) + 2B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08F9-40BF-4497-8458-B38DFCB614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Pass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, projec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uple-at-a-ti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99600" y="4499280"/>
            <a:ext cx="1648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62480" y="4499280"/>
            <a:ext cx="1851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05320" y="4343400"/>
            <a:ext cx="1143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4724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4724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4875-A628-44A8-ADD5-2BAD355032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pass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join: 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n S, build buckets in ma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scan R and j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 + 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S) &lt;=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B877-611B-4053-AA9B-85AD566156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pass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keep tuples 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new tuple arrives, need to compare it with previously seen tu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lanced search tree, or hash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) &lt;=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25EE-5582-4B8B-825E-A813E2CA149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(name, department, quant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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department, sum(quantit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roduct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(department, su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: how do you compute it in main memory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E39B-709A-4DE3-9E74-05D157EE8A9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pass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department, sum(quantit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store all departments 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store the sum(quantity) for each depar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lanced search tree or hash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number of departments fits 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66F4-09C3-4EB6-94F2-7088335538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pass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operations: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,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∪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 R –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ption: min(B(R), B(S)) &lt;=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n one table first, then the next, eliminate duplic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: B(R)+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E637-05C9-492E-9650-0D7D0342FB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execution: 15.1 – 15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6329-E540-46AE-B6A1-C0519F48DA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64080" y="1676520"/>
            <a:ext cx="3990600" cy="484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mptyHashTabl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scan R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x in R d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insert(H,  x 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scan S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y in S d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_____________________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collect result */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z in H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(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5120" y="1676520"/>
            <a:ext cx="268668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w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in each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ca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, 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∪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 R –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BB97-B80F-49A4-B756-678447C706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ple-based nested loop 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(R) B(S) when S is clust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(R) T(S) when S is unclust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0000" y="3048120"/>
            <a:ext cx="6475320" cy="175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r in R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s in 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 and s join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utput (r,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42D6-68F7-4BC7-8DE0-B3A0C60EEFB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be much more cl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es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how would you compute the join in the following cases ? What is the cos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= 1000, B(S) = 2, M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= 1000, B(S) = 3, M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= 1000, B(S) = 6, M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C258-CF4E-4357-971C-817C76313D7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-based Nested Loop J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8520" y="2743200"/>
            <a:ext cx="7598520" cy="29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(M-2) blocks bs of S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block br of R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s in 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r in br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 and s join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utput(r,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C8EA-6D2C-42CA-ABE0-848F8BE4127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59040" y="50306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457280" y="2979720"/>
            <a:ext cx="844560" cy="2026440"/>
            <a:chOff x="1457280" y="2979720"/>
            <a:chExt cx="844560" cy="2026440"/>
          </a:xfrm>
        </p:grpSpPr>
        <p:sp>
          <p:nvSpPr>
            <p:cNvPr id="183" name=""/>
            <p:cNvSpPr/>
            <p:nvPr/>
          </p:nvSpPr>
          <p:spPr>
            <a:xfrm>
              <a:off x="1470240" y="2979720"/>
              <a:ext cx="825480" cy="139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63760" y="3049200"/>
              <a:ext cx="0" cy="18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301840" y="3049200"/>
              <a:ext cx="0" cy="18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7280" y="4766040"/>
              <a:ext cx="838080" cy="24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6" y="10515"/>
                  </a:moveTo>
                  <a:arcTo wR="10800" hR="10800" stAng="-90790" swAng="1089079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6" y="10515"/>
                  </a:moveTo>
                  <a:arcTo wR="10800" hR="10800" stAng="-90790" swAng="1089079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2536920" y="2827440"/>
            <a:ext cx="3416040" cy="219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98480" y="3284640"/>
            <a:ext cx="292320" cy="291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98480" y="3741840"/>
            <a:ext cx="292320" cy="29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98480" y="4503600"/>
            <a:ext cx="292320" cy="292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5680" y="3935520"/>
            <a:ext cx="742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46400" y="3360600"/>
            <a:ext cx="219708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22720" y="34369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79920" y="34369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6600" y="3247920"/>
            <a:ext cx="742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22920" y="34369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46400" y="43513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051520" y="43513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01840" y="3583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01840" y="44974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49960" y="449748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69520" y="2625840"/>
            <a:ext cx="800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R &amp;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19840" y="2819520"/>
            <a:ext cx="2331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h table for block of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M-2 pag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69040" y="4651200"/>
            <a:ext cx="1765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put buffer for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4520" y="4648320"/>
            <a:ext cx="140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16240" y="3811680"/>
            <a:ext cx="306360" cy="534960"/>
          </a:xfrm>
          <a:custGeom>
            <a:avLst/>
            <a:gdLst/>
            <a:ahLst/>
            <a:rect l="l" t="t" r="r" b="b"/>
            <a:pathLst>
              <a:path w="193" h="337">
                <a:moveTo>
                  <a:pt x="48" y="336"/>
                </a:moveTo>
                <a:lnTo>
                  <a:pt x="144" y="144"/>
                </a:lnTo>
                <a:lnTo>
                  <a:pt x="0" y="192"/>
                </a:lnTo>
                <a:lnTo>
                  <a:pt x="2" y="166"/>
                </a:lnTo>
                <a:lnTo>
                  <a:pt x="19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334200" y="2979720"/>
            <a:ext cx="887040" cy="2026440"/>
            <a:chOff x="6334200" y="2979720"/>
            <a:chExt cx="887040" cy="2026440"/>
          </a:xfrm>
        </p:grpSpPr>
        <p:grpSp>
          <p:nvGrpSpPr>
            <p:cNvPr id="208" name=""/>
            <p:cNvGrpSpPr/>
            <p:nvPr/>
          </p:nvGrpSpPr>
          <p:grpSpPr>
            <a:xfrm>
              <a:off x="6334200" y="2979720"/>
              <a:ext cx="844560" cy="2026440"/>
              <a:chOff x="6334200" y="2979720"/>
              <a:chExt cx="844560" cy="2026440"/>
            </a:xfrm>
          </p:grpSpPr>
          <p:sp>
            <p:nvSpPr>
              <p:cNvPr id="209" name=""/>
              <p:cNvSpPr/>
              <p:nvPr/>
            </p:nvSpPr>
            <p:spPr>
              <a:xfrm>
                <a:off x="6346800" y="2979720"/>
                <a:ext cx="825480" cy="139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340680" y="3049200"/>
                <a:ext cx="0" cy="182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178760" y="3049200"/>
                <a:ext cx="0" cy="182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334200" y="4766040"/>
                <a:ext cx="837720" cy="240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15"/>
                    </a:moveTo>
                    <a:arcTo wR="10800" hR="10800" stAng="-90790" swAng="108907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15"/>
                    </a:moveTo>
                    <a:arcTo wR="10800" hR="10800" stAng="-90790" swAng="1089079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6651720" y="3284280"/>
              <a:ext cx="291960" cy="291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51720" y="3741480"/>
              <a:ext cx="291960" cy="291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651720" y="4503600"/>
              <a:ext cx="291960" cy="2916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78560" y="3933720"/>
              <a:ext cx="742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6020640" y="2624040"/>
            <a:ext cx="1434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Join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B139-0086-41F0-B04F-0D4FC737C1F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-based Nested Loop J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S once: cost B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er loop runs B(S)/(M-2) times, and each time need to read R: costs B(S)B(R)/(M-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cost:  B(S)  +  B(S)B(R)/(M-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ce: it is better to iterate over the smaller relation f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:  R=outer relation, S=inner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0861-0B93-4464-A8A6-A875BCAE419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 Operators in the Bag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on, intersection, dif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81480" y="1981080"/>
            <a:ext cx="1828800" cy="2286000"/>
          </a:xfrm>
          <a:custGeom>
            <a:avLst/>
            <a:gdLst>
              <a:gd name="textAreaLeft" fmla="*/ 0 w 1828800"/>
              <a:gd name="textAreaRight" fmla="*/ 660240 w 1828800"/>
              <a:gd name="textAreaTop" fmla="*/ 47880 h 2286000"/>
              <a:gd name="textAreaBottom" fmla="*/ 223812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28"/>
                  <a:pt x="10800" y="1455"/>
                </a:cubicBezTo>
                <a:lnTo>
                  <a:pt x="10800" y="9345"/>
                </a:lnTo>
                <a:cubicBezTo>
                  <a:pt x="10800" y="10073"/>
                  <a:pt x="16200" y="10800"/>
                  <a:pt x="21600" y="10800"/>
                </a:cubicBezTo>
                <a:cubicBezTo>
                  <a:pt x="16200" y="10800"/>
                  <a:pt x="10800" y="11528"/>
                  <a:pt x="10800" y="12255"/>
                </a:cubicBezTo>
                <a:lnTo>
                  <a:pt x="10800" y="20145"/>
                </a:lnTo>
                <a:cubicBezTo>
                  <a:pt x="10800" y="2087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ebr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(on ba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7B43-EA58-455F-B665-DC8C399340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chitecture of a Database Eng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13320" y="2208960"/>
            <a:ext cx="1730160" cy="50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76640" y="3066480"/>
            <a:ext cx="2604960" cy="50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Logical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5520" y="3923640"/>
            <a:ext cx="2706840" cy="50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Physical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25320" y="4780800"/>
            <a:ext cx="2306160" cy="50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98960" y="5638680"/>
            <a:ext cx="762120" cy="914400"/>
          </a:xfrm>
          <a:prstGeom prst="can">
            <a:avLst>
              <a:gd name="adj" fmla="val 3593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56" idx="2"/>
            <a:endCxn id="57" idx="0"/>
          </p:cNvCxnSpPr>
          <p:nvPr/>
        </p:nvCxnSpPr>
        <p:spPr>
          <a:xfrm>
            <a:off x="4478400" y="2717280"/>
            <a:ext cx="2160" cy="35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7" idx="2"/>
            <a:endCxn id="58" idx="0"/>
          </p:cNvCxnSpPr>
          <p:nvPr/>
        </p:nvCxnSpPr>
        <p:spPr>
          <a:xfrm>
            <a:off x="4479480" y="3575160"/>
            <a:ext cx="108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8" idx="2"/>
            <a:endCxn id="59" idx="0"/>
          </p:cNvCxnSpPr>
          <p:nvPr/>
        </p:nvCxnSpPr>
        <p:spPr>
          <a:xfrm flipH="1">
            <a:off x="4478040" y="4432320"/>
            <a:ext cx="216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9" idx="2"/>
            <a:endCxn id="60" idx="1"/>
          </p:cNvCxnSpPr>
          <p:nvPr/>
        </p:nvCxnSpPr>
        <p:spPr>
          <a:xfrm>
            <a:off x="4478400" y="5289480"/>
            <a:ext cx="216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3716640" y="1447920"/>
            <a:ext cx="15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65" idx="2"/>
            <a:endCxn id="56" idx="0"/>
          </p:cNvCxnSpPr>
          <p:nvPr/>
        </p:nvCxnSpPr>
        <p:spPr>
          <a:xfrm flipH="1">
            <a:off x="4478040" y="1905120"/>
            <a:ext cx="216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2666880" y="2971800"/>
            <a:ext cx="533520" cy="1523880"/>
          </a:xfrm>
          <a:custGeom>
            <a:avLst/>
            <a:gdLst>
              <a:gd name="textAreaLeft" fmla="*/ 340920 w 533520"/>
              <a:gd name="textAreaRight" fmla="*/ 533880 w 5335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74520" y="3241800"/>
            <a:ext cx="172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127640" y="2725200"/>
            <a:ext cx="1582200" cy="1172520"/>
          </a:xfrm>
          <a:prstGeom prst="wedgeEllipseCallout">
            <a:avLst>
              <a:gd name="adj1" fmla="val -157912"/>
              <a:gd name="adj2" fmla="val 368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57800" y="4096800"/>
            <a:ext cx="1726560" cy="1172520"/>
          </a:xfrm>
          <a:prstGeom prst="wedgeEllipseCallout">
            <a:avLst>
              <a:gd name="adj1" fmla="val -157064"/>
              <a:gd name="adj2" fmla="val -58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7886-439D-4EFA-9397-E997E80877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 Query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80280" y="2251080"/>
            <a:ext cx="356256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ty,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m(price)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07560" y="5486400"/>
            <a:ext cx="32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es(product, city,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952880" y="4519440"/>
            <a:ext cx="32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ity, sum(price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→p, count(*) →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71240" y="3452760"/>
            <a:ext cx="105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85560" y="2438280"/>
            <a:ext cx="100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ity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09588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095880" y="3962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6095880" y="2895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92880" y="403848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(city,p,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292880" y="304812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2(city,p,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92880" y="190512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3(city,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18440" y="6236280"/>
            <a:ext cx="39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, T2, T3  = temporary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26BC-84EF-4E97-A737-9670C1CB97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 Query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5080" y="1295280"/>
            <a:ext cx="3734640" cy="179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S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Purchase P, Person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P.buyer=Q.name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.city=‘seattle’ AN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.phone &gt; ‘5430000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78400" y="2797200"/>
            <a:ext cx="1800" cy="17316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65880" y="2797200"/>
            <a:ext cx="1440" cy="17316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7000" y="2781360"/>
            <a:ext cx="174960" cy="1440"/>
          </a:xfrm>
          <a:custGeom>
            <a:avLst/>
            <a:gdLst/>
            <a:ahLst/>
            <a:rect l="l" t="t" r="r" b="b"/>
            <a:pathLst>
              <a:path w="110" h="1">
                <a:moveTo>
                  <a:pt x="0" y="0"/>
                </a:moveTo>
                <a:lnTo>
                  <a:pt x="109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495760" y="4794120"/>
            <a:ext cx="349200" cy="123840"/>
            <a:chOff x="5495760" y="4794120"/>
            <a:chExt cx="349200" cy="123840"/>
          </a:xfrm>
        </p:grpSpPr>
        <p:sp>
          <p:nvSpPr>
            <p:cNvPr id="90" name=""/>
            <p:cNvSpPr/>
            <p:nvPr/>
          </p:nvSpPr>
          <p:spPr>
            <a:xfrm>
              <a:off x="5495760" y="4794120"/>
              <a:ext cx="1440" cy="12384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43520" y="4794120"/>
              <a:ext cx="1440" cy="12384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95760" y="4794120"/>
              <a:ext cx="349200" cy="123840"/>
            </a:xfrm>
            <a:custGeom>
              <a:avLst/>
              <a:gdLst/>
              <a:ahLst/>
              <a:rect l="l" t="t" r="r" b="b"/>
              <a:pathLst>
                <a:path w="220" h="78">
                  <a:moveTo>
                    <a:pt x="0" y="0"/>
                  </a:moveTo>
                  <a:lnTo>
                    <a:pt x="219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495760" y="4794120"/>
              <a:ext cx="349200" cy="123840"/>
            </a:xfrm>
            <a:custGeom>
              <a:avLst/>
              <a:gdLst/>
              <a:ahLst/>
              <a:rect l="l" t="t" r="r" b="b"/>
              <a:pathLst>
                <a:path w="220" h="78">
                  <a:moveTo>
                    <a:pt x="0" y="77"/>
                  </a:moveTo>
                  <a:lnTo>
                    <a:pt x="219" y="0"/>
                  </a:lnTo>
                  <a:lnTo>
                    <a:pt x="0" y="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4900680" y="5305320"/>
            <a:ext cx="669960" cy="357120"/>
          </a:xfrm>
          <a:custGeom>
            <a:avLst/>
            <a:gdLst/>
            <a:ahLst/>
            <a:rect l="l" t="t" r="r" b="b"/>
            <a:pathLst>
              <a:path w="422" h="225">
                <a:moveTo>
                  <a:pt x="0" y="224"/>
                </a:moveTo>
                <a:lnTo>
                  <a:pt x="421" y="0"/>
                </a:lnTo>
                <a:lnTo>
                  <a:pt x="0" y="2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16520" y="5305320"/>
            <a:ext cx="684360" cy="357120"/>
          </a:xfrm>
          <a:custGeom>
            <a:avLst/>
            <a:gdLst/>
            <a:ahLst/>
            <a:rect l="l" t="t" r="r" b="b"/>
            <a:pathLst>
              <a:path w="431" h="225">
                <a:moveTo>
                  <a:pt x="0" y="0"/>
                </a:moveTo>
                <a:lnTo>
                  <a:pt x="430" y="22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72160" y="4081320"/>
            <a:ext cx="1440" cy="560520"/>
          </a:xfrm>
          <a:custGeom>
            <a:avLst/>
            <a:gdLst/>
            <a:ahLst/>
            <a:rect l="l" t="t" r="r" b="b"/>
            <a:pathLst>
              <a:path w="1" h="353">
                <a:moveTo>
                  <a:pt x="0" y="0"/>
                </a:moveTo>
                <a:lnTo>
                  <a:pt x="0" y="35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72160" y="3154320"/>
            <a:ext cx="1440" cy="512640"/>
          </a:xfrm>
          <a:custGeom>
            <a:avLst/>
            <a:gdLst/>
            <a:ahLst/>
            <a:rect l="l" t="t" r="r" b="b"/>
            <a:pathLst>
              <a:path w="1" h="323">
                <a:moveTo>
                  <a:pt x="0" y="0"/>
                </a:moveTo>
                <a:lnTo>
                  <a:pt x="0" y="32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27520" y="3794040"/>
            <a:ext cx="87480" cy="158760"/>
          </a:xfrm>
          <a:custGeom>
            <a:avLst/>
            <a:gdLst/>
            <a:ahLst/>
            <a:rect l="l" t="t" r="r" b="b"/>
            <a:pathLst>
              <a:path w="55" h="100">
                <a:moveTo>
                  <a:pt x="0" y="99"/>
                </a:moveTo>
                <a:lnTo>
                  <a:pt x="54" y="0"/>
                </a:lnTo>
                <a:lnTo>
                  <a:pt x="0" y="9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13560" y="3807000"/>
            <a:ext cx="75960" cy="145800"/>
          </a:xfrm>
          <a:custGeom>
            <a:avLst/>
            <a:gdLst/>
            <a:ahLst/>
            <a:rect l="l" t="t" r="r" b="b"/>
            <a:pathLst>
              <a:path w="48" h="92">
                <a:moveTo>
                  <a:pt x="0" y="0"/>
                </a:moveTo>
                <a:lnTo>
                  <a:pt x="47" y="9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41240" y="5745240"/>
            <a:ext cx="11602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27560" y="5729400"/>
            <a:ext cx="9194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26400" y="4998960"/>
            <a:ext cx="1257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yer=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17200" y="3774960"/>
            <a:ext cx="1291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ty=‘seattle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13200" y="3774960"/>
            <a:ext cx="171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one&gt;’5430000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32040" y="2865600"/>
            <a:ext cx="66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9440" y="3714840"/>
            <a:ext cx="184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27760" y="2708280"/>
            <a:ext cx="184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8520" y="34704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A388-1802-43CC-8015-0E06DDDEB1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Query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5080" y="1295280"/>
            <a:ext cx="3734640" cy="179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S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Purchase P, Person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P.buyer=Q.name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.city=‘seattle’ AN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.phone &gt; ‘5430000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200400"/>
            <a:ext cx="3292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Query Pl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tion choice at every n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duling of oper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05080" y="1447920"/>
            <a:ext cx="5038920" cy="3802320"/>
            <a:chOff x="4105080" y="1447920"/>
            <a:chExt cx="5038920" cy="3802320"/>
          </a:xfrm>
        </p:grpSpPr>
        <p:sp>
          <p:nvSpPr>
            <p:cNvPr id="113" name=""/>
            <p:cNvSpPr/>
            <p:nvPr/>
          </p:nvSpPr>
          <p:spPr>
            <a:xfrm>
              <a:off x="5421240" y="1536840"/>
              <a:ext cx="1440" cy="17316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08360" y="1536840"/>
              <a:ext cx="1800" cy="17316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79840" y="1521000"/>
              <a:ext cx="174600" cy="1800"/>
            </a:xfrm>
            <a:custGeom>
              <a:avLst/>
              <a:gdLst/>
              <a:ahLst/>
              <a:rect l="l" t="t" r="r" b="b"/>
              <a:pathLst>
                <a:path w="110" h="1">
                  <a:moveTo>
                    <a:pt x="0" y="0"/>
                  </a:moveTo>
                  <a:lnTo>
                    <a:pt x="109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5538600" y="3534120"/>
              <a:ext cx="349200" cy="123840"/>
              <a:chOff x="5538600" y="3534120"/>
              <a:chExt cx="349200" cy="123840"/>
            </a:xfrm>
          </p:grpSpPr>
          <p:sp>
            <p:nvSpPr>
              <p:cNvPr id="117" name=""/>
              <p:cNvSpPr/>
              <p:nvPr/>
            </p:nvSpPr>
            <p:spPr>
              <a:xfrm>
                <a:off x="5538600" y="3534120"/>
                <a:ext cx="1440" cy="123840"/>
              </a:xfrm>
              <a:custGeom>
                <a:avLst/>
                <a:gdLst/>
                <a:ahLst/>
                <a:rect l="l" t="t" r="r" b="b"/>
                <a:pathLst>
                  <a:path w="1" h="78">
                    <a:moveTo>
                      <a:pt x="0" y="0"/>
                    </a:moveTo>
                    <a:lnTo>
                      <a:pt x="0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886360" y="3534120"/>
                <a:ext cx="1440" cy="123840"/>
              </a:xfrm>
              <a:custGeom>
                <a:avLst/>
                <a:gdLst/>
                <a:ahLst/>
                <a:rect l="l" t="t" r="r" b="b"/>
                <a:pathLst>
                  <a:path w="1" h="78">
                    <a:moveTo>
                      <a:pt x="0" y="0"/>
                    </a:moveTo>
                    <a:lnTo>
                      <a:pt x="0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538600" y="3534120"/>
                <a:ext cx="349200" cy="123840"/>
              </a:xfrm>
              <a:custGeom>
                <a:avLst/>
                <a:gdLst/>
                <a:ahLst/>
                <a:rect l="l" t="t" r="r" b="b"/>
                <a:pathLst>
                  <a:path w="220" h="78">
                    <a:moveTo>
                      <a:pt x="0" y="0"/>
                    </a:moveTo>
                    <a:lnTo>
                      <a:pt x="219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538600" y="3534120"/>
                <a:ext cx="349200" cy="123840"/>
              </a:xfrm>
              <a:custGeom>
                <a:avLst/>
                <a:gdLst/>
                <a:ahLst/>
                <a:rect l="l" t="t" r="r" b="b"/>
                <a:pathLst>
                  <a:path w="220" h="78">
                    <a:moveTo>
                      <a:pt x="0" y="77"/>
                    </a:moveTo>
                    <a:lnTo>
                      <a:pt x="219" y="0"/>
                    </a:lnTo>
                    <a:lnTo>
                      <a:pt x="0" y="7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4943160" y="4045320"/>
              <a:ext cx="669960" cy="357120"/>
            </a:xfrm>
            <a:custGeom>
              <a:avLst/>
              <a:gdLst/>
              <a:ahLst/>
              <a:rect l="l" t="t" r="r" b="b"/>
              <a:pathLst>
                <a:path w="422" h="225">
                  <a:moveTo>
                    <a:pt x="0" y="224"/>
                  </a:moveTo>
                  <a:lnTo>
                    <a:pt x="421" y="0"/>
                  </a:lnTo>
                  <a:lnTo>
                    <a:pt x="0" y="2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859360" y="4045320"/>
              <a:ext cx="684000" cy="357120"/>
            </a:xfrm>
            <a:custGeom>
              <a:avLst/>
              <a:gdLst/>
              <a:ahLst/>
              <a:rect l="l" t="t" r="r" b="b"/>
              <a:pathLst>
                <a:path w="431" h="225">
                  <a:moveTo>
                    <a:pt x="0" y="0"/>
                  </a:moveTo>
                  <a:lnTo>
                    <a:pt x="430" y="22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15000" y="2821320"/>
              <a:ext cx="1440" cy="560160"/>
            </a:xfrm>
            <a:custGeom>
              <a:avLst/>
              <a:gdLst/>
              <a:ahLst/>
              <a:rect l="l" t="t" r="r" b="b"/>
              <a:pathLst>
                <a:path w="1" h="353">
                  <a:moveTo>
                    <a:pt x="0" y="0"/>
                  </a:moveTo>
                  <a:lnTo>
                    <a:pt x="0" y="35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15000" y="1894320"/>
              <a:ext cx="1440" cy="512640"/>
            </a:xfrm>
            <a:custGeom>
              <a:avLst/>
              <a:gdLst/>
              <a:ahLst/>
              <a:rect l="l" t="t" r="r" b="b"/>
              <a:pathLst>
                <a:path w="1" h="323">
                  <a:moveTo>
                    <a:pt x="0" y="0"/>
                  </a:moveTo>
                  <a:lnTo>
                    <a:pt x="0" y="32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70360" y="2534040"/>
              <a:ext cx="87480" cy="158760"/>
            </a:xfrm>
            <a:custGeom>
              <a:avLst/>
              <a:gdLst/>
              <a:ahLst/>
              <a:rect l="l" t="t" r="r" b="b"/>
              <a:pathLst>
                <a:path w="55" h="100">
                  <a:moveTo>
                    <a:pt x="0" y="99"/>
                  </a:moveTo>
                  <a:lnTo>
                    <a:pt x="54" y="0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56040" y="2546640"/>
              <a:ext cx="76320" cy="14616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0" y="0"/>
                  </a:moveTo>
                  <a:lnTo>
                    <a:pt x="47" y="9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84080" y="4484880"/>
              <a:ext cx="116028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urchas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70400" y="4469040"/>
              <a:ext cx="9194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ers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69240" y="3738960"/>
              <a:ext cx="1257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uyer=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59680" y="2514960"/>
              <a:ext cx="1291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ity=‘seattle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56040" y="2514960"/>
              <a:ext cx="171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hone&gt;’5430000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74520" y="1605240"/>
              <a:ext cx="669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uy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615000" y="3738960"/>
              <a:ext cx="25290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(Simple Nested Loops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02280" y="2454480"/>
              <a:ext cx="18432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70600" y="1447920"/>
              <a:ext cx="18396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11360" y="221004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05080" y="488196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(Table s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10200" y="488196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(Index s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414600" y="5486400"/>
            <a:ext cx="48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ome operators are from rel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lgebra, and others (e.g., sc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re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7A89-9F5B-4998-91FD-F8C6A6E6D9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 operat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(pname, cname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 Company(cname, c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opose three physical operators for the join, assuming the tables are in main memo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CEC1-29FA-4759-8D0C-E180DAC7B7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(pname, cname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 Company(c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000000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000 compa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time do the following physical operators take if the data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main mem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ested loop 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im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ort and merge = merge-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im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Hash 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im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1A5A-53B7-4879-AF74-33A3FE07A7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4-11-22T01:01:09Z</dcterms:modified>
  <cp:revision>306</cp:revision>
  <dc:subject/>
  <dc:title>Lecture 09:</dc:title>
</cp:coreProperties>
</file>