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253669-7C65-4410-839A-7BBB4AE6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9D6-AEAE-460A-83B9-3EF531E2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DCB-F545-407C-854E-28290D82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9D2-F0F2-40BB-B9D9-8B24264A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AE9-6BFC-4941-BC45-BBFB42EE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FE3-93C5-4390-8A19-FAFF8DA3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F60-79B8-401E-9EAE-A460EE61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E9D-C7A8-42A5-A03B-FAE71664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27A-7854-4DCF-BAD6-0857D903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0CD-40C2-4641-B904-252D6BAC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BEF-B470-4F4B-99DD-0D1ACF98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2B4-705C-4EC3-922C-3488CD5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9D7-F4BB-443A-AD49-C036D048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9520-5C0E-4F3B-97B1-F0AA1642C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2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9FB-DC0A-46FD-ADFF-E660762A77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 systems the data i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F26-E5B2-407C-8917-2054E9C563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 /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13E-F7DF-4073-BB11-2DCB8024C0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following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578-50D9-41A7-8E6F-0695C853B1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may be unsorted: 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needs to be sorted:   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B(R) or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rted: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: T(R) +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452-771E-4C18-8603-C0E23FDDA0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316-E4BE-4678-9A3F-2ABC24F95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A0F-5878-425B-82A4-9F2A5EA5FE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CB4-60C0-468E-ABAD-BC6FD4F197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D90-D75A-4499-A877-E8C5961867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departmen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quantity) for each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department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43C-E16F-491F-BED2-837B5B9E47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872-6DFD-4C75-8928-C4A0834D4A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DA2-58EB-4D34-9DD4-220B797D15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x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5120" y="1676520"/>
            <a:ext cx="26866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n each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960-363A-48C4-9E3B-D93BC0014E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383-2A33-400D-B626-465447989C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D37-965A-43DD-81A5-6D473B8A4E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520" y="2743200"/>
            <a:ext cx="759852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CCC-EA0C-4E11-A5EF-6897C5A81A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83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568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660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69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334200" y="2979720"/>
            <a:ext cx="887040" cy="2026440"/>
            <a:chOff x="6334200" y="2979720"/>
            <a:chExt cx="887040" cy="2026440"/>
          </a:xfrm>
        </p:grpSpPr>
        <p:grpSp>
          <p:nvGrpSpPr>
            <p:cNvPr id="208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209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856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02064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12D-EF47-413D-8D64-6B0B3E80A7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AFC-5F8F-44D9-86C1-9BE407C249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Operators in the Bag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1981080"/>
            <a:ext cx="1828800" cy="2286000"/>
          </a:xfrm>
          <a:custGeom>
            <a:avLst/>
            <a:gdLst>
              <a:gd name="textAreaLeft" fmla="*/ 0 w 1828800"/>
              <a:gd name="textAreaRight" fmla="*/ 660240 w 1828800"/>
              <a:gd name="textAreaTop" fmla="*/ 47880 h 2286000"/>
              <a:gd name="textAreaBottom" fmla="*/ 223812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8"/>
                  <a:pt x="10800" y="1455"/>
                </a:cubicBezTo>
                <a:lnTo>
                  <a:pt x="10800" y="9345"/>
                </a:lnTo>
                <a:cubicBezTo>
                  <a:pt x="10800" y="10073"/>
                  <a:pt x="16200" y="10800"/>
                  <a:pt x="21600" y="10800"/>
                </a:cubicBezTo>
                <a:cubicBezTo>
                  <a:pt x="16200" y="10800"/>
                  <a:pt x="10800" y="11528"/>
                  <a:pt x="10800" y="12255"/>
                </a:cubicBezTo>
                <a:lnTo>
                  <a:pt x="10800" y="20145"/>
                </a:lnTo>
                <a:cubicBezTo>
                  <a:pt x="10800" y="2087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(on b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2CC-2401-4850-8EFA-EDEB18AA04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57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7" idx="2"/>
            <a:endCxn id="58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8" idx="2"/>
            <a:endCxn id="59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9" idx="2"/>
            <a:endCxn id="60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5" idx="2"/>
            <a:endCxn id="56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A3A-0E6D-4915-8EA5-DDECE2A97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4E2-23F4-422A-88FE-FF44718E40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90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494-BB06-4BA8-B14E-FF261E1E9B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05080" y="1447920"/>
            <a:ext cx="5038920" cy="3802320"/>
            <a:chOff x="4105080" y="1447920"/>
            <a:chExt cx="5038920" cy="3802320"/>
          </a:xfrm>
        </p:grpSpPr>
        <p:sp>
          <p:nvSpPr>
            <p:cNvPr id="113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117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040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6924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968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5604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7452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150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14600" y="54864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BFA-B3D5-49DC-9225-83CF9A3ECE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256-1094-447D-BCE2-F13F59298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992-B2B9-4657-ACA4-FE80C25295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22T01:01:09Z</dcterms:modified>
  <cp:revision>306</cp:revision>
  <dc:subject/>
  <dc:title>Lecture 09:</dc:title>
</cp:coreProperties>
</file>