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2E2-22DA-40E0-8477-E3D6711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B52-B687-4705-841C-7E6D378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F3F-B5CB-4A57-99E7-8A47AD68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AC6-2398-4E22-8A5B-6BA3FF7D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A1A-2C92-442A-B2B8-A3180872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ADE-FE87-48F9-A800-A3E740E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132-CFAB-400D-87F4-5FD930A7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EB7-E4C2-420C-9A11-9699B0B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578-EAA7-4C98-8A20-0A6C1BA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BD6-D854-4A1A-B258-D391809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406-32D8-4FEE-8D31-E3AD423A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1D2-48B6-4F57-93F8-63A3570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B590-126D-4240-9C27-933E222E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9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0120" y="3276720"/>
            <a:ext cx="29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42520" y="4191120"/>
            <a:ext cx="7674480" cy="782280"/>
            <a:chOff x="542520" y="4191120"/>
            <a:chExt cx="7674480" cy="782280"/>
          </a:xfrm>
        </p:grpSpPr>
        <p:sp>
          <p:nvSpPr>
            <p:cNvPr id="172" name=""/>
            <p:cNvSpPr/>
            <p:nvPr/>
          </p:nvSpPr>
          <p:spPr>
            <a:xfrm>
              <a:off x="54252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1848240" y="4247640"/>
              <a:ext cx="193680" cy="38520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1" idx="6"/>
            <a:endCxn id="192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8760" y="4884840"/>
            <a:ext cx="69469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6640" y="5861160"/>
            <a:ext cx="26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57640" y="6216480"/>
            <a:ext cx="373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2352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9880" y="3581280"/>
            <a:ext cx="1705680" cy="461160"/>
            <a:chOff x="3809880" y="3581280"/>
            <a:chExt cx="1705680" cy="461160"/>
          </a:xfrm>
        </p:grpSpPr>
        <p:sp>
          <p:nvSpPr>
            <p:cNvPr id="210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328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13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16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057400" y="2590920"/>
          <a:ext cx="4876920" cy="18255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0168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7" idx="3"/>
            <a:endCxn id="48" idx="1"/>
          </p:cNvCxnSpPr>
          <p:nvPr/>
        </p:nvCxnSpPr>
        <p:spPr>
          <a:xfrm>
            <a:off x="2604960" y="5017680"/>
            <a:ext cx="15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8" idx="3"/>
            <a:endCxn id="49" idx="1"/>
          </p:cNvCxnSpPr>
          <p:nvPr/>
        </p:nvCxnSpPr>
        <p:spPr>
          <a:xfrm>
            <a:off x="5357880" y="501768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0768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560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91840" y="3505320"/>
            <a:ext cx="294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Dan Suciu</cp:lastModifiedBy>
  <dcterms:modified xsi:type="dcterms:W3CDTF">2004-11-19T05:08:52Z</dcterms:modified>
  <cp:revision>15</cp:revision>
  <dc:subject/>
  <dc:title>Relational Algebra</dc:title>
</cp:coreProperties>
</file>