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12C-AE6F-4D3B-AFEA-F9922150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DC4-6389-43AD-BA87-E019540B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C26-C0AB-4403-A6E8-B16BBA14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19B-AE53-4A65-8A5A-225AB060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596-3BD6-40B5-A116-50529D1F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483-9712-49F3-9201-A648A1BF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DFC-6B5C-4A62-B98F-E24606FC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337-5666-4E33-B558-357DBDA6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44E-4BBD-40F7-9ACC-88738BE6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923-CACF-456E-9FE6-DC793F10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A62-F1F2-4B1A-9C6E-5387EE7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44F-8CF7-4FE9-8AF1-FEBC89F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00B0-DDB1-48ED-9200-22368A919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9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0120" y="3276720"/>
            <a:ext cx="29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6316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840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6352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6388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696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29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624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2400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8552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44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364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8552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852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42520" y="4191120"/>
            <a:ext cx="7674480" cy="782280"/>
            <a:chOff x="542520" y="4191120"/>
            <a:chExt cx="7674480" cy="782280"/>
          </a:xfrm>
        </p:grpSpPr>
        <p:sp>
          <p:nvSpPr>
            <p:cNvPr id="172" name=""/>
            <p:cNvSpPr/>
            <p:nvPr/>
          </p:nvSpPr>
          <p:spPr>
            <a:xfrm>
              <a:off x="54252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1848240" y="4247640"/>
              <a:ext cx="193680" cy="38520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1" idx="6"/>
            <a:endCxn id="192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8760" y="4884840"/>
            <a:ext cx="69469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6640" y="5861160"/>
            <a:ext cx="26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57640" y="6216480"/>
            <a:ext cx="373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9708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1588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2352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9880" y="3581280"/>
            <a:ext cx="1705680" cy="461160"/>
            <a:chOff x="3809880" y="3581280"/>
            <a:chExt cx="1705680" cy="461160"/>
          </a:xfrm>
        </p:grpSpPr>
        <p:sp>
          <p:nvSpPr>
            <p:cNvPr id="210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328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13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52680" y="2057400"/>
            <a:ext cx="1729080" cy="461160"/>
            <a:chOff x="3352680" y="2057400"/>
            <a:chExt cx="1729080" cy="461160"/>
          </a:xfrm>
        </p:grpSpPr>
        <p:sp>
          <p:nvSpPr>
            <p:cNvPr id="216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00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528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057400" y="2590920"/>
          <a:ext cx="4876920" cy="182556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660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0168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7" idx="3"/>
            <a:endCxn id="48" idx="1"/>
          </p:cNvCxnSpPr>
          <p:nvPr/>
        </p:nvCxnSpPr>
        <p:spPr>
          <a:xfrm>
            <a:off x="2604960" y="5017680"/>
            <a:ext cx="15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8" idx="3"/>
            <a:endCxn id="49" idx="1"/>
          </p:cNvCxnSpPr>
          <p:nvPr/>
        </p:nvCxnSpPr>
        <p:spPr>
          <a:xfrm>
            <a:off x="5357880" y="501768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0768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6560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91840" y="3505320"/>
            <a:ext cx="294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28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6:52Z</dcterms:created>
  <dc:creator>Dan Suciu</dc:creator>
  <dc:description/>
  <dc:language>en-US</dc:language>
  <cp:lastModifiedBy>Dan Suciu</cp:lastModifiedBy>
  <dcterms:modified xsi:type="dcterms:W3CDTF">2004-11-19T05:08:52Z</dcterms:modified>
  <cp:revision>15</cp:revision>
  <dc:subject/>
  <dc:title>Relational Algebra</dc:title>
</cp:coreProperties>
</file>