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037-BC4C-4EE7-BA14-D9F463A5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A2B-1FAF-41AC-BFB6-F1BAAB8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31E-32D3-4B26-A651-378BED4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433-E112-46BD-A488-02CD1B58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637-9162-4437-BCA6-30A031D4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9BA-ADD8-422A-BFCA-3E4C8F5E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ACF-3B75-4114-BB02-B70C1FF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BD9-954D-4DD5-921F-38C1F60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CC8-35D0-4D05-8D41-52806683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7C5-3DC5-4C79-B1FB-BBF41AC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B62-8BFF-477D-83F0-A72AF53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F80-CF13-4564-BB75-35AF4CA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C2E-4022-464D-B2BD-B08848FA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759-B6A5-4325-B4CB-6EFEAFA9F4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38E-38B3-4A37-8AEF-8F979CD06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4E4-4396-4152-8F8C-827AC96A07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FB8-8184-4F2C-96CE-5A0BED4A7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C2C-B73A-4035-A41E-FC45DF5EB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B7D-F63A-4F4F-8252-00AE4DD43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4D7-C302-4C9C-BA3B-77ABCE0655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C70-8B36-44FF-9BF0-4950632FC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00F-3447-4B02-A868-28977A470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BF7-E34D-4DAB-A2E2-B53E200FFF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D15-DB90-4412-9570-A750C2C10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indexes (far less than B+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query processing (a lot 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F24-8CE7-41BB-8157-87D24E7A0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C02-D8E5-4EB4-85B4-25F097B41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F2D-7332-45B9-87EF-19CFFCE36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F12-A4D5-4BDA-84C7-89641A3E8E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021-028C-44C7-ABA5-13B848AB7F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762-62A4-4B16-996B-EC1BFB435A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B+ tree has depth 4 and degree d=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records does the relation have (maximum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ndex blocks do we need to read and/or write du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ey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03B-8E8D-4C9D-862B-2D3B828531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7F9-F237-4A79-9FD8-105A05E5EC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2E9-CE9F-4848-81EE-24489094C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412-16A1-4F24-ADC0-08951CF8EC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1CA-873D-45A2-8EC9-DBE1EA346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F53-40D7-46B8-963D-ADE76AE3C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C03-F23E-42AF-B0B3-66288B6FF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7T03:46:52Z</dcterms:modified>
  <cp:revision>260</cp:revision>
  <dc:subject/>
  <dc:title>Lecture 09:</dc:title>
</cp:coreProperties>
</file>