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E7B-29FF-4A7D-AE68-4F582D09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EFD-6F6F-4339-9D13-78372075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1FF-DB96-4A95-A05A-EE8D3605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63C-80B8-4391-AB24-284FB1DD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461-47AD-4C39-B730-04E3B353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5F6-C4DB-4B95-862E-F25C93A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BDC-40D3-4193-8DA8-59A0B5C7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45D-35CE-4DEF-9C5B-44A1E23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F8D-D924-4538-8A93-91F652F2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E5D-7FDD-4B9E-86DE-0D4EAE6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7AB-B783-4519-B705-93D7A9A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33B-2CF9-4537-8127-D05AC0C6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F7B-85A2-48F5-9E36-FD50D0A3D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7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DDF-3044-4EF2-8F55-783010CD71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9F1-A704-49EE-8E8D-186036820A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D07-4E94-498F-8063-FA932A510F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E53-0657-4E48-B591-D261103B3A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1FA-3324-4162-87FE-4CFF1CBDF2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A98-D865-48BD-A0DC-BCF1B7F2FF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FE8-B8EB-4B55-B45D-37BA9C5548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1B1-9059-4AAB-AE22-B21B54956B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buckets (blocks)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ntries in the hash table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E49-0EA4-40BF-B2B8-EA394320A8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EA7-B443-4211-AF30-1B7A7BC956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33C-93F7-4EB3-AE8F-4DBA741CE8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indexes (far less than B+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query processing (a lot 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E8E-F527-4BD6-8099-C680B1653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EDB-D103-4CDE-9136-C3C844D9C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C6B-5DBA-4F2D-9800-7E4780E9ED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A35-ABA0-402C-BA19-43B2CE02EB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53F-9EFC-401B-BE8C-EBC2256CD6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E15-E9D6-40A7-A59E-6BD640F46E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B+ tree has depth 4 and degree d=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records does the relation have (maximum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ndex blocks do we need to read and/or write du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ey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D5C-F3D6-41EF-BF1A-E1886697B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11A-1BBD-4540-94D3-D15615AC4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8320" y="5985000"/>
            <a:ext cx="2768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h(x) = x mo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C76-50F5-4F74-8457-8218C4E3D9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8D3-2399-47F7-A670-59B7019F5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D5F-EE2E-404A-B027-2D4304F85B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B55-E428-4348-A2EB-6045E6B2B6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B7B-667F-490C-9FEF-612010DE9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7T03:46:52Z</dcterms:modified>
  <cp:revision>260</cp:revision>
  <dc:subject/>
  <dc:title>Lecture 09:</dc:title>
</cp:coreProperties>
</file>