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5F04-5E02-4A83-A92C-113DE01FD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1006-1A27-4644-A0C4-5FD4D180A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66C0-AE28-4C92-AB9C-1FA9DC0C9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040C-8685-49E6-9027-D88F3E90E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813-B76D-4020-B6EE-3564155F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0D7-AD16-4884-AEF2-A0349A39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CDC-503E-4942-9F0D-DACABC02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3F2-4125-40F2-B781-F7D17731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CFF-A44C-41A4-AB48-CB0F267D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D98-F24C-4306-89F7-110A8752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66A-2A71-4E95-AEE9-71C78D61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725-660D-411C-8977-2A49C251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790-EC52-4BEC-BCDD-F4A09F9C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039-23C6-4BC3-B253-063CAD83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9E7-4CAC-462A-8D9C-65EC055B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959-2050-4E35-A27D-A9C17B3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9035-D047-498B-B063-0ECA2E03D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1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3FF-D625-4DF6-84FF-4BDF6A5231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05120" y="33526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905120" y="45720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419720" y="3276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419720" y="4038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19720" y="4876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419720" y="5715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 flipV="1">
            <a:off x="259092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733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962520"/>
            <a:ext cx="1828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19112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77F-CC4C-443A-8651-707D148D3F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index: pointer to lowest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18402"/>
              <a:gd name="adj2" fmla="val -320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2666880"/>
            <a:ext cx="1066680" cy="1143000"/>
          </a:xfrm>
          <a:prstGeom prst="wedgeRoundRectCallout">
            <a:avLst>
              <a:gd name="adj1" fmla="val -88986"/>
              <a:gd name="adj2" fmla="val 96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but need to search here t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7FA-D3F1-4138-8C8E-972A41A4CB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pointer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west new search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15 ? 35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05740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572000" y="28195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572000" y="4419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 flipV="1">
            <a:off x="2743200" y="281916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4320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4267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27259"/>
              <a:gd name="adj2" fmla="val -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4191120"/>
            <a:ext cx="1066680" cy="838080"/>
          </a:xfrm>
          <a:prstGeom prst="wedgeRoundRectCallout">
            <a:avLst>
              <a:gd name="adj1" fmla="val -88986"/>
              <a:gd name="adj2" fmla="val -122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ok to search fro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F74-6D26-445A-A2ED-43DBA02AA4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C8C-4FF2-455B-99DC-BB29F09377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913-305D-419D-A334-070A08F7BD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816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448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448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5988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D18-CC8F-4383-A447-3388E3EB6C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140-40AB-468E-AB04-93E78BF736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176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782-9A6E-4013-86ED-2024199383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6272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7E0-5D3F-4269-A874-5095CE5571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5D5-F9B3-426B-84C6-085DAEF1D4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A41-82BD-4B77-942B-973FB4990A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2388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94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39E-85F2-4A44-A2FD-189002EE73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7488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3F0-1128-42ED-A7AA-94574ED993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2B8-D32C-4470-9DAA-9FE00025AF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556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9BA-9EC3-4196-9D14-EDB76BE697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924-3548-41F1-9E10-FC613D4070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924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9AC-A837-4AA1-9EE0-8ED59B75D3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996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93D-DCBA-4963-8177-0C4151A765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88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D44-3C9F-41ED-9866-CA098A7C4D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ill cover VERY LITTLE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 Chapter 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Blocks = fixed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record = variabl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: how to group records into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08F-6E16-4F38-82E0-47240C5815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068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320-BC59-468D-B207-C587EDF160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6996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CE8-279A-4E0E-B76B-E01D12A91D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EF5-D1ED-40F9-BC78-E0D1FB5FA1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6996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808-B21C-4F22-B6D4-1F7BB52E50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8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9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0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140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CEB-DAD3-4B75-8456-3CAA749CC2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696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896-0262-4A7B-B43C-1ED7B5DFC5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6996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D6E-AA13-42B5-9191-229E030487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rd is always smaller than a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LOBs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 multiple records into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itially don’t fill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block bounderi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: better spac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: slow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617-3AB5-4F29-AB0C-AE8482B813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62C-A9A3-49C1-AB98-AB2D9A2543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= may reorder data according to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= cannot reord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= records close in the index are close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= records close in the index may be far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 = every key in the data appears in the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se = the index contains only som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0EB-8972-4B7E-880E-079A8AC81D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4F5-F18B-4AE9-97A1-5AFF84EF51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83B-1235-4E70-B8A7-D24E214E8F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4-11-15T06:53:12Z</dcterms:modified>
  <cp:revision>291</cp:revision>
  <dc:subject/>
  <dc:title>Lecture 09:</dc:title>
</cp:coreProperties>
</file>