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AC6E-6DD7-49CC-BD6E-B26AD008F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A5F0-0EDD-41B8-B566-129745F9A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127E-401C-4308-88FE-94D1BBCC7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08AB-6396-4AFC-B81C-ACD0B2893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014-C1FB-4BE4-B357-C2FC9BD3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0CC-7903-44D3-8FBB-685E00A9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359-9286-40F1-A7AF-6A46F9E3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CFF-3369-40CC-8BB5-8FA3FFF7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C99-1088-47BD-B4B6-CA7FE532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9EE-F685-4EA0-9A47-4F8977D5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970-365A-4CAB-9D91-BDC39CD9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CCA-D5DE-4ACE-A63F-F3B4A1FF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205-1CCE-4737-9788-C697EBF8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830-F5D8-4F04-91F4-DFF5E41E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D91-F053-402C-8579-62C55950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7A7-4FBF-4647-B10B-39B27C0A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1295-8974-472E-A1D2-D01804878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0: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1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5EE-4FC7-4130-837F-919BB59D90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 ind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05120" y="33526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905120" y="45720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419720" y="3276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419720" y="4038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419720" y="4876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419720" y="5715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 flipV="1">
            <a:off x="259092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3733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962520"/>
            <a:ext cx="18288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19112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486-412A-4316-A26F-CF4758781D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 index: pointer to lowest search key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57200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flipV="1">
            <a:off x="274320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038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267080"/>
            <a:ext cx="1828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18402"/>
              <a:gd name="adj2" fmla="val -320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2666880"/>
            <a:ext cx="1066680" cy="1143000"/>
          </a:xfrm>
          <a:prstGeom prst="wedgeRoundRectCallout">
            <a:avLst>
              <a:gd name="adj1" fmla="val -88986"/>
              <a:gd name="adj2" fmla="val 965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but need to search here t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3B7-67D7-423C-8C46-4E3AB0987E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pointer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west new search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15 ? 35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05740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572000" y="28195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572000" y="4419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 flipV="1">
            <a:off x="2743200" y="2819160"/>
            <a:ext cx="1828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743200" y="3581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4267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27259"/>
              <a:gd name="adj2" fmla="val -58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4191120"/>
            <a:ext cx="1066680" cy="838080"/>
          </a:xfrm>
          <a:prstGeom prst="wedgeRoundRectCallout">
            <a:avLst>
              <a:gd name="adj1" fmla="val -88986"/>
              <a:gd name="adj2" fmla="val -122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ok to search from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8572-430A-45D8-8072-93CE823A09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dex other attributes than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dense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343400" y="3429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343400" y="4191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343400" y="50292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343400" y="5867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38B-A7F2-4923-AACF-7B2B6E246E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indexes = usually 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indexes = usually 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B56-7EF1-4189-99B9-C1FE40A8F2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576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424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41280" y="3670200"/>
            <a:ext cx="40032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7156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00400" y="36702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2744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592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46080" y="258912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46080" y="16146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54360" y="16146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1000" y="15289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7520" y="156672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848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540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5400" y="298620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0024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476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4132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41320" y="298620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9864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392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53920" y="27748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06600" y="25700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88960" y="27734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33680" y="28479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0184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01840" y="2986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5916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7976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9720" y="277488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600" y="317016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1600" y="360828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3080" y="317016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80" y="3605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960" y="3170160"/>
            <a:ext cx="18900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960" y="3603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040" y="317016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6560" y="360360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22280" y="3170160"/>
            <a:ext cx="180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03200" y="360504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66920" y="3170160"/>
            <a:ext cx="4896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89240" y="360360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14440" y="317016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360216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60520" y="317016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2040" y="360216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79760" y="317016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81160" y="361152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73360" y="317016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19400" y="361332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4480" y="3170160"/>
            <a:ext cx="55908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05160" y="361476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2720" y="317016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61620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62360" y="161280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62360" y="368928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816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448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42000" y="369108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97760" y="3691080"/>
            <a:ext cx="34416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369108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12160" y="3691080"/>
            <a:ext cx="33948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66120" y="3691080"/>
            <a:ext cx="34596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215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787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97560" y="2522520"/>
            <a:ext cx="149076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97560" y="14763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82000" y="14763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91480" y="138420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01000" y="1425600"/>
            <a:ext cx="8244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39000" y="2803680"/>
            <a:ext cx="40464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42200" y="293040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42200" y="2954160"/>
            <a:ext cx="24120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1824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8196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33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33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23040" y="29304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1600" y="250668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1600" y="27273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81760" y="250668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67360" y="27255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6772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6756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675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025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10560" y="25066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920000" y="27273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78600" y="314964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35560" y="356868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4200" y="314964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4200" y="362412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97760" y="314964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99240" y="36338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97600" y="314964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97600" y="35733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1600" y="314964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61160" y="3605040"/>
            <a:ext cx="68400" cy="4320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78600" y="314964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78600" y="358920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99320" y="314964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507520" y="36082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99320" y="314964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99320" y="361620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24600" y="314964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89920" y="357516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26360" y="314964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26360" y="363384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29720" y="314964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01160" y="36226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10560" y="314964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810560" y="357192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89920" y="314964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72280" y="3619440"/>
            <a:ext cx="3672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4448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5988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ther attributes than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unsorted files (heap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luste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BC1-F03E-4145-84B0-41F4C9EE4D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  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 node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+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CB7-AD88-4600-A2C0-73D596161D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d =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&gt;= d and &lt;= 2d keys (except 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af has &gt;=d and &lt;= 2d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176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07B-F4EE-4E2A-A630-2DFF71ADC5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62720" y="1865160"/>
            <a:ext cx="1133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Find the key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55400" y="2581200"/>
            <a:ext cx="68184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88920" y="39574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2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79640" y="53290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3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D01-BD03-4B63-B09F-426360F16F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structures (13.1, 1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 (1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40E-7A7B-481F-A6B6-57DBA7E2C5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= 4096 b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6E0-BBE2-4C7C-AAB6-5BE84CA28C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2388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94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27F-1BEE-47CE-9986-7A1C8A9626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eaf, keep K3 too in righ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28600" y="4572000"/>
          <a:ext cx="2895480" cy="6858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411480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55308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5408280" y="365760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4952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8600" y="4038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74880" y="3672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114440" y="4191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F82-B69A-48D8-8862-6B51FCC091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A8F9-DC27-4B45-AFAA-03698C192C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556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864-19A5-4AB1-94A1-B40571E0B3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15E-BCB0-4E06-9823-55DCE40880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924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8FB-A652-4EBF-9037-566FFDA3C3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996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39F-E974-4672-B204-217D0CC2CE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888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6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1F9-2F15-4F51-81BE-B6F1478F6F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ill cover VERY LITTLE 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 Chapter 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 Blocks = fixed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record = variabl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: how to group records into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701-B6C3-48B8-899F-6C3B86CC59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068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0CE-6BD9-44F4-9FF0-3496B3579E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6996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0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216-0D65-49F1-BB72-6F676BDFA1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CFB-431B-4F75-AB81-5B935C90F1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6996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CB9-3A5B-469A-ABF4-A31B97D523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5B9-4BE0-4C59-B15D-F1EEC15A97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6960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28800" y="4267080"/>
            <a:ext cx="3352680" cy="1295640"/>
          </a:xfrm>
          <a:custGeom>
            <a:avLst/>
            <a:gdLst/>
            <a:ahLst/>
            <a:rect l="l" t="t" r="r" b="b"/>
            <a:pathLst>
              <a:path w="2112" h="816">
                <a:moveTo>
                  <a:pt x="17" y="114"/>
                </a:moveTo>
                <a:cubicBezTo>
                  <a:pt x="39" y="106"/>
                  <a:pt x="28" y="108"/>
                  <a:pt x="50" y="108"/>
                </a:cubicBezTo>
                <a:lnTo>
                  <a:pt x="720" y="0"/>
                </a:lnTo>
                <a:lnTo>
                  <a:pt x="1680" y="0"/>
                </a:lnTo>
                <a:lnTo>
                  <a:pt x="2112" y="144"/>
                </a:lnTo>
                <a:lnTo>
                  <a:pt x="2112" y="720"/>
                </a:lnTo>
                <a:lnTo>
                  <a:pt x="1728" y="816"/>
                </a:lnTo>
                <a:lnTo>
                  <a:pt x="624" y="768"/>
                </a:lnTo>
                <a:lnTo>
                  <a:pt x="48" y="720"/>
                </a:lnTo>
                <a:lnTo>
                  <a:pt x="0" y="384"/>
                </a:lnTo>
                <a:lnTo>
                  <a:pt x="17" y="1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80A-135B-43C9-A2C2-A1EA05D1AF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6996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003-5D85-4331-92F3-6161F40E7C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rd is always smaller than a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LOBs when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 multiple records into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nitially don’t fill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block bounderi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: better space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: slowe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F19-BD1D-451D-BBF6-65BE2EF375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arg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 by moder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mages, s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: attempt to cluster block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B = character large obj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only restricted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5AE-71F9-4BE1-B891-9472F9EB0C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/seco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= may reorder data according to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= cannot reorde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ed = records close in the index are close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ustered = records close in the index may be far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/s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e = every key in the data appears in the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rse = the index contains only some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 / Hash table /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FBE-A076-4851-B940-274F1CD0C2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: sequence of (key,pointer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96252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96252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96252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96252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A10-D7A8-4A1D-8F29-DD63D3A889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a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52480" y="3124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752480" y="43434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267080" y="3048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267080" y="38098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267080" y="46483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267080" y="5486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 flipV="1">
            <a:off x="2438280" y="3200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5053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373392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962520"/>
            <a:ext cx="1828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4495680"/>
            <a:ext cx="1752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EEF-5C5D-4E83-AFF0-8EC4916A51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15T06:53:12Z</dcterms:modified>
  <cp:revision>291</cp:revision>
  <dc:subject/>
  <dc:title>Lecture 09:</dc:title>
</cp:coreProperties>
</file>