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532C65-E0FF-4C5E-801D-A28D89E4F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stamp of U is given by WT(X) or by RT(X) respec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716-3A2F-48DE-B3B1-20320E49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225-AB29-42A5-801D-1F3760AE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C9E-9FC0-40AC-A419-F2BEA751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E84-FFAE-4873-873C-FD1F4F9C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5FC-9896-4E24-BC7B-3EF5F4BB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B58-0C77-4D66-91CC-9BB88A5C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521-7553-4CF3-8D9F-C9B0AEA1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295-6F0D-4D41-AAD1-0E9A457E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E8C-EFC2-4D60-9435-0F89BB89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BD0-EAB5-4B17-8369-24D3B1DF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BBA-2412-470A-B131-FAC25FE3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788-445F-46A9-ACB5-52A790C4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1E4C-FF5C-423C-AD43-D81B91DE9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12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C84-B216-495A-B0D3-9BC7C47DE6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600" y="4191120"/>
            <a:ext cx="883116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U) … START(T) 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8640" y="571500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B96-3A2D-444D-94C2-DDD1DC8861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WT(X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 not to write at all, bu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0960" y="4191120"/>
            <a:ext cx="896832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T) … START(U) 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586728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D9B-A645-44CF-A0D5-C684758697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nsaction T requests r(X) or w(X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examines RT(X), WT(X), C(X), and decides one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rant the request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ollback T (and restart with later timesta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lay T until C(X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DF5-75F9-410A-82D4-219AEF93CC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4 long rules in the textbook, on page 9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be able to understand them, or even derive them yourself, based on the previous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understand them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8720" y="6019920"/>
            <a:ext cx="5229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: 18.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CCC-38B4-47A2-BDAA-176601C06F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version Timest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nsaction T requests r(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T(X) &gt; TS(T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 must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keep multiple versions of X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 read an older version, with appropriate timest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14440" y="4267080"/>
            <a:ext cx="569916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558-87F1-44F1-9032-18834202F8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 create a new version, denoted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t = T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, find a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t &lt; TS(T) and t is the largest su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T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t and it never ch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also be maintained, to reject certain writes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an we delet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we have a later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ll active transactions T have TS(T) &gt; t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82A-FC62-4F6A-86E3-F13ABF5364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when there are many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when there are few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when there are many conflicts (rollba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when there are few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ONLY transac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/WRITE transac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F34-623F-412C-954A-30C8A65821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 by 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action T defines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ad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S(T) and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rit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action proceeds in three ph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all elements in RS(T).  Time = 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 (may need to rollback).  Time = 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ll elements in WS(T). Time = FIN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22680" y="5562720"/>
            <a:ext cx="7168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nvariant: the serialization order is VAL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A7D-B0AE-4E71-BFD8-947353F478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2819520"/>
          <a:ext cx="632448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612360" y="19810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9240" y="1905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8560" y="190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2"/>
          </p:cNvCxnSpPr>
          <p:nvPr/>
        </p:nvCxnSpPr>
        <p:spPr>
          <a:xfrm flipH="1">
            <a:off x="1390320" y="2437920"/>
            <a:ext cx="720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7" idx="2"/>
          </p:cNvCxnSpPr>
          <p:nvPr/>
        </p:nvCxnSpPr>
        <p:spPr>
          <a:xfrm>
            <a:off x="4884480" y="236232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2"/>
          </p:cNvCxnSpPr>
          <p:nvPr/>
        </p:nvCxnSpPr>
        <p:spPr>
          <a:xfrm flipH="1">
            <a:off x="7009920" y="2362320"/>
            <a:ext cx="165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12" name=""/>
          <p:cNvGraphicFramePr/>
          <p:nvPr/>
        </p:nvGraphicFramePr>
        <p:xfrm>
          <a:off x="3524400" y="3733920"/>
          <a:ext cx="45529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924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4502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0"/>
          </p:cNvCxnSpPr>
          <p:nvPr/>
        </p:nvCxnSpPr>
        <p:spPr>
          <a:xfrm flipV="1">
            <a:off x="42177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35320" y="5181480"/>
            <a:ext cx="773208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R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START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beg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/>
          <p:nvPr/>
        </p:nvCxnSpPr>
        <p:spPr>
          <a:xfrm flipH="1">
            <a:off x="5190840" y="3336480"/>
            <a:ext cx="79128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586944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928-1821-4C33-A6D7-5E9283FAD9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2971800"/>
          <a:ext cx="6324480" cy="51768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55160" y="21337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12040" y="20574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2136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0" idx="2"/>
          </p:cNvCxnSpPr>
          <p:nvPr/>
        </p:nvCxnSpPr>
        <p:spPr>
          <a:xfrm flipH="1">
            <a:off x="933120" y="2590920"/>
            <a:ext cx="720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1" idx="2"/>
          </p:cNvCxnSpPr>
          <p:nvPr/>
        </p:nvCxnSpPr>
        <p:spPr>
          <a:xfrm>
            <a:off x="4427280" y="251460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2"/>
          </p:cNvCxnSpPr>
          <p:nvPr/>
        </p:nvCxnSpPr>
        <p:spPr>
          <a:xfrm flipH="1">
            <a:off x="6552720" y="2514600"/>
            <a:ext cx="165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6" name=""/>
          <p:cNvGraphicFramePr/>
          <p:nvPr/>
        </p:nvGraphicFramePr>
        <p:xfrm>
          <a:off x="1600200" y="3733920"/>
          <a:ext cx="67057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4200"/>
                <a:gridCol w="1923840"/>
                <a:gridCol w="2152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15260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83960" y="48006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</p:cNvCxnSpPr>
          <p:nvPr/>
        </p:nvCxnSpPr>
        <p:spPr>
          <a:xfrm flipV="1">
            <a:off x="22935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0"/>
          </p:cNvCxnSpPr>
          <p:nvPr/>
        </p:nvCxnSpPr>
        <p:spPr>
          <a:xfrm flipH="1" flipV="1">
            <a:off x="6152400" y="4250880"/>
            <a:ext cx="2916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533880" y="5283360"/>
            <a:ext cx="807336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W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VAL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valid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612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5524560" y="3489120"/>
            <a:ext cx="17056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5B5-AC65-45E8-A03A-6918CC8DD1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timestamps 18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validation 18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5CA-CA59-4865-BCC7-573A86D647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and timestamps: SQL Server, D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: 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6520" y="51055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re or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54E-D9F3-4F5F-891C-37096B9C5B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ransaction receives a unique timestam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’s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que counter, incremented by the sched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1B8-039E-45B3-B959-D0A8B18405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6360" y="4038480"/>
            <a:ext cx="69534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mestamp order def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rialization order of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88920" y="2590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nvari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CA0-F459-4637-A965-9DD9A763BE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 to each element 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(X) = the highest timestamp of any transaction that rea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= the highest timestamp of any transaction that wrote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X) = the commit bit: says if the transaction with highest timestamp that wrote X com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39040" y="60958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associated to each page X in the buffer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D92-7796-4E5F-91CE-B37A391E9A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two conflicting actions, ensure that their order is the serialized 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s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hat TS(U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0800" y="5638680"/>
            <a:ext cx="7323840" cy="113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 wants to read X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, how do w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U, and TS(U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80440" y="2344320"/>
            <a:ext cx="1809000" cy="1172520"/>
          </a:xfrm>
          <a:prstGeom prst="wedgeEllipseCallout">
            <a:avLst>
              <a:gd name="adj1" fmla="val -145662"/>
              <a:gd name="adj2" fmla="val 3179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73560" y="3106440"/>
            <a:ext cx="1908720" cy="1172520"/>
          </a:xfrm>
          <a:prstGeom prst="wedgeEllipseCallout">
            <a:avLst>
              <a:gd name="adj1" fmla="val -206023"/>
              <a:gd name="adj2" fmla="val 2099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13240" y="4325400"/>
            <a:ext cx="2339280" cy="1172520"/>
          </a:xfrm>
          <a:prstGeom prst="wedgeEllipseCallout">
            <a:avLst>
              <a:gd name="adj1" fmla="val -139902"/>
              <a:gd name="adj2" fmla="val -2897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E70-89DC-49EE-87D1-852D78F3A3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TS(T) &lt; W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4040" y="3886200"/>
            <a:ext cx="76518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2920" y="579132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C02-7BDF-414B-A866-814053F75C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T) &lt; TS(T) &lt; R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4040" y="3886200"/>
            <a:ext cx="765144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86960" y="495288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360" y="601992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we check WT(T) &lt; TS(T) 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6F13-20AB-49EB-9AA2-2C8861DB6E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, but we can still handl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 &lt; RT(X)  but WT(T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4040" y="3886200"/>
            <a:ext cx="78102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V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88040" y="5334120"/>
            <a:ext cx="360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write X at al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ut see later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BDD-F368-4A53-96A6-68FCCF9FE1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12T17:46:50Z</dcterms:modified>
  <cp:revision>330</cp:revision>
  <dc:subject/>
  <dc:title>Lecture 09:</dc:title>
</cp:coreProperties>
</file>