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05BAC8-CB03-471A-8A68-2B2E2AC90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791-1383-4A34-A7C1-531850F9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16E-07F9-494A-BCCF-7795202E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F28-4747-44C0-8F76-7F317D24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9C3-9B1B-4876-9C33-97D12675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1A8-44EF-4335-920E-60B61C7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803-9F05-4222-B07E-9644DE93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475-BA21-40F2-8D81-412E84E7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BB1-1CE5-42C4-AC2D-C4E400FF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687-C2DA-44BF-9BFB-BE71B907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280-3BA3-46D1-9B8A-70C42D4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B3A-A8C4-45D9-9B60-59F6F04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3BE-DD64-4137-9C4A-87AC72BC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8769-DA26-4662-8C7F-23993A426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12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983-0FB4-4DDE-BB3F-8308EF9028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600" y="4191120"/>
            <a:ext cx="88311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772-DCEA-44E3-879A-D9DCB1BEE7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960" y="4191120"/>
            <a:ext cx="89683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58672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FE6-8AA7-49E6-B257-14D0B2224D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BB0-8EFD-4565-B570-E6BAB298EE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872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273-9436-4D74-8A43-A84724A6AB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444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840-C2E3-44E9-AADE-5823E578AC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D11-6BBB-4925-8279-F03ADF5421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7AB-5290-418F-B13A-0DF4C5B3A8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268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975-CCBE-47BC-88C7-E0B7647A2D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924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856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</p:cNvCxnSpPr>
          <p:nvPr/>
        </p:nvCxnSpPr>
        <p:spPr>
          <a:xfrm flipH="1">
            <a:off x="7009920" y="2362320"/>
            <a:ext cx="165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12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3532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586944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94B-75B1-41F5-9A2B-B697995991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204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2136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0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1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</p:cNvCxnSpPr>
          <p:nvPr/>
        </p:nvCxnSpPr>
        <p:spPr>
          <a:xfrm flipH="1">
            <a:off x="6552720" y="2514600"/>
            <a:ext cx="165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3388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61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CE0-8477-4EDB-B115-75F5779E54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2D8-50A2-494A-93F0-9DEF33FF30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385-A1A1-4161-B879-8ED08AD5C1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FC2-D472-4127-802E-FB61B27F1B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63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892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9A8-0140-409E-926C-8F6EF5A8ED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3904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FCD-B026-49DB-B3D9-67E54D12F5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080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0440" y="2344320"/>
            <a:ext cx="1809000" cy="1172520"/>
          </a:xfrm>
          <a:prstGeom prst="wedgeEllipseCallout">
            <a:avLst>
              <a:gd name="adj1" fmla="val -145662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73560" y="3106440"/>
            <a:ext cx="1908720" cy="1172520"/>
          </a:xfrm>
          <a:prstGeom prst="wedgeEllipseCallout">
            <a:avLst>
              <a:gd name="adj1" fmla="val -206023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3240" y="4325400"/>
            <a:ext cx="2339280" cy="1172520"/>
          </a:xfrm>
          <a:prstGeom prst="wedgeEllipseCallout">
            <a:avLst>
              <a:gd name="adj1" fmla="val -139902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AEC-85AE-4E86-8B23-CAF776B60B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404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17E-2C48-4B3F-BCDA-22DDA053A8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T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404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360" y="601992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T) &lt; TS(T) 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01D-560B-43E2-A0E8-B7A4BD7B47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T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404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F67-DED4-40B3-A9F3-68B2112625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12T17:46:50Z</dcterms:modified>
  <cp:revision>330</cp:revision>
  <dc:subject/>
  <dc:title>Lecture 09:</dc:title>
</cp:coreProperties>
</file>