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B77-62FC-4EED-8871-847558F0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04E-C3E1-4B8F-85D2-4EA9990B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E7D-5F84-46E8-A11A-3BCAD368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7CA-56E1-4E33-AD78-56E07F58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501-BCB4-4DF3-BE11-22CA4014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4C5-EF18-4362-83B8-D4F2CFF8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D06-B6DD-4801-A596-4A7650D7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BBB-8A56-4DA0-B1C7-633ECC48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E0E-1DBF-4B03-BCF6-E54CF5F9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E89-E121-4040-8F3C-18593EE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067-B457-41FA-A22A-E0D55232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F9D-8D9A-4363-8261-FB9D0207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DD84-1AA5-4BC0-BC91-6E0061101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8: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10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1E7-632C-4ED1-A5E2-4767DF3153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n-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971800" y="1752480"/>
          <a:ext cx="2666880" cy="394200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FC7-8947-405B-BA7B-10C7BC7BA0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or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ansactions’ actions may commute accidentally because of specific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is undecida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shouldn’t look at the transactions’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orst case updates, only care about reads r(A) and writes w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B8B-CC95-4EF3-8A1C-D2918AD2F6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7680" y="2590920"/>
            <a:ext cx="4350960" cy="95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CAF-C45F-47A8-82B2-A5442FFD09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9810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64000" y="290520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280" y="2819520"/>
            <a:ext cx="582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ctions by the same tran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4360" y="4191120"/>
            <a:ext cx="19839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120" y="4114800"/>
            <a:ext cx="596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rites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4000" y="533412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480" y="5334120"/>
            <a:ext cx="59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and write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4000" y="601992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AE7-8716-4D24-A752-74B651E81E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formed into a serial schedule by a series of swappings of adjacent non-conflictin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8560" y="41054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6440" y="601992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6440" y="464832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68A-81D6-4577-97C9-0F33E15B5B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nflict serializable schedule is also a serializable schedule 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true, even under the “worst case update”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6680" y="6172200"/>
            <a:ext cx="52977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40720" y="4952880"/>
            <a:ext cx="52977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638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38480" y="57146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09600" y="4020840"/>
            <a:ext cx="1148400" cy="1172520"/>
          </a:xfrm>
          <a:prstGeom prst="wedgeEllipseCallout">
            <a:avLst>
              <a:gd name="adj1" fmla="val -155421"/>
              <a:gd name="adj2" fmla="val 3305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40" y="5883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’t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147-8AE1-497C-9333-313C9186A0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cedence Graph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chedule conflict-serializ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graph of all transaction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n action that conflicts with one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m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: if the graph has no cycles, then it is conflict serializa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0E3-74FB-4904-9599-0DDD05528B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274320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3" idx="6"/>
            <a:endCxn id="10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4" idx="6"/>
            <a:endCxn id="10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900080" y="563868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060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7760" y="418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04F-612A-4E41-AB41-BF8BC9C15B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6440" y="274320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6"/>
            <a:endCxn id="11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11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897920" y="56386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NOT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4" idx="1"/>
            <a:endCxn id="113" idx="7"/>
          </p:cNvCxnSpPr>
          <p:nvPr/>
        </p:nvCxnSpPr>
        <p:spPr>
          <a:xfrm rot="5400000">
            <a:off x="3198960" y="3886920"/>
            <a:ext cx="2160" cy="1353600"/>
          </a:xfrm>
          <a:prstGeom prst="curvedConnector5">
            <a:avLst>
              <a:gd name="adj1" fmla="val -18600000"/>
              <a:gd name="adj2" fmla="val 49986"/>
              <a:gd name="adj3" fmla="val -18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736160" y="4206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67200" y="457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02120" y="383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FB2-E830-4C86-9EA1-19CA909F83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the module that schedules the transaction’s actions, ensuring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?  Three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401-5681-4621-A4AC-38F99BCBCB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and Serializable Schedules (1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 (1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(18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ock modes (18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protocol (18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943-B2BF-459B-BB54-90D0A0824A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uniqu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must first acquire the lock before reading/writing tha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ock is taken by another transaction, then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ust release the lock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FBA-049D-4562-BA5D-B212202C4C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9600" y="2743200"/>
            <a:ext cx="6168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res lock for elem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s lock for elem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1FA-C231-4C0F-B054-F875F90D91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1752480"/>
          <a:ext cx="4724640" cy="42451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522720" y="609588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has ensured a conflict-serializabl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A37-3B54-4879-8C9E-BB4E5AB4F0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1752480"/>
          <a:ext cx="5638680" cy="394200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14800" y="603576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did not enforce conflict-serializability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ECA-644B-4D72-8F1D-890F01C419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hase Locking (2P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PL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very transaction, all lock requests must preceed all un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sures conflict serializability !  (wh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931-74A7-48AC-9B4A-68AD73FA4C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2PL transact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1752480"/>
          <a:ext cx="5028840" cy="424512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527400" y="60958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30B-18E3-4EE7-8C7B-A0D425F71F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voided, by ordering all elements (see book); or deadlock detection plus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75D-EDF5-4661-92FD-EEEE39CFEC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hared lock (for 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exclusive lock (for WR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updat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ik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may be upgraded to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crement lock (for A := A + some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ions comm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18.4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063-D738-40F5-A296-D0CD182F43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s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ck/unlock requests to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all READ(A) or WRITE(A)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ppropriate 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2P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442-1635-449E-BBA1-99E50D4F1F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2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the locks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able: a big, critical data structure in a DBM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quested, check the lock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, or add the transaction to the element’s wai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leased, re-activate a transaction from its wai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transaction aborts, release all its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deadlock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1D5-0279-4B25-8B45-56164F9AFE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ransactions are running concurr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ad/write some common e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prevent unwanted interferenc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responsible for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616-BF0E-4DE8-BF34-82A4BFAC90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to 2PL, for tre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-trees (the indexes of choice in data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248-1F64-4B5C-A609-BC947242E5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lock may be any node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, a lock on a node A may only be acquired if the transaction holds a lock on its paren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can be unlocked in any order (no 2PL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 protocol is NOT 2PL, yet ensures conflict-serializabilit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3CD-B639-431C-8E9C-4900CD6BC1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 wrong if we don’t do any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162440" y="2362320"/>
            <a:ext cx="5771880" cy="955800"/>
            <a:chOff x="1162440" y="2362320"/>
            <a:chExt cx="5771880" cy="955800"/>
          </a:xfrm>
        </p:grpSpPr>
        <p:sp>
          <p:nvSpPr>
            <p:cNvPr id="50" name=""/>
            <p:cNvSpPr/>
            <p:nvPr/>
          </p:nvSpPr>
          <p:spPr>
            <a:xfrm>
              <a:off x="5266440" y="2362320"/>
              <a:ext cx="166788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WRITE(A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READ(A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AB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62440" y="2514600"/>
              <a:ext cx="2027880" cy="548280"/>
            </a:xfrm>
            <a:prstGeom prst="wedgeEllipseCallout">
              <a:avLst>
                <a:gd name="adj1" fmla="val 156546"/>
                <a:gd name="adj2" fmla="val -301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ty 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410840" y="3429000"/>
            <a:ext cx="5548680" cy="1874880"/>
            <a:chOff x="1410840" y="3429000"/>
            <a:chExt cx="5548680" cy="1874880"/>
          </a:xfrm>
        </p:grpSpPr>
        <p:sp>
          <p:nvSpPr>
            <p:cNvPr id="53" name=""/>
            <p:cNvSpPr/>
            <p:nvPr/>
          </p:nvSpPr>
          <p:spPr>
            <a:xfrm>
              <a:off x="5343480" y="3429000"/>
              <a:ext cx="1616040" cy="187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READ(A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READ(A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A := A+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A := A*1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WRITE(A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WRITE(A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10840" y="3809880"/>
              <a:ext cx="2292120" cy="548280"/>
            </a:xfrm>
            <a:prstGeom prst="wedgeEllipseCallout">
              <a:avLst>
                <a:gd name="adj1" fmla="val 126490"/>
                <a:gd name="adj2" fmla="val 11134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st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253880" y="5181480"/>
            <a:ext cx="5833800" cy="1644840"/>
            <a:chOff x="1253880" y="5181480"/>
            <a:chExt cx="5833800" cy="1644840"/>
          </a:xfrm>
        </p:grpSpPr>
        <p:sp>
          <p:nvSpPr>
            <p:cNvPr id="56" name=""/>
            <p:cNvSpPr/>
            <p:nvPr/>
          </p:nvSpPr>
          <p:spPr>
            <a:xfrm>
              <a:off x="4883400" y="5257800"/>
              <a:ext cx="2204280" cy="15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A := 20;  B := 50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WRITE(A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READ(A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READ(B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WRITE(B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53880" y="5181480"/>
              <a:ext cx="3210480" cy="548280"/>
            </a:xfrm>
            <a:prstGeom prst="wedgeEllipseCallout">
              <a:avLst>
                <a:gd name="adj1" fmla="val 65740"/>
                <a:gd name="adj2" fmla="val 19015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consistent 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0040" y="61038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may go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AA2-12E0-455E-8AB9-0BB269CFBB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ultipl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interleaved actions from all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EAE-3251-4BDC-ADF5-B38EF3B369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2057400"/>
          <a:ext cx="3504960" cy="276696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2CD-E396-4631-A7D1-D002EE1B48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971800" y="1752480"/>
          <a:ext cx="2666880" cy="394164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C6A-CE1B-4FE3-96E0-DEB53B8FD5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8E1-E50A-4495-B68E-7681C3B2D2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971800" y="1752480"/>
          <a:ext cx="2666880" cy="394200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28840" y="609588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 ser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164-B134-4246-A724-2C45FC1BDA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10T18:16:30Z</dcterms:modified>
  <cp:revision>348</cp:revision>
  <dc:subject/>
  <dc:title>Lecture 09:</dc:title>
</cp:coreProperties>
</file>