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F97-3937-4DD5-A9BC-E2AAD356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DE8-5988-4842-97D3-0A3E2BD9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62B-4454-428F-9ACC-8B463F86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CD9-4C2A-4804-8975-6B458056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43C-E871-4733-96C7-3C21CA3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684-624F-4EDE-899D-C7FC1A3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BA2-CC85-4948-8E91-A6B52E7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BF5-84F8-434C-A7D8-95755F9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2BD-6E36-42F5-9D03-41FFDC7C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4E8-163A-419A-9A3D-12389C5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F41-9C6D-4212-BB94-015D7842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F27-4158-4F8A-A3FD-D8C440A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2858-8976-4D9E-A247-217E6AF67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: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0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01B-E273-4EE5-B8B7-263D1CD844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0E4-291D-4255-96EF-C7816DC117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4AF-8AEE-40A1-B35E-142CF626E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7680" y="2590920"/>
            <a:ext cx="4350960" cy="95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ED7-286D-4FD1-AF15-621CD6C524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64000" y="290520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280" y="2819520"/>
            <a:ext cx="582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ctions by the same tran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4360" y="4191120"/>
            <a:ext cx="19839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4114800"/>
            <a:ext cx="596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4000" y="53341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480" y="5334120"/>
            <a:ext cx="59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nd write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4000" y="60199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7C4-3B4E-4B21-9110-B6A3021005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41054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6440" y="60199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6440" y="46483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69E-A71D-4384-B5B9-641F4B42C1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6680" y="617220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40720" y="495288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09600" y="4020840"/>
            <a:ext cx="1148400" cy="1172520"/>
          </a:xfrm>
          <a:prstGeom prst="wedgeEllipseCallout">
            <a:avLst>
              <a:gd name="adj1" fmla="val -155421"/>
              <a:gd name="adj2" fmla="val 3305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4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E62-3529-477F-8ABC-0E90A9A22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27D-2B46-470A-A4AA-840C448BD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6"/>
            <a:endCxn id="10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6"/>
            <a:endCxn id="10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90008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6A2-4954-451B-819F-64FBEF2CCD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644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6"/>
            <a:endCxn id="11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89792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1"/>
            <a:endCxn id="113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BC6-2631-43C2-821D-4CC979B30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D25-059F-4117-9B67-49BD3A36D3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B1A-97F7-446D-B8BA-5FEAD186B0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2F4-E3A1-42D9-8FAA-68A17AFEF8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9600" y="2743200"/>
            <a:ext cx="616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34A-D3D6-4A38-AFAF-346ED8E4F3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1752480"/>
          <a:ext cx="4724640" cy="42451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2720" y="609588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A40-61EC-4768-B9E5-795AA51235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1752480"/>
          <a:ext cx="5638680" cy="394200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14800" y="603576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17A-9527-43D0-BFFA-90F5F27D1F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A40-0C51-4AE1-991E-D5777DE767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752480"/>
          <a:ext cx="5028840" cy="424512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2740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3DD-68EE-4CA9-BB79-EB84DC3EB4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437-FFD6-41F6-8BC1-9310CCD5C8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E01-8D43-4128-A50C-2B1A6DBF18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DDF-DFA5-4619-85B9-F0DDC0063F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9D8-11F7-4D42-BE39-B8E0F3F312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AF4-06F2-47F4-8822-AABB496DDC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A9E-C7EE-40F8-8388-E443BFB98C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137-00D7-4F45-8CCE-95168DCB8A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 wrong if we don’t do any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62440" y="2362320"/>
            <a:ext cx="5771880" cy="955800"/>
            <a:chOff x="1162440" y="2362320"/>
            <a:chExt cx="5771880" cy="955800"/>
          </a:xfrm>
        </p:grpSpPr>
        <p:sp>
          <p:nvSpPr>
            <p:cNvPr id="50" name=""/>
            <p:cNvSpPr/>
            <p:nvPr/>
          </p:nvSpPr>
          <p:spPr>
            <a:xfrm>
              <a:off x="5266440" y="2362320"/>
              <a:ext cx="166788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WRITE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READ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AB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62440" y="2514600"/>
              <a:ext cx="2027880" cy="548280"/>
            </a:xfrm>
            <a:prstGeom prst="wedgeEllipseCallout">
              <a:avLst>
                <a:gd name="adj1" fmla="val 156546"/>
                <a:gd name="adj2" fmla="val -301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ty 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10840" y="3429000"/>
            <a:ext cx="5548680" cy="1874880"/>
            <a:chOff x="1410840" y="3429000"/>
            <a:chExt cx="5548680" cy="1874880"/>
          </a:xfrm>
        </p:grpSpPr>
        <p:sp>
          <p:nvSpPr>
            <p:cNvPr id="53" name=""/>
            <p:cNvSpPr/>
            <p:nvPr/>
          </p:nvSpPr>
          <p:spPr>
            <a:xfrm>
              <a:off x="5343480" y="3429000"/>
              <a:ext cx="1616040" cy="187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READ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READ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A := A+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A := A*1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WRITE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WRITE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10840" y="3809880"/>
              <a:ext cx="2292120" cy="548280"/>
            </a:xfrm>
            <a:prstGeom prst="wedgeEllipseCallout">
              <a:avLst>
                <a:gd name="adj1" fmla="val 126490"/>
                <a:gd name="adj2" fmla="val 11134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st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53880" y="5181480"/>
            <a:ext cx="5833800" cy="1644840"/>
            <a:chOff x="1253880" y="5181480"/>
            <a:chExt cx="5833800" cy="1644840"/>
          </a:xfrm>
        </p:grpSpPr>
        <p:sp>
          <p:nvSpPr>
            <p:cNvPr id="56" name=""/>
            <p:cNvSpPr/>
            <p:nvPr/>
          </p:nvSpPr>
          <p:spPr>
            <a:xfrm>
              <a:off x="4883400" y="5257800"/>
              <a:ext cx="2204280" cy="15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A := 20;  B := 5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WRITE(A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READ(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READ(B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  WRITE(B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3880" y="5181480"/>
              <a:ext cx="3210480" cy="548280"/>
            </a:xfrm>
            <a:prstGeom prst="wedgeEllipseCallout">
              <a:avLst>
                <a:gd name="adj1" fmla="val 65740"/>
                <a:gd name="adj2" fmla="val 19015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onsistent 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0040" y="61038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may go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6ED-8586-4400-A051-199F6DF19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3DB-7E03-41E7-ADDA-DC55F83667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2057400"/>
          <a:ext cx="3504960" cy="276696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4DE-D9DA-438F-B51D-B739BC48EA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971800" y="1752480"/>
          <a:ext cx="2666880" cy="394164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F75-51C3-4905-9D6F-8A6F805365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77A-B5A1-4E96-AEA0-8F63A49D6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28840" y="609588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631-8319-4DC5-AE49-8E50DDACA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0T18:16:30Z</dcterms:modified>
  <cp:revision>348</cp:revision>
  <dc:subject/>
  <dc:title>Lecture 09:</dc:title>
</cp:coreProperties>
</file>