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2E48-F3C3-43F8-90F2-BBC994ADC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we UNDO the changes, writing back A=8, and B=8.  The transaction is atomic: none of its actions was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we don’t need to do any recovery actions.  The transaction is still atomic: both actions have been exec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C62A-43E1-4353-9287-A42F4091D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59A-F8C1-48E5-BC93-65E3C528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0E1-2A13-4C4A-8E77-E97B62E7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4EF-F07A-44F5-9B82-FA5A5522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0BA-43EA-4DA5-89EA-0C7BD499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CC9-651A-45EE-B991-B2DC6F5E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80D-5EAD-4BC2-8D93-7DDDCA16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509-A464-427E-A9F3-B39D2F02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11D-5AC5-4870-B178-0A9A7F1A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0A6-788D-4973-A7D9-E14792B2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D38-9371-49CE-9418-C14367EB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C01-D168-4ADB-9174-5AA385DB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863-23FB-416A-BCFB-9542B3E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7C15-E20A-4AC8-8615-E4734911F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 and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8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5FC-852F-4AD5-934D-2DA0C94DF6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2E5-29C9-4CE5-8530-DDE6093CA6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CDD-CFD8-4D87-980E-E1230485F6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839-6061-42F2-A1FE-3C313BB8D4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4449960" cy="470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B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B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21360" y="2971800"/>
            <a:ext cx="28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ultiplied b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0B9-F2FD-4556-AAA7-446DB3FF51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80880" y="1752480"/>
          <a:ext cx="784872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920"/>
                <a:gridCol w="1231920"/>
                <a:gridCol w="123192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 rot="5400000">
            <a:off x="44193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920" y="914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69339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3480" y="914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552400" y="9525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760" y="9144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3E0-B394-4220-B326-4A7CD6F9F1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04920" y="685800"/>
          <a:ext cx="784836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560"/>
                <a:gridCol w="1231920"/>
                <a:gridCol w="123192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6690960" y="454356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2160" y="5883120"/>
            <a:ext cx="671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occurs after OUTPUT(A), before OUTPUT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se atom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4BF-1925-4B6D-BC8A-51917B3788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logs: undo, redo, undo/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058-8552-48C1-8082-C702268A09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2C5-F867-4C17-BCA3-AB62AEB46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B2C-F0AF-4290-BB41-5E2D1FFBD1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690960" y="4848840"/>
            <a:ext cx="2639880" cy="113796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C9B-80B7-4F75-92F5-DF0918E61B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17.4  (probably next le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9DA-8F79-4E4B-B9E0-B0D7C36A8B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80880" y="2286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6690960" y="5825160"/>
            <a:ext cx="2639880" cy="113796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34E-D2AC-47C2-8CC8-E28EC0991C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first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NDO both changes: A=8, B=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action is atomic, since none of its actions has been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econd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undo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action is atomic, since both it’s actions have been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1E3-5EC9-48D7-8A45-22B965DAEA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OUTPUT(X) must be written to disk before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fore the transaction com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4D4-1302-4254-A931-6934D64DA6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380880" y="2624040"/>
            <a:ext cx="8382240" cy="2862360"/>
            <a:chOff x="380880" y="2624040"/>
            <a:chExt cx="8382240" cy="2862360"/>
          </a:xfrm>
        </p:grpSpPr>
        <p:sp>
          <p:nvSpPr>
            <p:cNvPr id="198" name=""/>
            <p:cNvSpPr/>
            <p:nvPr/>
          </p:nvSpPr>
          <p:spPr>
            <a:xfrm>
              <a:off x="380880" y="49528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91520" y="26240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9" idx="2"/>
              <a:endCxn id="198" idx="7"/>
            </p:cNvCxnSpPr>
            <p:nvPr/>
          </p:nvCxnSpPr>
          <p:spPr>
            <a:xfrm flipH="1">
              <a:off x="1550520" y="2933280"/>
              <a:ext cx="5841360" cy="20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457200" y="4452840"/>
            <a:ext cx="8305920" cy="1490760"/>
            <a:chOff x="457200" y="4452840"/>
            <a:chExt cx="8305920" cy="1490760"/>
          </a:xfrm>
        </p:grpSpPr>
        <p:sp>
          <p:nvSpPr>
            <p:cNvPr id="202" name=""/>
            <p:cNvSpPr/>
            <p:nvPr/>
          </p:nvSpPr>
          <p:spPr>
            <a:xfrm>
              <a:off x="7391520" y="44528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54100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2" idx="2"/>
              <a:endCxn id="203" idx="6"/>
            </p:cNvCxnSpPr>
            <p:nvPr/>
          </p:nvCxnSpPr>
          <p:spPr>
            <a:xfrm flipH="1">
              <a:off x="1828440" y="4762440"/>
              <a:ext cx="556344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5" name=""/>
          <p:cNvGrpSpPr/>
          <p:nvPr/>
        </p:nvGrpSpPr>
        <p:grpSpPr>
          <a:xfrm>
            <a:off x="1627200" y="5781600"/>
            <a:ext cx="7059600" cy="619200"/>
            <a:chOff x="1627200" y="5781600"/>
            <a:chExt cx="7059600" cy="619200"/>
          </a:xfrm>
        </p:grpSpPr>
        <p:sp>
          <p:nvSpPr>
            <p:cNvPr id="206" name=""/>
            <p:cNvSpPr/>
            <p:nvPr/>
          </p:nvSpPr>
          <p:spPr>
            <a:xfrm>
              <a:off x="7315200" y="578160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>
              <a:stCxn id="203" idx="5"/>
              <a:endCxn id="206" idx="2"/>
            </p:cNvCxnSpPr>
            <p:nvPr/>
          </p:nvCxnSpPr>
          <p:spPr>
            <a:xfrm>
              <a:off x="1627200" y="5865840"/>
              <a:ext cx="568872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9DF-B20C-4202-B8A2-9EDA2B83A3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CAB-82DE-49BA-949F-866FD7CD71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o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 the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03D-51E1-40DC-8D5D-9154964D33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772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2704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5334120"/>
            <a:ext cx="914400" cy="612720"/>
          </a:xfrm>
          <a:prstGeom prst="wedgeEllipseCallout">
            <a:avLst>
              <a:gd name="adj1" fmla="val 154166"/>
              <a:gd name="adj2" fmla="val -41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FBF-9F3F-465E-BAFF-F534687264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78D-0DD9-4895-8FBF-A1D2A64065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: use check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242-E487-463A-82AB-DC2F3187BB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99D-965E-4214-B879-DD023E439B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56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59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70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74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780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6660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94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731040" y="5670720"/>
            <a:ext cx="1396800" cy="798480"/>
            <a:chOff x="3731040" y="5670720"/>
            <a:chExt cx="1396800" cy="798480"/>
          </a:xfrm>
        </p:grpSpPr>
        <p:sp>
          <p:nvSpPr>
            <p:cNvPr id="97" name=""/>
            <p:cNvSpPr/>
            <p:nvPr/>
          </p:nvSpPr>
          <p:spPr>
            <a:xfrm>
              <a:off x="373104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101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103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075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560" y="4648320"/>
            <a:ext cx="339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read or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: 4k or 8k or 1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648-516B-4512-B320-1F71FB03DE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128-F2DC-4E71-99A9-DCA7FFF2F8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9244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84C-4AB4-43AF-8574-570F62983B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85A-4EBE-4CA5-9502-4CB1796184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51D-1DBA-4EEA-A72F-32BE53F168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TART T&gt; = transaction T h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MMIT T&gt; = T has com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ABORT T&gt;= T has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v&gt;= T has updated element X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7F9-5D97-4D5E-A2DA-F7249859BF0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81E-1423-4E5F-A3E4-ED1E9A8174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: If T modifies X, then both &lt;T,X,v&gt; and &lt;COMMIT T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6B4-E801-424A-AE68-A81D9E30B1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380880" y="49528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2920" y="4419720"/>
            <a:ext cx="1371600" cy="61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9" idx="2"/>
            <a:endCxn id="248" idx="7"/>
          </p:cNvCxnSpPr>
          <p:nvPr/>
        </p:nvCxnSpPr>
        <p:spPr>
          <a:xfrm flipH="1">
            <a:off x="1550520" y="4728960"/>
            <a:ext cx="561240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304920" y="54100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6"/>
          </p:cNvCxnSpPr>
          <p:nvPr/>
        </p:nvCxnSpPr>
        <p:spPr>
          <a:xfrm flipH="1">
            <a:off x="1676160" y="4948200"/>
            <a:ext cx="5688720" cy="72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D9C-EAF4-4709-B02E-03543E2200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Read log from the beginning, redo all updates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0F4-2CA3-4A72-84A3-F69F9F3D8A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C87-D6FF-4FC7-BD26-A69729480E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s read/write one block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F4C-94B7-4FA3-8A48-FD371A2F1F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to disk all blocks of committed transac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le continuing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blocks have been written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AE6-0BF7-41F1-AE98-292237A4782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MI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9, T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6280" y="27082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18840" y="2556000"/>
            <a:ext cx="16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, T5, T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72200" y="3200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80" y="4633920"/>
            <a:ext cx="2038320" cy="916920"/>
          </a:xfrm>
          <a:prstGeom prst="borderCallout1">
            <a:avLst>
              <a:gd name="adj1" fmla="val 18750"/>
              <a:gd name="adj2" fmla="val -8333"/>
              <a:gd name="adj3" fmla="val 8986"/>
              <a:gd name="adj4" fmla="val 15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UT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1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to be on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0E4-72E7-4E41-A571-47A9D4C2E6F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Undo/Re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 log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seen, T definitely has written all its data to disk (hence, don’t need to redo) – 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not seen, T definitely has not written any of its data to disk (hence there is not dirty data on disk, no need to undo) – in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like more flexibility on when to OUTPUT: undo/redo logging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E2B-E12E-4CA7-9EB7-A57EDF68F0E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, only on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u,v&gt;= T has updated element X,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was u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428-0B34-4ABB-92E3-9E0F8ADA62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-Logg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1: If T modifies X, then &lt;T,X,u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are free to OUTPUT early or late relative to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415-C142-4E3F-A2BB-30962293EB8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066680" y="61722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UTPUT whenever we want: before/after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454-3533-4DFD-9EE8-2426D691055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committed transaction,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all uncommitted transactions,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7D2-69EF-4B0A-A8E1-65A2F4B1207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25780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618-928A-4D03-AAE6-C57F87C1076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have N tracks, what is the average seek ti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from cylinder x to y takes time |x-y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419200" y="3781440"/>
                <a:ext cx="3621240" cy="25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E31-B2DA-469B-9004-F1E88FD522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int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LRU is not always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122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134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135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9440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9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0924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3848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9048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892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81000" y="1201320"/>
            <a:ext cx="1627200" cy="1172520"/>
          </a:xfrm>
          <a:prstGeom prst="wedgeEllipseCallout">
            <a:avLst>
              <a:gd name="adj1" fmla="val -131662"/>
              <a:gd name="adj2" fmla="val -46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5400" y="3182400"/>
            <a:ext cx="1960560" cy="1172520"/>
          </a:xfrm>
          <a:prstGeom prst="wedgeEllipseCallout">
            <a:avLst>
              <a:gd name="adj1" fmla="val -110194"/>
              <a:gd name="adj2" fmla="val 29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E03-8E43-406B-A591-47BC64E63D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4440" y="1828800"/>
            <a:ext cx="8701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ADF-BB09-4375-84AB-F52F1E394E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000" y="1600200"/>
            <a:ext cx="7239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 recover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758-1210-4BCB-8626-91D52DF596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828800" y="1371600"/>
          <a:ext cx="6095880" cy="5079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r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en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ng data 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l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r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ndancy: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RAID, 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e, theft, bankruptcy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insurance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job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ailures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DATABA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93320" y="5392440"/>
            <a:ext cx="1702800" cy="1172520"/>
          </a:xfrm>
          <a:prstGeom prst="wedgeEllipseCallout">
            <a:avLst>
              <a:gd name="adj1" fmla="val 56824"/>
              <a:gd name="adj2" fmla="val 23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D43-034E-46D7-8FC4-6E3546CF17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08T17:46:35Z</dcterms:modified>
  <cp:revision>280</cp:revision>
  <dc:subject/>
  <dc:title>Lecture 09:</dc:title>
</cp:coreProperties>
</file>