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4B51-E0D3-4242-892C-5CDC154F8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we UNDO the changes, writing back A=8, and B=8.  The transaction is atomic: none of its actions was execu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we don’t need to do any recovery actions.  The transaction is still atomic: both actions have been execu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ecause if the system crashes before it writes &lt;END CKPT&gt; then we cannot use the checkpoint.  We use &lt;END CKPT&gt; to ensure that the system didn’t crash and the checkpoint termin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016B-B4C2-42E6-9B73-813E9C176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1038-D2F4-4BDB-8485-80DC6EBE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DBFB-16BC-4FE0-A3B5-31C56D37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52D0-0C93-4E68-B646-5BA47803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C397-7261-4929-8B96-D964E2A8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6DE9-DF16-4532-8978-087341D8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D2ED-4C21-4088-83C4-DC2EA58E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724B-9668-4FB5-8636-B920F107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4DFC-3E66-470A-A799-ABE809D0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C64A-2D9A-4A34-8395-9AA2A54F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0E1B-A026-45B1-8A0E-4CFC2690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8CC0-E41C-4F5C-AA34-C173A6B1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9B6D-1F41-4307-94C9-671DC040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4C88-771C-44CF-ABC1-D5CEBC8F3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Storage and 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November 8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A714-7D64-479B-892D-08806249B7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Fail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ransaction h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na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ystem crashes, internal state is l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know which parts executed and which did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dy: use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le that records every single action of th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1FDC-1155-48E9-97E1-A8DF7C2C52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the database is composed of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1 element = 1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smaller (=1 record) or larger (=1 rel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each transaction reads/writes some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7C0C-3618-4882-8B43-7B0284F265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itive Operations of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(X,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element X to transaction local variable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(X,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transaction local variable t to elem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element X to memory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element X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3830-E96E-4014-B96E-93EB04F3AC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94920" y="1752480"/>
            <a:ext cx="4449960" cy="470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(A,t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:= t*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(A,t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(B,t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:= t*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(B,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I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21360" y="2971800"/>
            <a:ext cx="287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A and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multiplied by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EC41-D6EA-4FF3-9BE0-CD86C13F9B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380880" y="1752480"/>
          <a:ext cx="7848720" cy="4959360"/>
        </p:xfrm>
        <a:graphic>
          <a:graphicData uri="http://schemas.openxmlformats.org/drawingml/2006/table">
            <a:tbl>
              <a:tblPr/>
              <a:tblGrid>
                <a:gridCol w="1689120"/>
                <a:gridCol w="1231920"/>
                <a:gridCol w="1231920"/>
                <a:gridCol w="1231920"/>
                <a:gridCol w="1231920"/>
                <a:gridCol w="1231920"/>
              </a:tblGrid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 rot="5400000">
            <a:off x="4419360" y="304560"/>
            <a:ext cx="228600" cy="2362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920" y="91440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ffer p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6933960" y="304560"/>
            <a:ext cx="228600" cy="2362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83480" y="914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2552400" y="9525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57760" y="91440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49C6-7B74-423C-8794-A3B5B4D353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304920" y="685800"/>
          <a:ext cx="7848360" cy="4959360"/>
        </p:xfrm>
        <a:graphic>
          <a:graphicData uri="http://schemas.openxmlformats.org/drawingml/2006/table">
            <a:tbl>
              <a:tblPr/>
              <a:tblGrid>
                <a:gridCol w="1689120"/>
                <a:gridCol w="1231920"/>
                <a:gridCol w="1231920"/>
                <a:gridCol w="1231560"/>
                <a:gridCol w="1231920"/>
                <a:gridCol w="123192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6690960" y="4543560"/>
            <a:ext cx="2639880" cy="1138680"/>
          </a:xfrm>
          <a:prstGeom prst="irregularSeal2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02160" y="5883120"/>
            <a:ext cx="671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occurs after OUTPUT(A), before OUTPUT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lose atom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1190-6C48-47D2-BDA8-4FC5A28615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pend-only file containing log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multiple transactions run concurrently, log records are interlea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a system crash, use log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 some transaction that didn’t 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o other transactions that didn’t 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kinds of logs: undo, redo, undo/re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6ABC-60DF-41E4-9F79-29A49A33EC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T has beg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COMMIT T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has 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ABORT 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has ab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T,X,v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has updated element X, and i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 was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77D0-527F-4BCD-B257-0FFF385797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380880" y="457200"/>
          <a:ext cx="8534520" cy="58611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A60B-C007-4E36-85A2-AF322BFC96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380880" y="457200"/>
          <a:ext cx="8534520" cy="58611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6690960" y="4848840"/>
            <a:ext cx="2639880" cy="1137960"/>
          </a:xfrm>
          <a:prstGeom prst="irregularSeal2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78080" y="631836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WE D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F6A3-B377-4EA3-B14E-197D61B3E7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 using undo logging 17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o logging 17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o/undo 17.4  (probably next le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6483-DBDF-47C3-99FC-E8B8AF4979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380880" y="228600"/>
          <a:ext cx="8534520" cy="58611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6690960" y="5825160"/>
            <a:ext cx="2639880" cy="1137960"/>
          </a:xfrm>
          <a:prstGeom prst="irregularSeal2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78080" y="631836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WE D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8ECB-1B2C-4840-BA55-DED62AE2AB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Cra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first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NDO both changes: A=8, B=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ansaction is atomic, since none of its actions has been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second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on’t undo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ansaction is atomic, since both it’s actions have been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E561-E36B-4775-8E75-3101EC7AC5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-Logg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: If T modifies X, then &lt;T,X,v&gt; must be written to disk before OUTPU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2: If T commits, then OUTPUT(X) must be written to disk before &lt;COMMIT 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: OUTPUTs are don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a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efore the transaction comm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A1D6-6882-46EF-85D8-33E8CD05EB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380880" y="457200"/>
          <a:ext cx="8534520" cy="58611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7" name=""/>
          <p:cNvGrpSpPr/>
          <p:nvPr/>
        </p:nvGrpSpPr>
        <p:grpSpPr>
          <a:xfrm>
            <a:off x="380880" y="2624040"/>
            <a:ext cx="8382240" cy="2862360"/>
            <a:chOff x="380880" y="2624040"/>
            <a:chExt cx="8382240" cy="2862360"/>
          </a:xfrm>
        </p:grpSpPr>
        <p:sp>
          <p:nvSpPr>
            <p:cNvPr id="198" name=""/>
            <p:cNvSpPr/>
            <p:nvPr/>
          </p:nvSpPr>
          <p:spPr>
            <a:xfrm>
              <a:off x="380880" y="4952880"/>
              <a:ext cx="13716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391520" y="2624040"/>
              <a:ext cx="1371600" cy="619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9" idx="2"/>
              <a:endCxn id="198" idx="7"/>
            </p:cNvCxnSpPr>
            <p:nvPr/>
          </p:nvCxnSpPr>
          <p:spPr>
            <a:xfrm flipH="1">
              <a:off x="1550520" y="2933280"/>
              <a:ext cx="5841360" cy="2097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01" name=""/>
          <p:cNvGrpSpPr/>
          <p:nvPr/>
        </p:nvGrpSpPr>
        <p:grpSpPr>
          <a:xfrm>
            <a:off x="457200" y="4452840"/>
            <a:ext cx="8305920" cy="1490760"/>
            <a:chOff x="457200" y="4452840"/>
            <a:chExt cx="8305920" cy="1490760"/>
          </a:xfrm>
        </p:grpSpPr>
        <p:sp>
          <p:nvSpPr>
            <p:cNvPr id="202" name=""/>
            <p:cNvSpPr/>
            <p:nvPr/>
          </p:nvSpPr>
          <p:spPr>
            <a:xfrm>
              <a:off x="7391520" y="4452840"/>
              <a:ext cx="1371600" cy="619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7200" y="5410080"/>
              <a:ext cx="13716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4" name=""/>
            <p:cNvCxnSpPr>
              <a:stCxn id="202" idx="2"/>
              <a:endCxn id="203" idx="6"/>
            </p:cNvCxnSpPr>
            <p:nvPr/>
          </p:nvCxnSpPr>
          <p:spPr>
            <a:xfrm flipH="1">
              <a:off x="1828440" y="4762440"/>
              <a:ext cx="5563440" cy="91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05" name=""/>
          <p:cNvGrpSpPr/>
          <p:nvPr/>
        </p:nvGrpSpPr>
        <p:grpSpPr>
          <a:xfrm>
            <a:off x="1627200" y="5781600"/>
            <a:ext cx="7059600" cy="619200"/>
            <a:chOff x="1627200" y="5781600"/>
            <a:chExt cx="7059600" cy="619200"/>
          </a:xfrm>
        </p:grpSpPr>
        <p:sp>
          <p:nvSpPr>
            <p:cNvPr id="206" name=""/>
            <p:cNvSpPr/>
            <p:nvPr/>
          </p:nvSpPr>
          <p:spPr>
            <a:xfrm>
              <a:off x="7315200" y="5781600"/>
              <a:ext cx="1371600" cy="619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7" name=""/>
            <p:cNvCxnSpPr>
              <a:stCxn id="203" idx="5"/>
              <a:endCxn id="206" idx="2"/>
            </p:cNvCxnSpPr>
            <p:nvPr/>
          </p:nvCxnSpPr>
          <p:spPr>
            <a:xfrm>
              <a:off x="1627200" y="5865840"/>
              <a:ext cx="5688720" cy="226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3DAC-3A50-411B-ACFA-C5263C5FE3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ystem’s crash, run recovery manag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1. Decide for each transaction T whether it is completed or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COMMIT T&gt;…. 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ABORT T&gt;…….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……………………   =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2. Undo all modifications by incomplet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33C4-C188-4B60-820D-DBA1048D82A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very manag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lo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om the 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ca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OMMIT T&gt;:  mark T as comp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ABORT T&gt;: mark T as comp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,X,v&gt;: if T is not complet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write X=v to dis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else ign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TART T&gt;: ign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E36E-BB0B-4A90-8DCD-FAE0B5950A3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67720" y="1905120"/>
            <a:ext cx="169092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6,X6,v6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5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4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X2,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828800" y="28195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27040" y="1946160"/>
            <a:ext cx="2581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1 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updates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o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 2 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far bac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e need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in the lo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5334120"/>
            <a:ext cx="914400" cy="612720"/>
          </a:xfrm>
          <a:prstGeom prst="wedgeEllipseCallout">
            <a:avLst>
              <a:gd name="adj1" fmla="val 154166"/>
              <a:gd name="adj2" fmla="val -414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3329-5A39-408C-A660-5C807C43983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all undo commands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dempo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perform them a second time, no harm is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if there is a system crash during recovery, simply restart recovery from scr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C033-DF68-48A5-AC54-C14F88CDAAD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do we stop reading the log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not stop until we reach the beginning of the log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im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: use checkpoi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CD4E-05F7-4EBD-9DD4-E068DD60E47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point the database period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 accepting new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it until all current transactions 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sh log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&lt;CKPT&gt; log record, fl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m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40FB-DA10-4325-B4CF-30CF7078CEA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echanics of D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speed (5400R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latters (1-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tracks (&lt;=10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ytes/track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52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208480" y="2787480"/>
            <a:ext cx="3149640" cy="1801800"/>
            <a:chOff x="5208480" y="2787480"/>
            <a:chExt cx="3149640" cy="1801800"/>
          </a:xfrm>
        </p:grpSpPr>
        <p:sp>
          <p:nvSpPr>
            <p:cNvPr id="56" name=""/>
            <p:cNvSpPr/>
            <p:nvPr/>
          </p:nvSpPr>
          <p:spPr>
            <a:xfrm>
              <a:off x="5208480" y="3374640"/>
              <a:ext cx="3149640" cy="1214640"/>
            </a:xfrm>
            <a:custGeom>
              <a:avLst/>
              <a:gdLst/>
              <a:ahLst/>
              <a:rect l="l" t="t" r="r" b="b"/>
              <a:pathLst>
                <a:path w="1984" h="765">
                  <a:moveTo>
                    <a:pt x="0" y="386"/>
                  </a:moveTo>
                  <a:lnTo>
                    <a:pt x="16" y="320"/>
                  </a:lnTo>
                  <a:lnTo>
                    <a:pt x="57" y="255"/>
                  </a:lnTo>
                  <a:lnTo>
                    <a:pt x="131" y="197"/>
                  </a:lnTo>
                  <a:lnTo>
                    <a:pt x="230" y="140"/>
                  </a:lnTo>
                  <a:lnTo>
                    <a:pt x="353" y="90"/>
                  </a:lnTo>
                  <a:lnTo>
                    <a:pt x="493" y="58"/>
                  </a:lnTo>
                  <a:lnTo>
                    <a:pt x="650" y="25"/>
                  </a:lnTo>
                  <a:lnTo>
                    <a:pt x="814" y="8"/>
                  </a:lnTo>
                  <a:lnTo>
                    <a:pt x="987" y="0"/>
                  </a:lnTo>
                  <a:lnTo>
                    <a:pt x="1160" y="8"/>
                  </a:lnTo>
                  <a:lnTo>
                    <a:pt x="1333" y="25"/>
                  </a:lnTo>
                  <a:lnTo>
                    <a:pt x="1489" y="58"/>
                  </a:lnTo>
                  <a:lnTo>
                    <a:pt x="1629" y="90"/>
                  </a:lnTo>
                  <a:lnTo>
                    <a:pt x="1753" y="140"/>
                  </a:lnTo>
                  <a:lnTo>
                    <a:pt x="1852" y="197"/>
                  </a:lnTo>
                  <a:lnTo>
                    <a:pt x="1926" y="255"/>
                  </a:lnTo>
                  <a:lnTo>
                    <a:pt x="1967" y="320"/>
                  </a:lnTo>
                  <a:lnTo>
                    <a:pt x="1983" y="386"/>
                  </a:lnTo>
                  <a:lnTo>
                    <a:pt x="1967" y="452"/>
                  </a:lnTo>
                  <a:lnTo>
                    <a:pt x="1926" y="518"/>
                  </a:lnTo>
                  <a:lnTo>
                    <a:pt x="1852" y="575"/>
                  </a:lnTo>
                  <a:lnTo>
                    <a:pt x="1753" y="633"/>
                  </a:lnTo>
                  <a:lnTo>
                    <a:pt x="1629" y="674"/>
                  </a:lnTo>
                  <a:lnTo>
                    <a:pt x="1489" y="715"/>
                  </a:lnTo>
                  <a:lnTo>
                    <a:pt x="1333" y="740"/>
                  </a:lnTo>
                  <a:lnTo>
                    <a:pt x="1160" y="764"/>
                  </a:lnTo>
                  <a:lnTo>
                    <a:pt x="987" y="764"/>
                  </a:lnTo>
                  <a:lnTo>
                    <a:pt x="814" y="764"/>
                  </a:lnTo>
                  <a:lnTo>
                    <a:pt x="650" y="740"/>
                  </a:lnTo>
                  <a:lnTo>
                    <a:pt x="493" y="715"/>
                  </a:lnTo>
                  <a:lnTo>
                    <a:pt x="353" y="674"/>
                  </a:lnTo>
                  <a:lnTo>
                    <a:pt x="230" y="633"/>
                  </a:lnTo>
                  <a:lnTo>
                    <a:pt x="131" y="575"/>
                  </a:lnTo>
                  <a:lnTo>
                    <a:pt x="57" y="518"/>
                  </a:lnTo>
                  <a:lnTo>
                    <a:pt x="16" y="452"/>
                  </a:lnTo>
                  <a:lnTo>
                    <a:pt x="0" y="386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08480" y="2787480"/>
              <a:ext cx="3149640" cy="1214280"/>
            </a:xfrm>
            <a:custGeom>
              <a:avLst/>
              <a:gdLst/>
              <a:ahLst/>
              <a:rect l="l" t="t" r="r" b="b"/>
              <a:pathLst>
                <a:path w="1984" h="765">
                  <a:moveTo>
                    <a:pt x="0" y="386"/>
                  </a:moveTo>
                  <a:lnTo>
                    <a:pt x="16" y="321"/>
                  </a:lnTo>
                  <a:lnTo>
                    <a:pt x="57" y="255"/>
                  </a:lnTo>
                  <a:lnTo>
                    <a:pt x="131" y="197"/>
                  </a:lnTo>
                  <a:lnTo>
                    <a:pt x="230" y="140"/>
                  </a:lnTo>
                  <a:lnTo>
                    <a:pt x="353" y="91"/>
                  </a:lnTo>
                  <a:lnTo>
                    <a:pt x="493" y="58"/>
                  </a:lnTo>
                  <a:lnTo>
                    <a:pt x="650" y="25"/>
                  </a:lnTo>
                  <a:lnTo>
                    <a:pt x="814" y="8"/>
                  </a:lnTo>
                  <a:lnTo>
                    <a:pt x="987" y="0"/>
                  </a:lnTo>
                  <a:lnTo>
                    <a:pt x="1160" y="8"/>
                  </a:lnTo>
                  <a:lnTo>
                    <a:pt x="1333" y="25"/>
                  </a:lnTo>
                  <a:lnTo>
                    <a:pt x="1489" y="58"/>
                  </a:lnTo>
                  <a:lnTo>
                    <a:pt x="1629" y="91"/>
                  </a:lnTo>
                  <a:lnTo>
                    <a:pt x="1753" y="140"/>
                  </a:lnTo>
                  <a:lnTo>
                    <a:pt x="1852" y="197"/>
                  </a:lnTo>
                  <a:lnTo>
                    <a:pt x="1926" y="255"/>
                  </a:lnTo>
                  <a:lnTo>
                    <a:pt x="1967" y="321"/>
                  </a:lnTo>
                  <a:lnTo>
                    <a:pt x="1983" y="386"/>
                  </a:lnTo>
                  <a:lnTo>
                    <a:pt x="1967" y="452"/>
                  </a:lnTo>
                  <a:lnTo>
                    <a:pt x="1926" y="518"/>
                  </a:lnTo>
                  <a:lnTo>
                    <a:pt x="1852" y="575"/>
                  </a:lnTo>
                  <a:lnTo>
                    <a:pt x="1753" y="633"/>
                  </a:lnTo>
                  <a:lnTo>
                    <a:pt x="1629" y="674"/>
                  </a:lnTo>
                  <a:lnTo>
                    <a:pt x="1489" y="715"/>
                  </a:lnTo>
                  <a:lnTo>
                    <a:pt x="1333" y="740"/>
                  </a:lnTo>
                  <a:lnTo>
                    <a:pt x="1160" y="764"/>
                  </a:lnTo>
                  <a:lnTo>
                    <a:pt x="987" y="764"/>
                  </a:lnTo>
                  <a:lnTo>
                    <a:pt x="814" y="764"/>
                  </a:lnTo>
                  <a:lnTo>
                    <a:pt x="650" y="740"/>
                  </a:lnTo>
                  <a:lnTo>
                    <a:pt x="493" y="715"/>
                  </a:lnTo>
                  <a:lnTo>
                    <a:pt x="353" y="674"/>
                  </a:lnTo>
                  <a:lnTo>
                    <a:pt x="230" y="633"/>
                  </a:lnTo>
                  <a:lnTo>
                    <a:pt x="131" y="575"/>
                  </a:lnTo>
                  <a:lnTo>
                    <a:pt x="57" y="518"/>
                  </a:lnTo>
                  <a:lnTo>
                    <a:pt x="16" y="452"/>
                  </a:lnTo>
                  <a:lnTo>
                    <a:pt x="0" y="386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5181480" y="2057400"/>
            <a:ext cx="3176640" cy="4594320"/>
            <a:chOff x="5181480" y="2057400"/>
            <a:chExt cx="3176640" cy="4594320"/>
          </a:xfrm>
        </p:grpSpPr>
        <p:grpSp>
          <p:nvGrpSpPr>
            <p:cNvPr id="59" name=""/>
            <p:cNvGrpSpPr/>
            <p:nvPr/>
          </p:nvGrpSpPr>
          <p:grpSpPr>
            <a:xfrm>
              <a:off x="5181480" y="2735280"/>
              <a:ext cx="3176640" cy="3916440"/>
              <a:chOff x="5181480" y="2735280"/>
              <a:chExt cx="3176640" cy="391644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5208480" y="3322800"/>
                <a:ext cx="3149640" cy="1214280"/>
                <a:chOff x="5208480" y="3322800"/>
                <a:chExt cx="3149640" cy="121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208480" y="3322800"/>
                  <a:ext cx="3149640" cy="1214280"/>
                </a:xfrm>
                <a:custGeom>
                  <a:avLst/>
                  <a:gdLst/>
                  <a:ahLst/>
                  <a:rect l="l" t="t" r="r" b="b"/>
                  <a:pathLst>
                    <a:path w="1984" h="765">
                      <a:moveTo>
                        <a:pt x="0" y="378"/>
                      </a:moveTo>
                      <a:lnTo>
                        <a:pt x="16" y="312"/>
                      </a:lnTo>
                      <a:lnTo>
                        <a:pt x="57" y="247"/>
                      </a:lnTo>
                      <a:lnTo>
                        <a:pt x="131" y="189"/>
                      </a:lnTo>
                      <a:lnTo>
                        <a:pt x="230" y="132"/>
                      </a:lnTo>
                      <a:lnTo>
                        <a:pt x="353" y="91"/>
                      </a:lnTo>
                      <a:lnTo>
                        <a:pt x="493" y="49"/>
                      </a:lnTo>
                      <a:lnTo>
                        <a:pt x="650" y="25"/>
                      </a:lnTo>
                      <a:lnTo>
                        <a:pt x="814" y="0"/>
                      </a:lnTo>
                      <a:lnTo>
                        <a:pt x="987" y="0"/>
                      </a:lnTo>
                      <a:lnTo>
                        <a:pt x="1160" y="0"/>
                      </a:lnTo>
                      <a:lnTo>
                        <a:pt x="1333" y="25"/>
                      </a:lnTo>
                      <a:lnTo>
                        <a:pt x="1489" y="49"/>
                      </a:lnTo>
                      <a:lnTo>
                        <a:pt x="1629" y="91"/>
                      </a:lnTo>
                      <a:lnTo>
                        <a:pt x="1753" y="132"/>
                      </a:lnTo>
                      <a:lnTo>
                        <a:pt x="1852" y="189"/>
                      </a:lnTo>
                      <a:lnTo>
                        <a:pt x="1926" y="247"/>
                      </a:lnTo>
                      <a:lnTo>
                        <a:pt x="1967" y="312"/>
                      </a:lnTo>
                      <a:lnTo>
                        <a:pt x="1983" y="378"/>
                      </a:lnTo>
                      <a:lnTo>
                        <a:pt x="1967" y="444"/>
                      </a:lnTo>
                      <a:lnTo>
                        <a:pt x="1926" y="510"/>
                      </a:lnTo>
                      <a:lnTo>
                        <a:pt x="1852" y="567"/>
                      </a:lnTo>
                      <a:lnTo>
                        <a:pt x="1753" y="625"/>
                      </a:lnTo>
                      <a:lnTo>
                        <a:pt x="1629" y="674"/>
                      </a:lnTo>
                      <a:lnTo>
                        <a:pt x="1489" y="707"/>
                      </a:lnTo>
                      <a:lnTo>
                        <a:pt x="1333" y="740"/>
                      </a:lnTo>
                      <a:lnTo>
                        <a:pt x="1160" y="756"/>
                      </a:lnTo>
                      <a:lnTo>
                        <a:pt x="987" y="764"/>
                      </a:lnTo>
                      <a:lnTo>
                        <a:pt x="814" y="756"/>
                      </a:lnTo>
                      <a:lnTo>
                        <a:pt x="650" y="740"/>
                      </a:lnTo>
                      <a:lnTo>
                        <a:pt x="493" y="707"/>
                      </a:lnTo>
                      <a:lnTo>
                        <a:pt x="353" y="674"/>
                      </a:lnTo>
                      <a:lnTo>
                        <a:pt x="230" y="625"/>
                      </a:lnTo>
                      <a:lnTo>
                        <a:pt x="131" y="567"/>
                      </a:lnTo>
                      <a:lnTo>
                        <a:pt x="57" y="510"/>
                      </a:lnTo>
                      <a:lnTo>
                        <a:pt x="16" y="444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5299200" y="3414600"/>
                  <a:ext cx="2941560" cy="1032120"/>
                </a:xfrm>
                <a:custGeom>
                  <a:avLst/>
                  <a:gdLst/>
                  <a:ahLst/>
                  <a:rect l="l" t="t" r="r" b="b"/>
                  <a:pathLst>
                    <a:path w="1853" h="650">
                      <a:moveTo>
                        <a:pt x="0" y="328"/>
                      </a:moveTo>
                      <a:lnTo>
                        <a:pt x="17" y="263"/>
                      </a:lnTo>
                      <a:lnTo>
                        <a:pt x="66" y="205"/>
                      </a:lnTo>
                      <a:lnTo>
                        <a:pt x="140" y="156"/>
                      </a:lnTo>
                      <a:lnTo>
                        <a:pt x="247" y="106"/>
                      </a:lnTo>
                      <a:lnTo>
                        <a:pt x="371" y="65"/>
                      </a:lnTo>
                      <a:lnTo>
                        <a:pt x="519" y="33"/>
                      </a:lnTo>
                      <a:lnTo>
                        <a:pt x="675" y="16"/>
                      </a:lnTo>
                      <a:lnTo>
                        <a:pt x="840" y="0"/>
                      </a:lnTo>
                      <a:lnTo>
                        <a:pt x="1013" y="0"/>
                      </a:lnTo>
                      <a:lnTo>
                        <a:pt x="1177" y="16"/>
                      </a:lnTo>
                      <a:lnTo>
                        <a:pt x="1342" y="33"/>
                      </a:lnTo>
                      <a:lnTo>
                        <a:pt x="1482" y="65"/>
                      </a:lnTo>
                      <a:lnTo>
                        <a:pt x="1613" y="106"/>
                      </a:lnTo>
                      <a:lnTo>
                        <a:pt x="1712" y="156"/>
                      </a:lnTo>
                      <a:lnTo>
                        <a:pt x="1795" y="205"/>
                      </a:lnTo>
                      <a:lnTo>
                        <a:pt x="1836" y="263"/>
                      </a:lnTo>
                      <a:lnTo>
                        <a:pt x="1852" y="328"/>
                      </a:lnTo>
                      <a:lnTo>
                        <a:pt x="1836" y="386"/>
                      </a:lnTo>
                      <a:lnTo>
                        <a:pt x="1795" y="443"/>
                      </a:lnTo>
                      <a:lnTo>
                        <a:pt x="1712" y="493"/>
                      </a:lnTo>
                      <a:lnTo>
                        <a:pt x="1613" y="542"/>
                      </a:lnTo>
                      <a:lnTo>
                        <a:pt x="1482" y="583"/>
                      </a:lnTo>
                      <a:lnTo>
                        <a:pt x="1342" y="616"/>
                      </a:lnTo>
                      <a:lnTo>
                        <a:pt x="1177" y="641"/>
                      </a:lnTo>
                      <a:lnTo>
                        <a:pt x="1013" y="649"/>
                      </a:lnTo>
                      <a:lnTo>
                        <a:pt x="840" y="649"/>
                      </a:lnTo>
                      <a:lnTo>
                        <a:pt x="675" y="641"/>
                      </a:lnTo>
                      <a:lnTo>
                        <a:pt x="519" y="616"/>
                      </a:lnTo>
                      <a:lnTo>
                        <a:pt x="371" y="583"/>
                      </a:lnTo>
                      <a:lnTo>
                        <a:pt x="247" y="542"/>
                      </a:lnTo>
                      <a:lnTo>
                        <a:pt x="140" y="493"/>
                      </a:lnTo>
                      <a:lnTo>
                        <a:pt x="66" y="443"/>
                      </a:lnTo>
                      <a:lnTo>
                        <a:pt x="17" y="386"/>
                      </a:lnTo>
                      <a:lnTo>
                        <a:pt x="0" y="32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5443560" y="3517920"/>
                  <a:ext cx="2654280" cy="784080"/>
                </a:xfrm>
                <a:custGeom>
                  <a:avLst/>
                  <a:gdLst/>
                  <a:ahLst/>
                  <a:rect l="l" t="t" r="r" b="b"/>
                  <a:pathLst>
                    <a:path w="1672" h="494">
                      <a:moveTo>
                        <a:pt x="0" y="247"/>
                      </a:moveTo>
                      <a:lnTo>
                        <a:pt x="16" y="198"/>
                      </a:lnTo>
                      <a:lnTo>
                        <a:pt x="66" y="148"/>
                      </a:lnTo>
                      <a:lnTo>
                        <a:pt x="148" y="107"/>
                      </a:lnTo>
                      <a:lnTo>
                        <a:pt x="247" y="74"/>
                      </a:lnTo>
                      <a:lnTo>
                        <a:pt x="370" y="41"/>
                      </a:lnTo>
                      <a:lnTo>
                        <a:pt x="518" y="17"/>
                      </a:lnTo>
                      <a:lnTo>
                        <a:pt x="675" y="0"/>
                      </a:lnTo>
                      <a:lnTo>
                        <a:pt x="839" y="0"/>
                      </a:lnTo>
                      <a:lnTo>
                        <a:pt x="996" y="0"/>
                      </a:lnTo>
                      <a:lnTo>
                        <a:pt x="1152" y="17"/>
                      </a:lnTo>
                      <a:lnTo>
                        <a:pt x="1300" y="41"/>
                      </a:lnTo>
                      <a:lnTo>
                        <a:pt x="1424" y="74"/>
                      </a:lnTo>
                      <a:lnTo>
                        <a:pt x="1531" y="107"/>
                      </a:lnTo>
                      <a:lnTo>
                        <a:pt x="1605" y="148"/>
                      </a:lnTo>
                      <a:lnTo>
                        <a:pt x="1654" y="198"/>
                      </a:lnTo>
                      <a:lnTo>
                        <a:pt x="1671" y="247"/>
                      </a:lnTo>
                      <a:lnTo>
                        <a:pt x="1654" y="296"/>
                      </a:lnTo>
                      <a:lnTo>
                        <a:pt x="1605" y="337"/>
                      </a:lnTo>
                      <a:lnTo>
                        <a:pt x="1531" y="378"/>
                      </a:lnTo>
                      <a:lnTo>
                        <a:pt x="1424" y="419"/>
                      </a:lnTo>
                      <a:lnTo>
                        <a:pt x="1300" y="452"/>
                      </a:lnTo>
                      <a:lnTo>
                        <a:pt x="1152" y="477"/>
                      </a:lnTo>
                      <a:lnTo>
                        <a:pt x="996" y="485"/>
                      </a:lnTo>
                      <a:lnTo>
                        <a:pt x="839" y="493"/>
                      </a:lnTo>
                      <a:lnTo>
                        <a:pt x="675" y="485"/>
                      </a:lnTo>
                      <a:lnTo>
                        <a:pt x="518" y="477"/>
                      </a:lnTo>
                      <a:lnTo>
                        <a:pt x="370" y="452"/>
                      </a:lnTo>
                      <a:lnTo>
                        <a:pt x="247" y="419"/>
                      </a:lnTo>
                      <a:lnTo>
                        <a:pt x="148" y="378"/>
                      </a:lnTo>
                      <a:lnTo>
                        <a:pt x="66" y="337"/>
                      </a:lnTo>
                      <a:lnTo>
                        <a:pt x="16" y="296"/>
                      </a:lnTo>
                      <a:lnTo>
                        <a:pt x="0" y="24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5208480" y="2735280"/>
                <a:ext cx="3149640" cy="1216080"/>
                <a:chOff x="5208480" y="2735280"/>
                <a:chExt cx="3149640" cy="121608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5208480" y="2735280"/>
                  <a:ext cx="3149640" cy="1216080"/>
                </a:xfrm>
                <a:custGeom>
                  <a:avLst/>
                  <a:gdLst/>
                  <a:ahLst/>
                  <a:rect l="l" t="t" r="r" b="b"/>
                  <a:pathLst>
                    <a:path w="1984" h="766">
                      <a:moveTo>
                        <a:pt x="0" y="378"/>
                      </a:moveTo>
                      <a:lnTo>
                        <a:pt x="16" y="313"/>
                      </a:lnTo>
                      <a:lnTo>
                        <a:pt x="57" y="247"/>
                      </a:lnTo>
                      <a:lnTo>
                        <a:pt x="131" y="189"/>
                      </a:lnTo>
                      <a:lnTo>
                        <a:pt x="230" y="132"/>
                      </a:lnTo>
                      <a:lnTo>
                        <a:pt x="353" y="91"/>
                      </a:lnTo>
                      <a:lnTo>
                        <a:pt x="493" y="50"/>
                      </a:lnTo>
                      <a:lnTo>
                        <a:pt x="650" y="25"/>
                      </a:lnTo>
                      <a:lnTo>
                        <a:pt x="814" y="0"/>
                      </a:lnTo>
                      <a:lnTo>
                        <a:pt x="987" y="0"/>
                      </a:lnTo>
                      <a:lnTo>
                        <a:pt x="1160" y="0"/>
                      </a:lnTo>
                      <a:lnTo>
                        <a:pt x="1333" y="25"/>
                      </a:lnTo>
                      <a:lnTo>
                        <a:pt x="1489" y="50"/>
                      </a:lnTo>
                      <a:lnTo>
                        <a:pt x="1629" y="91"/>
                      </a:lnTo>
                      <a:lnTo>
                        <a:pt x="1753" y="132"/>
                      </a:lnTo>
                      <a:lnTo>
                        <a:pt x="1852" y="189"/>
                      </a:lnTo>
                      <a:lnTo>
                        <a:pt x="1926" y="247"/>
                      </a:lnTo>
                      <a:lnTo>
                        <a:pt x="1967" y="313"/>
                      </a:lnTo>
                      <a:lnTo>
                        <a:pt x="1983" y="378"/>
                      </a:lnTo>
                      <a:lnTo>
                        <a:pt x="1967" y="444"/>
                      </a:lnTo>
                      <a:lnTo>
                        <a:pt x="1926" y="510"/>
                      </a:lnTo>
                      <a:lnTo>
                        <a:pt x="1852" y="567"/>
                      </a:lnTo>
                      <a:lnTo>
                        <a:pt x="1753" y="625"/>
                      </a:lnTo>
                      <a:lnTo>
                        <a:pt x="1629" y="674"/>
                      </a:lnTo>
                      <a:lnTo>
                        <a:pt x="1489" y="707"/>
                      </a:lnTo>
                      <a:lnTo>
                        <a:pt x="1333" y="740"/>
                      </a:lnTo>
                      <a:lnTo>
                        <a:pt x="1160" y="756"/>
                      </a:lnTo>
                      <a:lnTo>
                        <a:pt x="987" y="765"/>
                      </a:lnTo>
                      <a:lnTo>
                        <a:pt x="814" y="756"/>
                      </a:lnTo>
                      <a:lnTo>
                        <a:pt x="650" y="740"/>
                      </a:lnTo>
                      <a:lnTo>
                        <a:pt x="493" y="707"/>
                      </a:lnTo>
                      <a:lnTo>
                        <a:pt x="353" y="674"/>
                      </a:lnTo>
                      <a:lnTo>
                        <a:pt x="230" y="625"/>
                      </a:lnTo>
                      <a:lnTo>
                        <a:pt x="131" y="567"/>
                      </a:lnTo>
                      <a:lnTo>
                        <a:pt x="57" y="510"/>
                      </a:lnTo>
                      <a:lnTo>
                        <a:pt x="16" y="444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5299200" y="2827440"/>
                  <a:ext cx="2941560" cy="1031760"/>
                </a:xfrm>
                <a:custGeom>
                  <a:avLst/>
                  <a:gdLst/>
                  <a:ahLst/>
                  <a:rect l="l" t="t" r="r" b="b"/>
                  <a:pathLst>
                    <a:path w="1853" h="650">
                      <a:moveTo>
                        <a:pt x="0" y="329"/>
                      </a:moveTo>
                      <a:lnTo>
                        <a:pt x="17" y="263"/>
                      </a:lnTo>
                      <a:lnTo>
                        <a:pt x="66" y="205"/>
                      </a:lnTo>
                      <a:lnTo>
                        <a:pt x="140" y="156"/>
                      </a:lnTo>
                      <a:lnTo>
                        <a:pt x="247" y="107"/>
                      </a:lnTo>
                      <a:lnTo>
                        <a:pt x="371" y="66"/>
                      </a:lnTo>
                      <a:lnTo>
                        <a:pt x="519" y="33"/>
                      </a:lnTo>
                      <a:lnTo>
                        <a:pt x="675" y="16"/>
                      </a:lnTo>
                      <a:lnTo>
                        <a:pt x="840" y="0"/>
                      </a:lnTo>
                      <a:lnTo>
                        <a:pt x="1013" y="0"/>
                      </a:lnTo>
                      <a:lnTo>
                        <a:pt x="1177" y="16"/>
                      </a:lnTo>
                      <a:lnTo>
                        <a:pt x="1342" y="33"/>
                      </a:lnTo>
                      <a:lnTo>
                        <a:pt x="1482" y="66"/>
                      </a:lnTo>
                      <a:lnTo>
                        <a:pt x="1613" y="107"/>
                      </a:lnTo>
                      <a:lnTo>
                        <a:pt x="1712" y="156"/>
                      </a:lnTo>
                      <a:lnTo>
                        <a:pt x="1795" y="205"/>
                      </a:lnTo>
                      <a:lnTo>
                        <a:pt x="1836" y="263"/>
                      </a:lnTo>
                      <a:lnTo>
                        <a:pt x="1852" y="329"/>
                      </a:lnTo>
                      <a:lnTo>
                        <a:pt x="1836" y="386"/>
                      </a:lnTo>
                      <a:lnTo>
                        <a:pt x="1795" y="444"/>
                      </a:lnTo>
                      <a:lnTo>
                        <a:pt x="1712" y="493"/>
                      </a:lnTo>
                      <a:lnTo>
                        <a:pt x="1613" y="542"/>
                      </a:lnTo>
                      <a:lnTo>
                        <a:pt x="1482" y="583"/>
                      </a:lnTo>
                      <a:lnTo>
                        <a:pt x="1342" y="616"/>
                      </a:lnTo>
                      <a:lnTo>
                        <a:pt x="1177" y="641"/>
                      </a:lnTo>
                      <a:lnTo>
                        <a:pt x="1013" y="649"/>
                      </a:lnTo>
                      <a:lnTo>
                        <a:pt x="840" y="649"/>
                      </a:lnTo>
                      <a:lnTo>
                        <a:pt x="675" y="641"/>
                      </a:lnTo>
                      <a:lnTo>
                        <a:pt x="519" y="616"/>
                      </a:lnTo>
                      <a:lnTo>
                        <a:pt x="371" y="583"/>
                      </a:lnTo>
                      <a:lnTo>
                        <a:pt x="247" y="542"/>
                      </a:lnTo>
                      <a:lnTo>
                        <a:pt x="140" y="493"/>
                      </a:lnTo>
                      <a:lnTo>
                        <a:pt x="66" y="444"/>
                      </a:lnTo>
                      <a:lnTo>
                        <a:pt x="17" y="386"/>
                      </a:lnTo>
                      <a:lnTo>
                        <a:pt x="0" y="32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5443560" y="2932200"/>
                  <a:ext cx="2654280" cy="784080"/>
                </a:xfrm>
                <a:custGeom>
                  <a:avLst/>
                  <a:gdLst/>
                  <a:ahLst/>
                  <a:rect l="l" t="t" r="r" b="b"/>
                  <a:pathLst>
                    <a:path w="1672" h="494">
                      <a:moveTo>
                        <a:pt x="0" y="246"/>
                      </a:moveTo>
                      <a:lnTo>
                        <a:pt x="16" y="197"/>
                      </a:lnTo>
                      <a:lnTo>
                        <a:pt x="66" y="147"/>
                      </a:lnTo>
                      <a:lnTo>
                        <a:pt x="148" y="106"/>
                      </a:lnTo>
                      <a:lnTo>
                        <a:pt x="247" y="74"/>
                      </a:lnTo>
                      <a:lnTo>
                        <a:pt x="370" y="41"/>
                      </a:lnTo>
                      <a:lnTo>
                        <a:pt x="518" y="16"/>
                      </a:lnTo>
                      <a:lnTo>
                        <a:pt x="675" y="0"/>
                      </a:lnTo>
                      <a:lnTo>
                        <a:pt x="839" y="0"/>
                      </a:lnTo>
                      <a:lnTo>
                        <a:pt x="996" y="0"/>
                      </a:lnTo>
                      <a:lnTo>
                        <a:pt x="1152" y="16"/>
                      </a:lnTo>
                      <a:lnTo>
                        <a:pt x="1300" y="41"/>
                      </a:lnTo>
                      <a:lnTo>
                        <a:pt x="1424" y="74"/>
                      </a:lnTo>
                      <a:lnTo>
                        <a:pt x="1531" y="106"/>
                      </a:lnTo>
                      <a:lnTo>
                        <a:pt x="1605" y="147"/>
                      </a:lnTo>
                      <a:lnTo>
                        <a:pt x="1654" y="197"/>
                      </a:lnTo>
                      <a:lnTo>
                        <a:pt x="1671" y="246"/>
                      </a:lnTo>
                      <a:lnTo>
                        <a:pt x="1654" y="295"/>
                      </a:lnTo>
                      <a:lnTo>
                        <a:pt x="1605" y="337"/>
                      </a:lnTo>
                      <a:lnTo>
                        <a:pt x="1531" y="378"/>
                      </a:lnTo>
                      <a:lnTo>
                        <a:pt x="1424" y="419"/>
                      </a:lnTo>
                      <a:lnTo>
                        <a:pt x="1300" y="452"/>
                      </a:lnTo>
                      <a:lnTo>
                        <a:pt x="1152" y="476"/>
                      </a:lnTo>
                      <a:lnTo>
                        <a:pt x="996" y="484"/>
                      </a:lnTo>
                      <a:lnTo>
                        <a:pt x="839" y="493"/>
                      </a:lnTo>
                      <a:lnTo>
                        <a:pt x="675" y="484"/>
                      </a:lnTo>
                      <a:lnTo>
                        <a:pt x="518" y="476"/>
                      </a:lnTo>
                      <a:lnTo>
                        <a:pt x="370" y="452"/>
                      </a:lnTo>
                      <a:lnTo>
                        <a:pt x="247" y="419"/>
                      </a:lnTo>
                      <a:lnTo>
                        <a:pt x="148" y="378"/>
                      </a:lnTo>
                      <a:lnTo>
                        <a:pt x="66" y="337"/>
                      </a:lnTo>
                      <a:lnTo>
                        <a:pt x="16" y="295"/>
                      </a:lnTo>
                      <a:lnTo>
                        <a:pt x="0" y="24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>
                <a:off x="5181480" y="5435640"/>
                <a:ext cx="3164040" cy="1216080"/>
              </a:xfrm>
              <a:custGeom>
                <a:avLst/>
                <a:gdLst/>
                <a:ahLst/>
                <a:rect l="l" t="t" r="r" b="b"/>
                <a:pathLst>
                  <a:path w="1993" h="766">
                    <a:moveTo>
                      <a:pt x="0" y="378"/>
                    </a:moveTo>
                    <a:lnTo>
                      <a:pt x="17" y="313"/>
                    </a:lnTo>
                    <a:lnTo>
                      <a:pt x="66" y="247"/>
                    </a:lnTo>
                    <a:lnTo>
                      <a:pt x="132" y="189"/>
                    </a:lnTo>
                    <a:lnTo>
                      <a:pt x="239" y="140"/>
                    </a:lnTo>
                    <a:lnTo>
                      <a:pt x="354" y="91"/>
                    </a:lnTo>
                    <a:lnTo>
                      <a:pt x="502" y="50"/>
                    </a:lnTo>
                    <a:lnTo>
                      <a:pt x="659" y="25"/>
                    </a:lnTo>
                    <a:lnTo>
                      <a:pt x="823" y="9"/>
                    </a:lnTo>
                    <a:lnTo>
                      <a:pt x="996" y="0"/>
                    </a:lnTo>
                    <a:lnTo>
                      <a:pt x="1169" y="9"/>
                    </a:lnTo>
                    <a:lnTo>
                      <a:pt x="1334" y="25"/>
                    </a:lnTo>
                    <a:lnTo>
                      <a:pt x="1490" y="50"/>
                    </a:lnTo>
                    <a:lnTo>
                      <a:pt x="1638" y="91"/>
                    </a:lnTo>
                    <a:lnTo>
                      <a:pt x="1753" y="140"/>
                    </a:lnTo>
                    <a:lnTo>
                      <a:pt x="1860" y="189"/>
                    </a:lnTo>
                    <a:lnTo>
                      <a:pt x="1926" y="247"/>
                    </a:lnTo>
                    <a:lnTo>
                      <a:pt x="1976" y="313"/>
                    </a:lnTo>
                    <a:lnTo>
                      <a:pt x="1992" y="378"/>
                    </a:lnTo>
                    <a:lnTo>
                      <a:pt x="1976" y="444"/>
                    </a:lnTo>
                    <a:lnTo>
                      <a:pt x="1926" y="510"/>
                    </a:lnTo>
                    <a:lnTo>
                      <a:pt x="1860" y="576"/>
                    </a:lnTo>
                    <a:lnTo>
                      <a:pt x="1753" y="625"/>
                    </a:lnTo>
                    <a:lnTo>
                      <a:pt x="1638" y="674"/>
                    </a:lnTo>
                    <a:lnTo>
                      <a:pt x="1490" y="715"/>
                    </a:lnTo>
                    <a:lnTo>
                      <a:pt x="1334" y="740"/>
                    </a:lnTo>
                    <a:lnTo>
                      <a:pt x="1169" y="756"/>
                    </a:lnTo>
                    <a:lnTo>
                      <a:pt x="996" y="765"/>
                    </a:lnTo>
                    <a:lnTo>
                      <a:pt x="823" y="756"/>
                    </a:lnTo>
                    <a:lnTo>
                      <a:pt x="659" y="740"/>
                    </a:lnTo>
                    <a:lnTo>
                      <a:pt x="502" y="715"/>
                    </a:lnTo>
                    <a:lnTo>
                      <a:pt x="354" y="674"/>
                    </a:lnTo>
                    <a:lnTo>
                      <a:pt x="239" y="625"/>
                    </a:lnTo>
                    <a:lnTo>
                      <a:pt x="132" y="576"/>
                    </a:lnTo>
                    <a:lnTo>
                      <a:pt x="66" y="510"/>
                    </a:lnTo>
                    <a:lnTo>
                      <a:pt x="17" y="444"/>
                    </a:lnTo>
                    <a:lnTo>
                      <a:pt x="0" y="37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5181480" y="5370480"/>
              <a:ext cx="3164040" cy="1216080"/>
              <a:chOff x="5181480" y="5370480"/>
              <a:chExt cx="3164040" cy="1216080"/>
            </a:xfrm>
          </p:grpSpPr>
          <p:sp>
            <p:nvSpPr>
              <p:cNvPr id="70" name=""/>
              <p:cNvSpPr/>
              <p:nvPr/>
            </p:nvSpPr>
            <p:spPr>
              <a:xfrm>
                <a:off x="5181480" y="5370480"/>
                <a:ext cx="3164040" cy="1216080"/>
              </a:xfrm>
              <a:custGeom>
                <a:avLst/>
                <a:gdLst/>
                <a:ahLst/>
                <a:rect l="l" t="t" r="r" b="b"/>
                <a:pathLst>
                  <a:path w="1993" h="766">
                    <a:moveTo>
                      <a:pt x="0" y="387"/>
                    </a:moveTo>
                    <a:lnTo>
                      <a:pt x="17" y="321"/>
                    </a:lnTo>
                    <a:lnTo>
                      <a:pt x="66" y="255"/>
                    </a:lnTo>
                    <a:lnTo>
                      <a:pt x="132" y="198"/>
                    </a:lnTo>
                    <a:lnTo>
                      <a:pt x="239" y="140"/>
                    </a:lnTo>
                    <a:lnTo>
                      <a:pt x="354" y="91"/>
                    </a:lnTo>
                    <a:lnTo>
                      <a:pt x="502" y="58"/>
                    </a:lnTo>
                    <a:lnTo>
                      <a:pt x="659" y="25"/>
                    </a:lnTo>
                    <a:lnTo>
                      <a:pt x="823" y="9"/>
                    </a:lnTo>
                    <a:lnTo>
                      <a:pt x="996" y="0"/>
                    </a:lnTo>
                    <a:lnTo>
                      <a:pt x="1169" y="9"/>
                    </a:lnTo>
                    <a:lnTo>
                      <a:pt x="1334" y="25"/>
                    </a:lnTo>
                    <a:lnTo>
                      <a:pt x="1490" y="58"/>
                    </a:lnTo>
                    <a:lnTo>
                      <a:pt x="1638" y="91"/>
                    </a:lnTo>
                    <a:lnTo>
                      <a:pt x="1753" y="140"/>
                    </a:lnTo>
                    <a:lnTo>
                      <a:pt x="1860" y="198"/>
                    </a:lnTo>
                    <a:lnTo>
                      <a:pt x="1926" y="255"/>
                    </a:lnTo>
                    <a:lnTo>
                      <a:pt x="1976" y="321"/>
                    </a:lnTo>
                    <a:lnTo>
                      <a:pt x="1992" y="387"/>
                    </a:lnTo>
                    <a:lnTo>
                      <a:pt x="1976" y="452"/>
                    </a:lnTo>
                    <a:lnTo>
                      <a:pt x="1926" y="518"/>
                    </a:lnTo>
                    <a:lnTo>
                      <a:pt x="1860" y="576"/>
                    </a:lnTo>
                    <a:lnTo>
                      <a:pt x="1753" y="633"/>
                    </a:lnTo>
                    <a:lnTo>
                      <a:pt x="1638" y="674"/>
                    </a:lnTo>
                    <a:lnTo>
                      <a:pt x="1490" y="715"/>
                    </a:lnTo>
                    <a:lnTo>
                      <a:pt x="1334" y="740"/>
                    </a:lnTo>
                    <a:lnTo>
                      <a:pt x="1169" y="756"/>
                    </a:lnTo>
                    <a:lnTo>
                      <a:pt x="996" y="765"/>
                    </a:lnTo>
                    <a:lnTo>
                      <a:pt x="823" y="756"/>
                    </a:lnTo>
                    <a:lnTo>
                      <a:pt x="659" y="740"/>
                    </a:lnTo>
                    <a:lnTo>
                      <a:pt x="502" y="715"/>
                    </a:lnTo>
                    <a:lnTo>
                      <a:pt x="354" y="674"/>
                    </a:lnTo>
                    <a:lnTo>
                      <a:pt x="239" y="633"/>
                    </a:lnTo>
                    <a:lnTo>
                      <a:pt x="132" y="576"/>
                    </a:lnTo>
                    <a:lnTo>
                      <a:pt x="66" y="518"/>
                    </a:lnTo>
                    <a:lnTo>
                      <a:pt x="17" y="452"/>
                    </a:lnTo>
                    <a:lnTo>
                      <a:pt x="0" y="38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286240" y="5475240"/>
                <a:ext cx="2941920" cy="1019160"/>
              </a:xfrm>
              <a:custGeom>
                <a:avLst/>
                <a:gdLst/>
                <a:ahLst/>
                <a:rect l="l" t="t" r="r" b="b"/>
                <a:pathLst>
                  <a:path w="1853" h="642">
                    <a:moveTo>
                      <a:pt x="0" y="321"/>
                    </a:moveTo>
                    <a:lnTo>
                      <a:pt x="16" y="263"/>
                    </a:lnTo>
                    <a:lnTo>
                      <a:pt x="58" y="206"/>
                    </a:lnTo>
                    <a:lnTo>
                      <a:pt x="140" y="148"/>
                    </a:lnTo>
                    <a:lnTo>
                      <a:pt x="239" y="107"/>
                    </a:lnTo>
                    <a:lnTo>
                      <a:pt x="362" y="66"/>
                    </a:lnTo>
                    <a:lnTo>
                      <a:pt x="510" y="33"/>
                    </a:lnTo>
                    <a:lnTo>
                      <a:pt x="667" y="8"/>
                    </a:lnTo>
                    <a:lnTo>
                      <a:pt x="840" y="0"/>
                    </a:lnTo>
                    <a:lnTo>
                      <a:pt x="1012" y="0"/>
                    </a:lnTo>
                    <a:lnTo>
                      <a:pt x="1177" y="8"/>
                    </a:lnTo>
                    <a:lnTo>
                      <a:pt x="1333" y="33"/>
                    </a:lnTo>
                    <a:lnTo>
                      <a:pt x="1482" y="66"/>
                    </a:lnTo>
                    <a:lnTo>
                      <a:pt x="1605" y="107"/>
                    </a:lnTo>
                    <a:lnTo>
                      <a:pt x="1712" y="148"/>
                    </a:lnTo>
                    <a:lnTo>
                      <a:pt x="1786" y="206"/>
                    </a:lnTo>
                    <a:lnTo>
                      <a:pt x="1835" y="263"/>
                    </a:lnTo>
                    <a:lnTo>
                      <a:pt x="1852" y="321"/>
                    </a:lnTo>
                    <a:lnTo>
                      <a:pt x="1835" y="378"/>
                    </a:lnTo>
                    <a:lnTo>
                      <a:pt x="1786" y="436"/>
                    </a:lnTo>
                    <a:lnTo>
                      <a:pt x="1712" y="493"/>
                    </a:lnTo>
                    <a:lnTo>
                      <a:pt x="1605" y="542"/>
                    </a:lnTo>
                    <a:lnTo>
                      <a:pt x="1482" y="584"/>
                    </a:lnTo>
                    <a:lnTo>
                      <a:pt x="1333" y="608"/>
                    </a:lnTo>
                    <a:lnTo>
                      <a:pt x="1177" y="633"/>
                    </a:lnTo>
                    <a:lnTo>
                      <a:pt x="1012" y="641"/>
                    </a:lnTo>
                    <a:lnTo>
                      <a:pt x="840" y="641"/>
                    </a:lnTo>
                    <a:lnTo>
                      <a:pt x="667" y="633"/>
                    </a:lnTo>
                    <a:lnTo>
                      <a:pt x="510" y="608"/>
                    </a:lnTo>
                    <a:lnTo>
                      <a:pt x="362" y="584"/>
                    </a:lnTo>
                    <a:lnTo>
                      <a:pt x="239" y="542"/>
                    </a:lnTo>
                    <a:lnTo>
                      <a:pt x="140" y="493"/>
                    </a:lnTo>
                    <a:lnTo>
                      <a:pt x="58" y="436"/>
                    </a:lnTo>
                    <a:lnTo>
                      <a:pt x="16" y="378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429160" y="5567400"/>
                <a:ext cx="2654280" cy="784080"/>
              </a:xfrm>
              <a:custGeom>
                <a:avLst/>
                <a:gdLst/>
                <a:ahLst/>
                <a:rect l="l" t="t" r="r" b="b"/>
                <a:pathLst>
                  <a:path w="1672" h="494">
                    <a:moveTo>
                      <a:pt x="0" y="246"/>
                    </a:moveTo>
                    <a:lnTo>
                      <a:pt x="17" y="197"/>
                    </a:lnTo>
                    <a:lnTo>
                      <a:pt x="66" y="156"/>
                    </a:lnTo>
                    <a:lnTo>
                      <a:pt x="140" y="115"/>
                    </a:lnTo>
                    <a:lnTo>
                      <a:pt x="247" y="74"/>
                    </a:lnTo>
                    <a:lnTo>
                      <a:pt x="371" y="41"/>
                    </a:lnTo>
                    <a:lnTo>
                      <a:pt x="519" y="24"/>
                    </a:lnTo>
                    <a:lnTo>
                      <a:pt x="675" y="8"/>
                    </a:lnTo>
                    <a:lnTo>
                      <a:pt x="832" y="0"/>
                    </a:lnTo>
                    <a:lnTo>
                      <a:pt x="996" y="8"/>
                    </a:lnTo>
                    <a:lnTo>
                      <a:pt x="1153" y="24"/>
                    </a:lnTo>
                    <a:lnTo>
                      <a:pt x="1301" y="41"/>
                    </a:lnTo>
                    <a:lnTo>
                      <a:pt x="1424" y="74"/>
                    </a:lnTo>
                    <a:lnTo>
                      <a:pt x="1523" y="115"/>
                    </a:lnTo>
                    <a:lnTo>
                      <a:pt x="1606" y="156"/>
                    </a:lnTo>
                    <a:lnTo>
                      <a:pt x="1655" y="197"/>
                    </a:lnTo>
                    <a:lnTo>
                      <a:pt x="1671" y="246"/>
                    </a:lnTo>
                    <a:lnTo>
                      <a:pt x="1655" y="295"/>
                    </a:lnTo>
                    <a:lnTo>
                      <a:pt x="1606" y="345"/>
                    </a:lnTo>
                    <a:lnTo>
                      <a:pt x="1523" y="386"/>
                    </a:lnTo>
                    <a:lnTo>
                      <a:pt x="1424" y="427"/>
                    </a:lnTo>
                    <a:lnTo>
                      <a:pt x="1301" y="452"/>
                    </a:lnTo>
                    <a:lnTo>
                      <a:pt x="1153" y="476"/>
                    </a:lnTo>
                    <a:lnTo>
                      <a:pt x="996" y="493"/>
                    </a:lnTo>
                    <a:lnTo>
                      <a:pt x="832" y="493"/>
                    </a:lnTo>
                    <a:lnTo>
                      <a:pt x="675" y="493"/>
                    </a:lnTo>
                    <a:lnTo>
                      <a:pt x="519" y="476"/>
                    </a:lnTo>
                    <a:lnTo>
                      <a:pt x="371" y="452"/>
                    </a:lnTo>
                    <a:lnTo>
                      <a:pt x="247" y="427"/>
                    </a:lnTo>
                    <a:lnTo>
                      <a:pt x="140" y="386"/>
                    </a:lnTo>
                    <a:lnTo>
                      <a:pt x="66" y="345"/>
                    </a:lnTo>
                    <a:lnTo>
                      <a:pt x="17" y="295"/>
                    </a:lnTo>
                    <a:lnTo>
                      <a:pt x="0" y="24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6462720" y="2057400"/>
              <a:ext cx="681120" cy="3994200"/>
              <a:chOff x="6462720" y="2057400"/>
              <a:chExt cx="681120" cy="3994200"/>
            </a:xfrm>
          </p:grpSpPr>
          <p:sp>
            <p:nvSpPr>
              <p:cNvPr id="74" name=""/>
              <p:cNvSpPr/>
              <p:nvPr/>
            </p:nvSpPr>
            <p:spPr>
              <a:xfrm>
                <a:off x="6553080" y="2239920"/>
                <a:ext cx="393840" cy="1176480"/>
              </a:xfrm>
              <a:custGeom>
                <a:avLst/>
                <a:gdLst/>
                <a:ahLst/>
                <a:rect l="l" t="t" r="r" b="b"/>
                <a:pathLst>
                  <a:path w="248" h="741">
                    <a:moveTo>
                      <a:pt x="247" y="649"/>
                    </a:moveTo>
                    <a:lnTo>
                      <a:pt x="247" y="0"/>
                    </a:lnTo>
                    <a:lnTo>
                      <a:pt x="0" y="0"/>
                    </a:lnTo>
                    <a:lnTo>
                      <a:pt x="0" y="649"/>
                    </a:lnTo>
                    <a:lnTo>
                      <a:pt x="0" y="657"/>
                    </a:lnTo>
                    <a:lnTo>
                      <a:pt x="17" y="699"/>
                    </a:lnTo>
                    <a:lnTo>
                      <a:pt x="50" y="723"/>
                    </a:lnTo>
                    <a:lnTo>
                      <a:pt x="99" y="740"/>
                    </a:lnTo>
                    <a:lnTo>
                      <a:pt x="157" y="740"/>
                    </a:lnTo>
                    <a:lnTo>
                      <a:pt x="206" y="723"/>
                    </a:lnTo>
                    <a:lnTo>
                      <a:pt x="239" y="699"/>
                    </a:lnTo>
                    <a:lnTo>
                      <a:pt x="247" y="657"/>
                    </a:lnTo>
                    <a:lnTo>
                      <a:pt x="247" y="64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553080" y="2057400"/>
                <a:ext cx="393840" cy="249120"/>
              </a:xfrm>
              <a:custGeom>
                <a:avLst/>
                <a:gdLst/>
                <a:ahLst/>
                <a:rect l="l" t="t" r="r" b="b"/>
                <a:pathLst>
                  <a:path w="248" h="157">
                    <a:moveTo>
                      <a:pt x="0" y="74"/>
                    </a:moveTo>
                    <a:lnTo>
                      <a:pt x="17" y="41"/>
                    </a:lnTo>
                    <a:lnTo>
                      <a:pt x="50" y="8"/>
                    </a:lnTo>
                    <a:lnTo>
                      <a:pt x="99" y="0"/>
                    </a:lnTo>
                    <a:lnTo>
                      <a:pt x="157" y="0"/>
                    </a:lnTo>
                    <a:lnTo>
                      <a:pt x="206" y="8"/>
                    </a:lnTo>
                    <a:lnTo>
                      <a:pt x="239" y="41"/>
                    </a:lnTo>
                    <a:lnTo>
                      <a:pt x="247" y="74"/>
                    </a:lnTo>
                    <a:lnTo>
                      <a:pt x="239" y="115"/>
                    </a:lnTo>
                    <a:lnTo>
                      <a:pt x="206" y="140"/>
                    </a:lnTo>
                    <a:lnTo>
                      <a:pt x="157" y="156"/>
                    </a:lnTo>
                    <a:lnTo>
                      <a:pt x="99" y="156"/>
                    </a:lnTo>
                    <a:lnTo>
                      <a:pt x="50" y="140"/>
                    </a:lnTo>
                    <a:lnTo>
                      <a:pt x="17" y="115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553080" y="4587840"/>
                <a:ext cx="393840" cy="1463760"/>
              </a:xfrm>
              <a:custGeom>
                <a:avLst/>
                <a:gdLst/>
                <a:ahLst/>
                <a:rect l="l" t="t" r="r" b="b"/>
                <a:pathLst>
                  <a:path w="248" h="922">
                    <a:moveTo>
                      <a:pt x="247" y="814"/>
                    </a:moveTo>
                    <a:lnTo>
                      <a:pt x="247" y="0"/>
                    </a:lnTo>
                    <a:lnTo>
                      <a:pt x="0" y="0"/>
                    </a:lnTo>
                    <a:lnTo>
                      <a:pt x="0" y="814"/>
                    </a:lnTo>
                    <a:lnTo>
                      <a:pt x="0" y="822"/>
                    </a:lnTo>
                    <a:lnTo>
                      <a:pt x="17" y="871"/>
                    </a:lnTo>
                    <a:lnTo>
                      <a:pt x="50" y="904"/>
                    </a:lnTo>
                    <a:lnTo>
                      <a:pt x="99" y="921"/>
                    </a:lnTo>
                    <a:lnTo>
                      <a:pt x="157" y="921"/>
                    </a:lnTo>
                    <a:lnTo>
                      <a:pt x="206" y="904"/>
                    </a:lnTo>
                    <a:lnTo>
                      <a:pt x="239" y="871"/>
                    </a:lnTo>
                    <a:lnTo>
                      <a:pt x="247" y="822"/>
                    </a:lnTo>
                    <a:lnTo>
                      <a:pt x="247" y="81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462720" y="2344680"/>
                <a:ext cx="681120" cy="392040"/>
              </a:xfrm>
              <a:custGeom>
                <a:avLst/>
                <a:gdLst/>
                <a:ahLst/>
                <a:rect l="l" t="t" r="r" b="b"/>
                <a:pathLst>
                  <a:path w="429" h="247">
                    <a:moveTo>
                      <a:pt x="57" y="0"/>
                    </a:moveTo>
                    <a:lnTo>
                      <a:pt x="16" y="49"/>
                    </a:lnTo>
                    <a:lnTo>
                      <a:pt x="0" y="98"/>
                    </a:lnTo>
                    <a:lnTo>
                      <a:pt x="16" y="156"/>
                    </a:lnTo>
                    <a:lnTo>
                      <a:pt x="66" y="205"/>
                    </a:lnTo>
                    <a:lnTo>
                      <a:pt x="131" y="230"/>
                    </a:lnTo>
                    <a:lnTo>
                      <a:pt x="214" y="246"/>
                    </a:lnTo>
                    <a:lnTo>
                      <a:pt x="296" y="230"/>
                    </a:lnTo>
                    <a:lnTo>
                      <a:pt x="362" y="205"/>
                    </a:lnTo>
                    <a:lnTo>
                      <a:pt x="411" y="156"/>
                    </a:lnTo>
                    <a:lnTo>
                      <a:pt x="428" y="98"/>
                    </a:lnTo>
                    <a:lnTo>
                      <a:pt x="411" y="4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"/>
          <p:cNvSpPr/>
          <p:nvPr/>
        </p:nvSpPr>
        <p:spPr>
          <a:xfrm>
            <a:off x="7050240" y="2344680"/>
            <a:ext cx="171360" cy="171360"/>
          </a:xfrm>
          <a:custGeom>
            <a:avLst/>
            <a:gdLst/>
            <a:ahLst/>
            <a:rect l="l" t="t" r="r" b="b"/>
            <a:pathLst>
              <a:path w="108" h="108">
                <a:moveTo>
                  <a:pt x="25" y="107"/>
                </a:moveTo>
                <a:lnTo>
                  <a:pt x="0" y="0"/>
                </a:lnTo>
                <a:lnTo>
                  <a:pt x="107" y="41"/>
                </a:lnTo>
                <a:lnTo>
                  <a:pt x="25" y="10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94320" y="33228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94320" y="393552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94320" y="60228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94320" y="4497480"/>
            <a:ext cx="0" cy="156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594320" y="3322440"/>
            <a:ext cx="0" cy="1174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78400" y="5985000"/>
            <a:ext cx="157320" cy="79200"/>
          </a:xfrm>
          <a:custGeom>
            <a:avLst/>
            <a:gdLst/>
            <a:ahLst/>
            <a:rect l="l" t="t" r="r" b="b"/>
            <a:pathLst>
              <a:path w="99" h="50">
                <a:moveTo>
                  <a:pt x="0" y="49"/>
                </a:moveTo>
                <a:lnTo>
                  <a:pt x="98" y="49"/>
                </a:lnTo>
                <a:lnTo>
                  <a:pt x="98" y="0"/>
                </a:lnTo>
                <a:lnTo>
                  <a:pt x="0" y="0"/>
                </a:lnTo>
                <a:lnTo>
                  <a:pt x="0" y="49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78400" y="3282840"/>
            <a:ext cx="157320" cy="68400"/>
          </a:xfrm>
          <a:custGeom>
            <a:avLst/>
            <a:gdLst/>
            <a:ahLst/>
            <a:rect l="l" t="t" r="r" b="b"/>
            <a:pathLst>
              <a:path w="99" h="43">
                <a:moveTo>
                  <a:pt x="0" y="42"/>
                </a:moveTo>
                <a:lnTo>
                  <a:pt x="98" y="42"/>
                </a:lnTo>
                <a:lnTo>
                  <a:pt x="98" y="0"/>
                </a:lnTo>
                <a:lnTo>
                  <a:pt x="0" y="0"/>
                </a:lnTo>
                <a:lnTo>
                  <a:pt x="0" y="42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78400" y="3909960"/>
            <a:ext cx="157320" cy="66600"/>
          </a:xfrm>
          <a:custGeom>
            <a:avLst/>
            <a:gdLst/>
            <a:ahLst/>
            <a:rect l="l" t="t" r="r" b="b"/>
            <a:pathLst>
              <a:path w="99" h="42">
                <a:moveTo>
                  <a:pt x="0" y="41"/>
                </a:moveTo>
                <a:lnTo>
                  <a:pt x="98" y="41"/>
                </a:lnTo>
                <a:lnTo>
                  <a:pt x="98" y="0"/>
                </a:lnTo>
                <a:lnTo>
                  <a:pt x="0" y="0"/>
                </a:lnTo>
                <a:lnTo>
                  <a:pt x="0" y="41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38960" y="4776840"/>
            <a:ext cx="8341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att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21600" y="4300560"/>
            <a:ext cx="392040" cy="48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8121600" y="5084640"/>
            <a:ext cx="392040" cy="58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78000" y="2049480"/>
            <a:ext cx="823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46920" y="2184480"/>
            <a:ext cx="695160" cy="117360"/>
          </a:xfrm>
          <a:custGeom>
            <a:avLst/>
            <a:gdLst/>
            <a:ahLst/>
            <a:rect l="l" t="t" r="r" b="b"/>
            <a:pathLst>
              <a:path w="438" h="74">
                <a:moveTo>
                  <a:pt x="437" y="8"/>
                </a:moveTo>
                <a:lnTo>
                  <a:pt x="288" y="0"/>
                </a:lnTo>
                <a:lnTo>
                  <a:pt x="140" y="24"/>
                </a:lnTo>
                <a:lnTo>
                  <a:pt x="0" y="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66600" y="2365200"/>
            <a:ext cx="1036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k he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889160" y="4708440"/>
            <a:ext cx="1480320" cy="519480"/>
            <a:chOff x="4889160" y="4708440"/>
            <a:chExt cx="1480320" cy="519480"/>
          </a:xfrm>
        </p:grpSpPr>
        <p:sp>
          <p:nvSpPr>
            <p:cNvPr id="94" name=""/>
            <p:cNvSpPr/>
            <p:nvPr/>
          </p:nvSpPr>
          <p:spPr>
            <a:xfrm>
              <a:off x="4943520" y="4708440"/>
              <a:ext cx="1373040" cy="196920"/>
            </a:xfrm>
            <a:custGeom>
              <a:avLst/>
              <a:gdLst/>
              <a:ahLst/>
              <a:rect l="l" t="t" r="r" b="b"/>
              <a:pathLst>
                <a:path w="865" h="124">
                  <a:moveTo>
                    <a:pt x="0" y="65"/>
                  </a:moveTo>
                  <a:lnTo>
                    <a:pt x="41" y="0"/>
                  </a:lnTo>
                  <a:lnTo>
                    <a:pt x="41" y="41"/>
                  </a:lnTo>
                  <a:lnTo>
                    <a:pt x="831" y="41"/>
                  </a:lnTo>
                  <a:lnTo>
                    <a:pt x="831" y="0"/>
                  </a:lnTo>
                  <a:lnTo>
                    <a:pt x="864" y="65"/>
                  </a:lnTo>
                  <a:lnTo>
                    <a:pt x="831" y="123"/>
                  </a:lnTo>
                  <a:lnTo>
                    <a:pt x="831" y="82"/>
                  </a:lnTo>
                  <a:lnTo>
                    <a:pt x="41" y="82"/>
                  </a:lnTo>
                  <a:lnTo>
                    <a:pt x="41" y="123"/>
                  </a:lnTo>
                  <a:lnTo>
                    <a:pt x="0" y="6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89160" y="4907160"/>
              <a:ext cx="14803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movem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731040" y="5670720"/>
            <a:ext cx="1396800" cy="798480"/>
            <a:chOff x="3731040" y="5670720"/>
            <a:chExt cx="1396800" cy="798480"/>
          </a:xfrm>
        </p:grpSpPr>
        <p:sp>
          <p:nvSpPr>
            <p:cNvPr id="97" name=""/>
            <p:cNvSpPr/>
            <p:nvPr/>
          </p:nvSpPr>
          <p:spPr>
            <a:xfrm>
              <a:off x="3731040" y="6148440"/>
              <a:ext cx="1396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assembl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91120" y="5670720"/>
              <a:ext cx="406440" cy="484200"/>
            </a:xfrm>
            <a:custGeom>
              <a:avLst/>
              <a:gdLst/>
              <a:ahLst/>
              <a:rect l="l" t="t" r="r" b="b"/>
              <a:pathLst>
                <a:path w="256" h="305">
                  <a:moveTo>
                    <a:pt x="8" y="304"/>
                  </a:moveTo>
                  <a:lnTo>
                    <a:pt x="0" y="230"/>
                  </a:lnTo>
                  <a:lnTo>
                    <a:pt x="16" y="156"/>
                  </a:lnTo>
                  <a:lnTo>
                    <a:pt x="57" y="91"/>
                  </a:lnTo>
                  <a:lnTo>
                    <a:pt x="115" y="41"/>
                  </a:lnTo>
                  <a:lnTo>
                    <a:pt x="181" y="9"/>
                  </a:lnTo>
                  <a:lnTo>
                    <a:pt x="25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5183280" y="2592360"/>
            <a:ext cx="288720" cy="731880"/>
          </a:xfrm>
          <a:custGeom>
            <a:avLst/>
            <a:gdLst/>
            <a:ahLst/>
            <a:rect l="l" t="t" r="r" b="b"/>
            <a:pathLst>
              <a:path w="182" h="461">
                <a:moveTo>
                  <a:pt x="0" y="0"/>
                </a:moveTo>
                <a:lnTo>
                  <a:pt x="82" y="66"/>
                </a:lnTo>
                <a:lnTo>
                  <a:pt x="140" y="156"/>
                </a:lnTo>
                <a:lnTo>
                  <a:pt x="173" y="255"/>
                </a:lnTo>
                <a:lnTo>
                  <a:pt x="181" y="353"/>
                </a:lnTo>
                <a:lnTo>
                  <a:pt x="165" y="4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675560" y="2255760"/>
            <a:ext cx="1291320" cy="792360"/>
            <a:chOff x="7675560" y="2255760"/>
            <a:chExt cx="1291320" cy="792360"/>
          </a:xfrm>
        </p:grpSpPr>
        <p:sp>
          <p:nvSpPr>
            <p:cNvPr id="101" name=""/>
            <p:cNvSpPr/>
            <p:nvPr/>
          </p:nvSpPr>
          <p:spPr>
            <a:xfrm>
              <a:off x="7765920" y="2563920"/>
              <a:ext cx="590760" cy="484200"/>
            </a:xfrm>
            <a:custGeom>
              <a:avLst/>
              <a:gdLst/>
              <a:ahLst/>
              <a:rect l="l" t="t" r="r" b="b"/>
              <a:pathLst>
                <a:path w="372" h="305">
                  <a:moveTo>
                    <a:pt x="371" y="0"/>
                  </a:moveTo>
                  <a:lnTo>
                    <a:pt x="255" y="33"/>
                  </a:lnTo>
                  <a:lnTo>
                    <a:pt x="148" y="107"/>
                  </a:lnTo>
                  <a:lnTo>
                    <a:pt x="58" y="197"/>
                  </a:lnTo>
                  <a:lnTo>
                    <a:pt x="0" y="3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7675560" y="2255760"/>
              <a:ext cx="1291320" cy="701640"/>
              <a:chOff x="7675560" y="2255760"/>
              <a:chExt cx="1291320" cy="701640"/>
            </a:xfrm>
          </p:grpSpPr>
          <p:sp>
            <p:nvSpPr>
              <p:cNvPr id="103" name=""/>
              <p:cNvSpPr/>
              <p:nvPr/>
            </p:nvSpPr>
            <p:spPr>
              <a:xfrm>
                <a:off x="8207280" y="2255760"/>
                <a:ext cx="7596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75560" y="2563920"/>
                <a:ext cx="484200" cy="393480"/>
              </a:xfrm>
              <a:custGeom>
                <a:avLst/>
                <a:gdLst/>
                <a:ahLst/>
                <a:rect l="l" t="t" r="r" b="b"/>
                <a:pathLst>
                  <a:path w="305" h="248">
                    <a:moveTo>
                      <a:pt x="304" y="0"/>
                    </a:moveTo>
                    <a:lnTo>
                      <a:pt x="222" y="0"/>
                    </a:lnTo>
                    <a:lnTo>
                      <a:pt x="139" y="33"/>
                    </a:lnTo>
                    <a:lnTo>
                      <a:pt x="74" y="90"/>
                    </a:lnTo>
                    <a:lnTo>
                      <a:pt x="24" y="164"/>
                    </a:lnTo>
                    <a:lnTo>
                      <a:pt x="0" y="2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"/>
          <p:cNvSpPr/>
          <p:nvPr/>
        </p:nvSpPr>
        <p:spPr>
          <a:xfrm>
            <a:off x="8199360" y="3127320"/>
            <a:ext cx="174600" cy="444600"/>
          </a:xfrm>
          <a:custGeom>
            <a:avLst/>
            <a:gdLst/>
            <a:ahLst/>
            <a:rect l="l" t="t" r="r" b="b"/>
            <a:pathLst>
              <a:path w="110" h="280">
                <a:moveTo>
                  <a:pt x="0" y="279"/>
                </a:moveTo>
                <a:lnTo>
                  <a:pt x="64" y="238"/>
                </a:lnTo>
                <a:lnTo>
                  <a:pt x="100" y="181"/>
                </a:lnTo>
                <a:lnTo>
                  <a:pt x="109" y="115"/>
                </a:lnTo>
                <a:lnTo>
                  <a:pt x="81" y="49"/>
                </a:lnTo>
                <a:lnTo>
                  <a:pt x="28" y="0"/>
                </a:lnTo>
                <a:lnTo>
                  <a:pt x="55" y="33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07440" y="3200400"/>
            <a:ext cx="738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46920" y="3127320"/>
            <a:ext cx="1471680" cy="484200"/>
          </a:xfrm>
          <a:custGeom>
            <a:avLst/>
            <a:gdLst/>
            <a:ahLst/>
            <a:rect l="l" t="t" r="r" b="b"/>
            <a:pathLst>
              <a:path w="927" h="305">
                <a:moveTo>
                  <a:pt x="890" y="304"/>
                </a:moveTo>
                <a:lnTo>
                  <a:pt x="0" y="123"/>
                </a:lnTo>
                <a:lnTo>
                  <a:pt x="926" y="0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72520" y="3075120"/>
            <a:ext cx="520560" cy="276120"/>
          </a:xfrm>
          <a:custGeom>
            <a:avLst/>
            <a:gdLst/>
            <a:ahLst/>
            <a:rect l="l" t="t" r="r" b="b"/>
            <a:pathLst>
              <a:path w="328" h="174">
                <a:moveTo>
                  <a:pt x="327" y="33"/>
                </a:moveTo>
                <a:lnTo>
                  <a:pt x="264" y="0"/>
                </a:lnTo>
                <a:lnTo>
                  <a:pt x="191" y="0"/>
                </a:lnTo>
                <a:lnTo>
                  <a:pt x="118" y="16"/>
                </a:lnTo>
                <a:lnTo>
                  <a:pt x="64" y="49"/>
                </a:lnTo>
                <a:lnTo>
                  <a:pt x="19" y="107"/>
                </a:lnTo>
                <a:lnTo>
                  <a:pt x="0" y="1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07560" y="1676520"/>
            <a:ext cx="8877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2057400"/>
            <a:ext cx="7632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560" y="4648320"/>
            <a:ext cx="3393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of read or wr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k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in mem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: 4k or 8k or 16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723E-2257-421F-A52E-D39DC8938C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Recovery with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6680" y="1905120"/>
            <a:ext cx="1690920" cy="47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9,X9,v9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ll comple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5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4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X2,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6280" y="2708280"/>
            <a:ext cx="22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recover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op at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20040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3886200"/>
            <a:ext cx="152280" cy="2666880"/>
          </a:xfrm>
          <a:custGeom>
            <a:avLst/>
            <a:gdLst>
              <a:gd name="textAreaLeft" fmla="*/ 0 w 152280"/>
              <a:gd name="textAreaRight" fmla="*/ 55080 w 15228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actions T2,T3,T4,T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5880" y="198108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4D0A-55C8-4908-B8CA-E594970E8B7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with checkpointing: database freezes during check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uld like to checkpoint while database is oper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: nonquiescent checkpo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92440" y="5603760"/>
            <a:ext cx="65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escent = being quiet, still, or at rest; in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quiescent = allowing transactions to be 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B444-E8AB-4393-AACB-8C0D3DB03C0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&lt;START CKPT(T1,…,Tk)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1,…,Tk are all activ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normal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ll of T1,…,Tk have completed, write &lt;END CKP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48DA-EC28-448E-8481-8F6A50CF1CA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Recovery with 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352680" y="1905120"/>
            <a:ext cx="2667240" cy="47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CKPT T4, T5, T6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END CK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46280" y="2708280"/>
            <a:ext cx="22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recover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op at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20040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3733920"/>
            <a:ext cx="76320" cy="1066680"/>
          </a:xfrm>
          <a:custGeom>
            <a:avLst/>
            <a:gdLst>
              <a:gd name="textAreaLeft" fmla="*/ 0 w 76320"/>
              <a:gd name="textAreaRight" fmla="*/ 2736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4, T5, T6, p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5880" y="198108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rlier transactions p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4, T5, T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72200" y="5029200"/>
            <a:ext cx="76320" cy="1523880"/>
          </a:xfrm>
          <a:custGeom>
            <a:avLst/>
            <a:gdLst>
              <a:gd name="textAreaLeft" fmla="*/ 0 w 76320"/>
              <a:gd name="textAreaRight" fmla="*/ 27360 w 763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8760" y="5791320"/>
            <a:ext cx="2626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Q: why do we n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&lt;END CKPT&gt;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02A0-7419-48EE-AC8A-A3B70F085BE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o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START T&gt; = transaction T has beg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COMMIT T&gt; = T has comm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ABORT T&gt;= T has ab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T,X,v&gt;= T has updated element X, and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is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3CBC-5188-4362-8876-84F4BF61F28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228600" y="914400"/>
          <a:ext cx="8534520" cy="49593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EB04-5711-496A-B48C-DE7FAE245FD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o-Logg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: If T modifies X, then both &lt;T,X,v&gt; and &lt;COMMIT T&gt; must be written to disk before OUTPU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: OUTPUTs are don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2D40-57D3-4EFA-B57D-28A79E88431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28600" y="914400"/>
          <a:ext cx="8534520" cy="49593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"/>
          <p:cNvSpPr/>
          <p:nvPr/>
        </p:nvSpPr>
        <p:spPr>
          <a:xfrm>
            <a:off x="380880" y="495288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62920" y="4419720"/>
            <a:ext cx="1371600" cy="61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49" idx="2"/>
            <a:endCxn id="248" idx="7"/>
          </p:cNvCxnSpPr>
          <p:nvPr/>
        </p:nvCxnSpPr>
        <p:spPr>
          <a:xfrm flipH="1">
            <a:off x="1550520" y="4728960"/>
            <a:ext cx="5612400" cy="30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304920" y="541008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49" idx="3"/>
            <a:endCxn id="251" idx="6"/>
          </p:cNvCxnSpPr>
          <p:nvPr/>
        </p:nvCxnSpPr>
        <p:spPr>
          <a:xfrm flipH="1">
            <a:off x="1676160" y="4948200"/>
            <a:ext cx="5688720" cy="72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72B3-DBC3-4BEF-AF5E-C51212BFBDB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ystem’s crash, run recovery manag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Decide for each transaction T whether it is completed or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COMMIT T&gt;…. 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ABORT T&gt;……. 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……………………   =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Read log from the beginning, redo all updates of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mit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9992-966E-4FA7-BADE-0FBC64E1A0E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977200" y="1905120"/>
            <a:ext cx="169092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 X2, 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438280" y="19051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2A64-8454-47B2-AE74-3DC8162D9A5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k Access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Times New Roman"/>
              </a:rPr>
              <a:t>Disk lat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ime between when command is issued and when data is 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latency = seek time + rotational la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k time = time for the head to reach cyl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ms – 40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ional latency = time for the sector to ro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tion time = 10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 latency = 10m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time = typically 40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s read/write one block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F644-9485-47B2-A5E0-1EAC3A454B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&lt;START CKPT(T1,…,Tk)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1,…,Tk are all activ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sh to disk all blocks of committed transaction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rty bloc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ile continuing normal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ll blocks have been written, write &lt;END CKP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49D0-8394-4074-B4C4-67F0EA97D0C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o Recovery with 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1905120"/>
            <a:ext cx="2667240" cy="47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T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COMMIT T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T4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CKPT T4, T5, T6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END CK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CKPT T9, T10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46280" y="2708280"/>
            <a:ext cx="208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END CK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20040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18840" y="2556000"/>
            <a:ext cx="165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r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i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4, T5, T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n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72200" y="32004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80" y="4633920"/>
            <a:ext cx="2038320" cy="916920"/>
          </a:xfrm>
          <a:prstGeom prst="borderCallout1">
            <a:avLst>
              <a:gd name="adj1" fmla="val 18750"/>
              <a:gd name="adj2" fmla="val -8333"/>
              <a:gd name="adj3" fmla="val 8986"/>
              <a:gd name="adj4" fmla="val 150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OUTPU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1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 to be on 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ABB4-33E9-4601-9092-6C1B11AFFA3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 Undo/Re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o log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must be done e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&lt;COMMIT T&gt; is seen, T definitely has written all its data to disk (hence, don’t need to redo) – ine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o lo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must be done 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&lt;COMMIT T&gt; is not seen, T definitely has not written any of its data to disk (hence there is not dirty data on disk, no need to undo) – inflex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like more flexibility on when to OUTPUT: undo/redo logging (n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B796-AED6-4E25-8C3E-6152D46545B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/Redo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 records, only one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T,X,u,v&gt;= T has updated element X,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was u, and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is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96FC-39C2-4CA7-BEBC-779A4D4F647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/Redo-Logging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1: If T modifies X, then &lt;T,X,u,v&gt; must be written to disk before OUTPU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we are free to OUTPUT early or late relative to &lt;COMMIT 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5635-F051-4800-8566-73D5527A384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228600" y="914400"/>
          <a:ext cx="8534520" cy="49593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T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1066680" y="6172200"/>
            <a:ext cx="72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OUTPUT whenever we want: before/after 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3194-D8A2-4C0E-88FD-C3965BE54DE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/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ystem’s crash, run recovery mana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 all committed transaction, top-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o all uncommitted transactions, bottom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6482-B323-455C-BC67-943FC137576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/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77200" y="1905120"/>
            <a:ext cx="169092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 X2, 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438280" y="19051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525780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F9EA-3A12-4A4E-9723-B3796695461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 Seek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we have N tracks, what is the average seek tim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ting from cylinder x to y takes time |x-y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419200" y="3781440"/>
                <a:ext cx="3621240" cy="25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66AD-ECA0-4FE4-8D0E-A936109702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ment in a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5181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0000"/>
          </a:bodyPr>
          <a:p>
            <a:pPr marL="137160" indent="-13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must be in RAM for DBMS to operate on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-137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of &lt;frame#, pageid&gt; pairs 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inta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-13716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LRU is not always g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529000" y="2095560"/>
            <a:ext cx="4230720" cy="1720800"/>
            <a:chOff x="2529000" y="2095560"/>
            <a:chExt cx="4230720" cy="1720800"/>
          </a:xfrm>
        </p:grpSpPr>
        <p:sp>
          <p:nvSpPr>
            <p:cNvPr id="122" name=""/>
            <p:cNvSpPr/>
            <p:nvPr/>
          </p:nvSpPr>
          <p:spPr>
            <a:xfrm>
              <a:off x="2541600" y="2108160"/>
              <a:ext cx="4205160" cy="1695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35120" y="2102040"/>
              <a:ext cx="67968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27400" y="2102040"/>
              <a:ext cx="68256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22560" y="2102040"/>
              <a:ext cx="6811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16640" y="2102040"/>
              <a:ext cx="6793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8560" y="2102040"/>
              <a:ext cx="6811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29000" y="264636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29000" y="326556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29000" y="2095560"/>
              <a:ext cx="69192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16440" y="2095560"/>
              <a:ext cx="69372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10160" y="3265560"/>
              <a:ext cx="69228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916440" y="4394160"/>
            <a:ext cx="1317600" cy="689040"/>
            <a:chOff x="3916440" y="4394160"/>
            <a:chExt cx="1317600" cy="689040"/>
          </a:xfrm>
        </p:grpSpPr>
        <p:grpSp>
          <p:nvGrpSpPr>
            <p:cNvPr id="134" name=""/>
            <p:cNvGrpSpPr/>
            <p:nvPr/>
          </p:nvGrpSpPr>
          <p:grpSpPr>
            <a:xfrm>
              <a:off x="3916440" y="4394160"/>
              <a:ext cx="1317600" cy="689040"/>
              <a:chOff x="3916440" y="4394160"/>
              <a:chExt cx="1317600" cy="689040"/>
            </a:xfrm>
          </p:grpSpPr>
          <p:sp>
            <p:nvSpPr>
              <p:cNvPr id="135" name=""/>
              <p:cNvSpPr/>
              <p:nvPr/>
            </p:nvSpPr>
            <p:spPr>
              <a:xfrm>
                <a:off x="3929040" y="4394160"/>
                <a:ext cx="1292400" cy="154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929040" y="4929120"/>
                <a:ext cx="1292400" cy="154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916440" y="4471920"/>
                <a:ext cx="0" cy="53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234040" y="4471920"/>
                <a:ext cx="0" cy="53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4232160" y="4500720"/>
              <a:ext cx="636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488960" y="4167360"/>
            <a:ext cx="2981520" cy="0"/>
          </a:xfrm>
          <a:prstGeom prst="line">
            <a:avLst/>
          </a:prstGeom>
          <a:ln w="12600">
            <a:solidFill>
              <a:srgbClr val="b76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94400" y="3790800"/>
            <a:ext cx="18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60f9"/>
                </a:solidFill>
                <a:latin typeface="Book Antiqua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02320" y="4289400"/>
            <a:ext cx="69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60f9"/>
                </a:solidFill>
                <a:latin typeface="Book Antiqua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54040" y="2270160"/>
            <a:ext cx="1041480" cy="301680"/>
          </a:xfrm>
          <a:custGeom>
            <a:avLst/>
            <a:gdLst/>
            <a:ahLst/>
            <a:rect l="l" t="t" r="r" b="b"/>
            <a:pathLst>
              <a:path w="656" h="190">
                <a:moveTo>
                  <a:pt x="0" y="189"/>
                </a:moveTo>
                <a:lnTo>
                  <a:pt x="3" y="155"/>
                </a:lnTo>
                <a:lnTo>
                  <a:pt x="16" y="135"/>
                </a:lnTo>
                <a:lnTo>
                  <a:pt x="23" y="114"/>
                </a:lnTo>
                <a:lnTo>
                  <a:pt x="50" y="81"/>
                </a:lnTo>
                <a:lnTo>
                  <a:pt x="71" y="54"/>
                </a:lnTo>
                <a:lnTo>
                  <a:pt x="98" y="33"/>
                </a:lnTo>
                <a:lnTo>
                  <a:pt x="126" y="6"/>
                </a:lnTo>
                <a:lnTo>
                  <a:pt x="146" y="0"/>
                </a:lnTo>
                <a:lnTo>
                  <a:pt x="166" y="0"/>
                </a:lnTo>
                <a:lnTo>
                  <a:pt x="186" y="6"/>
                </a:lnTo>
                <a:lnTo>
                  <a:pt x="207" y="20"/>
                </a:lnTo>
                <a:lnTo>
                  <a:pt x="227" y="33"/>
                </a:lnTo>
                <a:lnTo>
                  <a:pt x="248" y="54"/>
                </a:lnTo>
                <a:lnTo>
                  <a:pt x="268" y="68"/>
                </a:lnTo>
                <a:lnTo>
                  <a:pt x="289" y="87"/>
                </a:lnTo>
                <a:lnTo>
                  <a:pt x="317" y="101"/>
                </a:lnTo>
                <a:lnTo>
                  <a:pt x="344" y="114"/>
                </a:lnTo>
                <a:lnTo>
                  <a:pt x="364" y="114"/>
                </a:lnTo>
                <a:lnTo>
                  <a:pt x="391" y="114"/>
                </a:lnTo>
                <a:lnTo>
                  <a:pt x="412" y="114"/>
                </a:lnTo>
                <a:lnTo>
                  <a:pt x="439" y="114"/>
                </a:lnTo>
                <a:lnTo>
                  <a:pt x="467" y="114"/>
                </a:lnTo>
                <a:lnTo>
                  <a:pt x="494" y="108"/>
                </a:lnTo>
                <a:lnTo>
                  <a:pt x="514" y="101"/>
                </a:lnTo>
                <a:lnTo>
                  <a:pt x="549" y="95"/>
                </a:lnTo>
                <a:lnTo>
                  <a:pt x="576" y="81"/>
                </a:lnTo>
                <a:lnTo>
                  <a:pt x="596" y="68"/>
                </a:lnTo>
                <a:lnTo>
                  <a:pt x="617" y="54"/>
                </a:lnTo>
                <a:lnTo>
                  <a:pt x="637" y="41"/>
                </a:lnTo>
                <a:lnTo>
                  <a:pt x="655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59920" y="2548080"/>
            <a:ext cx="121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disk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97040" y="2967120"/>
            <a:ext cx="1039680" cy="299880"/>
          </a:xfrm>
          <a:custGeom>
            <a:avLst/>
            <a:gdLst/>
            <a:ahLst/>
            <a:rect l="l" t="t" r="r" b="b"/>
            <a:pathLst>
              <a:path w="655" h="189">
                <a:moveTo>
                  <a:pt x="0" y="188"/>
                </a:moveTo>
                <a:lnTo>
                  <a:pt x="3" y="154"/>
                </a:lnTo>
                <a:lnTo>
                  <a:pt x="16" y="134"/>
                </a:lnTo>
                <a:lnTo>
                  <a:pt x="23" y="114"/>
                </a:lnTo>
                <a:lnTo>
                  <a:pt x="50" y="81"/>
                </a:lnTo>
                <a:lnTo>
                  <a:pt x="71" y="54"/>
                </a:lnTo>
                <a:lnTo>
                  <a:pt x="98" y="33"/>
                </a:lnTo>
                <a:lnTo>
                  <a:pt x="125" y="6"/>
                </a:lnTo>
                <a:lnTo>
                  <a:pt x="145" y="0"/>
                </a:lnTo>
                <a:lnTo>
                  <a:pt x="166" y="0"/>
                </a:lnTo>
                <a:lnTo>
                  <a:pt x="186" y="6"/>
                </a:lnTo>
                <a:lnTo>
                  <a:pt x="207" y="20"/>
                </a:lnTo>
                <a:lnTo>
                  <a:pt x="227" y="33"/>
                </a:lnTo>
                <a:lnTo>
                  <a:pt x="248" y="54"/>
                </a:lnTo>
                <a:lnTo>
                  <a:pt x="268" y="67"/>
                </a:lnTo>
                <a:lnTo>
                  <a:pt x="289" y="87"/>
                </a:lnTo>
                <a:lnTo>
                  <a:pt x="316" y="100"/>
                </a:lnTo>
                <a:lnTo>
                  <a:pt x="343" y="114"/>
                </a:lnTo>
                <a:lnTo>
                  <a:pt x="363" y="114"/>
                </a:lnTo>
                <a:lnTo>
                  <a:pt x="391" y="114"/>
                </a:lnTo>
                <a:lnTo>
                  <a:pt x="411" y="114"/>
                </a:lnTo>
                <a:lnTo>
                  <a:pt x="439" y="114"/>
                </a:lnTo>
                <a:lnTo>
                  <a:pt x="466" y="114"/>
                </a:lnTo>
                <a:lnTo>
                  <a:pt x="493" y="107"/>
                </a:lnTo>
                <a:lnTo>
                  <a:pt x="513" y="100"/>
                </a:lnTo>
                <a:lnTo>
                  <a:pt x="548" y="94"/>
                </a:lnTo>
                <a:lnTo>
                  <a:pt x="575" y="81"/>
                </a:lnTo>
                <a:lnTo>
                  <a:pt x="595" y="67"/>
                </a:lnTo>
                <a:lnTo>
                  <a:pt x="616" y="54"/>
                </a:lnTo>
                <a:lnTo>
                  <a:pt x="636" y="40"/>
                </a:lnTo>
                <a:lnTo>
                  <a:pt x="654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09240" y="3241800"/>
            <a:ext cx="132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free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10160" y="1477800"/>
            <a:ext cx="0" cy="549360"/>
          </a:xfrm>
          <a:prstGeom prst="line">
            <a:avLst/>
          </a:prstGeom>
          <a:ln w="25560">
            <a:solidFill>
              <a:srgbClr val="b2b2b2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38480" y="1038240"/>
            <a:ext cx="5095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Page Requests from Higher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90480" y="1798560"/>
            <a:ext cx="168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UFFER P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62440" y="4105440"/>
            <a:ext cx="1022400" cy="153720"/>
          </a:xfrm>
          <a:custGeom>
            <a:avLst/>
            <a:gdLst/>
            <a:ahLst/>
            <a:rect l="l" t="t" r="r" b="b"/>
            <a:pathLst>
              <a:path w="644" h="97">
                <a:moveTo>
                  <a:pt x="643" y="96"/>
                </a:moveTo>
                <a:lnTo>
                  <a:pt x="640" y="79"/>
                </a:lnTo>
                <a:lnTo>
                  <a:pt x="627" y="69"/>
                </a:lnTo>
                <a:lnTo>
                  <a:pt x="621" y="58"/>
                </a:lnTo>
                <a:lnTo>
                  <a:pt x="594" y="41"/>
                </a:lnTo>
                <a:lnTo>
                  <a:pt x="573" y="27"/>
                </a:lnTo>
                <a:lnTo>
                  <a:pt x="547" y="17"/>
                </a:lnTo>
                <a:lnTo>
                  <a:pt x="520" y="3"/>
                </a:lnTo>
                <a:lnTo>
                  <a:pt x="500" y="0"/>
                </a:lnTo>
                <a:lnTo>
                  <a:pt x="480" y="0"/>
                </a:lnTo>
                <a:lnTo>
                  <a:pt x="460" y="3"/>
                </a:lnTo>
                <a:lnTo>
                  <a:pt x="439" y="10"/>
                </a:lnTo>
                <a:lnTo>
                  <a:pt x="420" y="17"/>
                </a:lnTo>
                <a:lnTo>
                  <a:pt x="399" y="27"/>
                </a:lnTo>
                <a:lnTo>
                  <a:pt x="380" y="34"/>
                </a:lnTo>
                <a:lnTo>
                  <a:pt x="359" y="44"/>
                </a:lnTo>
                <a:lnTo>
                  <a:pt x="332" y="51"/>
                </a:lnTo>
                <a:lnTo>
                  <a:pt x="305" y="58"/>
                </a:lnTo>
                <a:lnTo>
                  <a:pt x="286" y="58"/>
                </a:lnTo>
                <a:lnTo>
                  <a:pt x="259" y="58"/>
                </a:lnTo>
                <a:lnTo>
                  <a:pt x="238" y="58"/>
                </a:lnTo>
                <a:lnTo>
                  <a:pt x="212" y="58"/>
                </a:lnTo>
                <a:lnTo>
                  <a:pt x="185" y="58"/>
                </a:lnTo>
                <a:lnTo>
                  <a:pt x="158" y="55"/>
                </a:lnTo>
                <a:lnTo>
                  <a:pt x="138" y="51"/>
                </a:lnTo>
                <a:lnTo>
                  <a:pt x="104" y="48"/>
                </a:lnTo>
                <a:lnTo>
                  <a:pt x="78" y="41"/>
                </a:lnTo>
                <a:lnTo>
                  <a:pt x="58" y="34"/>
                </a:lnTo>
                <a:lnTo>
                  <a:pt x="38" y="27"/>
                </a:lnTo>
                <a:lnTo>
                  <a:pt x="18" y="21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8920" y="4343400"/>
            <a:ext cx="2786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choice of frame dic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by </a:t>
            </a: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replacement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10160" y="3840120"/>
            <a:ext cx="0" cy="549360"/>
          </a:xfrm>
          <a:prstGeom prst="line">
            <a:avLst/>
          </a:prstGeom>
          <a:ln w="25560">
            <a:solidFill>
              <a:srgbClr val="b2b2b2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81000" y="1201320"/>
            <a:ext cx="1627200" cy="1172520"/>
          </a:xfrm>
          <a:prstGeom prst="wedgeEllipseCallout">
            <a:avLst>
              <a:gd name="adj1" fmla="val -131662"/>
              <a:gd name="adj2" fmla="val -466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15400" y="3182400"/>
            <a:ext cx="1960560" cy="1172520"/>
          </a:xfrm>
          <a:prstGeom prst="wedgeEllipseCallout">
            <a:avLst>
              <a:gd name="adj1" fmla="val -110194"/>
              <a:gd name="adj2" fmla="val 2976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U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1D82-4F9C-466C-AD92-F5F77946DE8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4440" y="1828800"/>
            <a:ext cx="8701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nages buffer pool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he pool provides space for a limi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pages from d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to decide on page replacement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ck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the higher levels of the DBMS to assume tha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data is in main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B86A-B0CF-4E0F-B3A5-CE46E383C5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3000" y="1600200"/>
            <a:ext cx="7239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hy not use the Operating System for the task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BMS may be able to anticipat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ccess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Hence, may also be able to perform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efe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BMS needs the ability to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es to disk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or recovery purp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87FB-17CA-42C9-B661-82CF9133E8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828800" y="1371600"/>
          <a:ext cx="6095880" cy="50799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 of Cras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ven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ong data 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aint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cl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cras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undancy: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.g. RAID, arch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e, theft, bankruptcy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y insurance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 jobs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 failures: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.g. pow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DATABAS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RECOV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193320" y="5392440"/>
            <a:ext cx="1702800" cy="1172520"/>
          </a:xfrm>
          <a:prstGeom prst="wedgeEllipseCallout">
            <a:avLst>
              <a:gd name="adj1" fmla="val 56824"/>
              <a:gd name="adj2" fmla="val 2381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0C5C-09B1-4468-AB88-5717BF1FD9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4-11-08T17:46:35Z</dcterms:modified>
  <cp:revision>280</cp:revision>
  <dc:subject/>
  <dc:title>Lecture 09:</dc:title>
</cp:coreProperties>
</file>