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3F78-D234-4D36-B82B-D9612284B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A2DD-0CEA-49AD-8860-79F12C0FC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allow SELECT count(*) FROM Patients WHERE Patient.disease = %d,  but only when the count is &gt; 10.  Suppose that there are &gt; 10 patients with flue, and the user knows that.  Adopting an instance-independent definition, this query is invalid; but with an instance-dependent definition the query is 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7D86-A8B6-41C4-A31E-2ACDF970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999-F700-470B-A697-711AA9EC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A34-2736-4B73-A55C-E604DED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94E-CCA5-4900-945D-1CEE9302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CC1-2E13-49C6-82F0-A239B2EF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C6D-E346-4855-AF33-53BB72A0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3FB-DE74-4419-88F2-418656E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787-49F6-4B40-94A6-25DFC042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892-1E24-4C6A-8CB4-ED92AF41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0C6-F6FC-4D92-AA7A-FEB42E01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5B4-07EF-432F-8C8B-4042B4A3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4E1-BF28-4002-B61C-56CDBCA1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A75-8192-412B-9B93-00D88A6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E042-2CE0-4140-9508-C295CE875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C81-C430-42C1-A877-67696463C6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1280" y="2666880"/>
            <a:ext cx="8657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3640" y="41911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800" y="4876920"/>
            <a:ext cx="786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840" y="5867280"/>
            <a:ext cx="71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Delinquen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81E-9431-4277-AB8A-B05F0920F0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1320" y="1905120"/>
            <a:ext cx="5712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51120" y="1351440"/>
            <a:ext cx="3437640" cy="1692360"/>
          </a:xfrm>
          <a:prstGeom prst="wedgeEllipseCallout">
            <a:avLst>
              <a:gd name="adj1" fmla="val -58041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31280" y="4924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52A-BDD0-4CD2-8A4C-F49790DB6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0" idx="4"/>
            <a:endCxn id="91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1" idx="6"/>
            <a:endCxn id="92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97" name=""/>
          <p:cNvCxnSpPr>
            <a:stCxn id="91" idx="4"/>
            <a:endCxn id="93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3" idx="6"/>
            <a:endCxn id="94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2" idx="5"/>
            <a:endCxn id="94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1"/>
            <a:endCxn id="92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01800" y="28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1720" y="343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51720" y="437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48400" y="44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06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060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9B8-E1C1-42E6-AA31-1F3E5F19F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Challenges in Data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l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Lea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48A-D6C3-4477-8C32-3F807F1B26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Anley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ced SQL Injection In SQL Server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ww.ngssoftwa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kage in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D2A-7B8E-48DA-9FFC-9CC70A926F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160" y="160020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your favorite shopping Website and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560" y="331488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19320" y="5435280"/>
            <a:ext cx="6781680" cy="1191240"/>
            <a:chOff x="1219320" y="5435280"/>
            <a:chExt cx="6781680" cy="1191240"/>
          </a:xfrm>
        </p:grpSpPr>
        <p:sp>
          <p:nvSpPr>
            <p:cNvPr id="117" name=""/>
            <p:cNvSpPr/>
            <p:nvPr/>
          </p:nvSpPr>
          <p:spPr>
            <a:xfrm>
              <a:off x="1219320" y="543528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order by date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67440" y="5816880"/>
              <a:ext cx="3557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/15/04’; drop table user;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6000" y="50292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19320" y="3747600"/>
            <a:ext cx="6781680" cy="1191240"/>
            <a:chOff x="1219320" y="3747600"/>
            <a:chExt cx="6781680" cy="1191240"/>
          </a:xfrm>
        </p:grpSpPr>
        <p:sp>
          <p:nvSpPr>
            <p:cNvPr id="121" name=""/>
            <p:cNvSpPr/>
            <p:nvPr/>
          </p:nvSpPr>
          <p:spPr>
            <a:xfrm>
              <a:off x="1219320" y="374760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order by date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72120" y="4128840"/>
              <a:ext cx="3399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/15/04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19320" y="2060280"/>
            <a:ext cx="6781680" cy="1191240"/>
            <a:chOff x="1219320" y="2060280"/>
            <a:chExt cx="6781680" cy="1191240"/>
          </a:xfrm>
        </p:grpSpPr>
        <p:sp>
          <p:nvSpPr>
            <p:cNvPr id="124" name=""/>
            <p:cNvSpPr/>
            <p:nvPr/>
          </p:nvSpPr>
          <p:spPr>
            <a:xfrm>
              <a:off x="1219320" y="206028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order by date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73200" y="2441880"/>
              <a:ext cx="3228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315-7358-4132-B450-1E49180A9B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4B6-B588-45CA-AB37-E4F9D9151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ssachusetts, the Group Insurance Commission (GIC) is responsible for purchasing health insurance for stat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 has to publish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440" y="5105520"/>
            <a:ext cx="7372440" cy="53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689-12E1-4082-8B52-E7641C4347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paid $20 and bought the voter registration list for Cambridge Massachuset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7440" y="4724280"/>
            <a:ext cx="7372440" cy="107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(name, party, ..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829-3157-4118-9DC8-E1050E6932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Weld (former governor) lives in Cambridge, hence is in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ople in VOTER share 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 of them were man (s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d was the only one in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learned Weld’s medical record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160" y="20574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403-90D8-4B3F-A5D5-333771D09F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Databas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 Data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mory hierarchy – 11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s – 1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2964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140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1F8-3EF5-4CDC-85B7-20958EF44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worked as specified, yet an important data has lea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20" y="5257800"/>
            <a:ext cx="73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me of today’s research in data security address breach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happen even if all systems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856-AAAC-4B46-A267-87B6E4ECD3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kage in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6720" y="198108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(name, department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2901960"/>
            <a:ext cx="4254480" cy="25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Em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SELECT name, depart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ROM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Ph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SELECT department, ph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ROM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79720" y="3114720"/>
            <a:ext cx="28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keep secr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mployees’ ph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0440" y="4773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8920" y="61722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leakag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4A-BEE1-4322-8814-42D9E92E96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-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provides only coarse-graine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implemented by th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policies checked at each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get it wrong: SQL inje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BD9-805D-4B01-9113-E4FE96CCF9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Specifica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5160" y="2666880"/>
            <a:ext cx="77108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UTHORIZATION VIEW PatientsForDoctor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Treats,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pid = Treats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eats.did = Doctor.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ctor.uid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use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access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(‘local’, ‘ssh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480" y="563868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racle 7i], [Rizvi et al.200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57360" y="5009040"/>
            <a:ext cx="2161800" cy="1692360"/>
          </a:xfrm>
          <a:prstGeom prst="wedgeEllipseCallout">
            <a:avLst>
              <a:gd name="adj1" fmla="val -90157"/>
              <a:gd name="adj2" fmla="val -33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rac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0640" y="617220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olicy languages fo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3840" y="1549440"/>
            <a:ext cx="76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o) many exists.  The good ones re-use a declarative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e.g. SQL, Xpath,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D5F-AC9B-4C66-862A-0F8AA43CD2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query analysis/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440" y="2057400"/>
            <a:ext cx="4460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4343400"/>
            <a:ext cx="50817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eats,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tient.pid = Treats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Treats.did = Doctor.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Doctor.userID = 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4290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4800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092-B49D-4958-A348-67672DD111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man Model: transform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al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RIT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mislead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n-Truman model: reject queries_x0008__x0008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or 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query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le semantics: instance dependent or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60958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izvi et al. SIGMOD 200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8280" y="3200400"/>
            <a:ext cx="185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7CA-E55C-4677-B34C-0F4539F67A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II of this Cours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manager (recovery, concurre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343-64F0-417C-9E5A-AB65C77AD0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DBM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larg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queries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ultiple users to access the database concurrently and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durability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will we do all thi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24A-3660-49A3-88D7-B0A6C666C7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4320" y="1217880"/>
            <a:ext cx="3362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/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960" y="198108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4760" y="434340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173040"/>
            <a:ext cx="2971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ana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ging/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560" y="19810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3962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124080" y="25905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E3F-CB4E-4C9B-9222-75350D1266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800" y="179388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 Memor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s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514600"/>
            <a:ext cx="23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-10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08240" y="2362320"/>
            <a:ext cx="295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-4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s G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ti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 a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-15 m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, ro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cords “clo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6200" y="2438280"/>
            <a:ext cx="32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MB/S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 GB typ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sequent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0120" y="54864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s time 10 nan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100-005E-4B15-AB5C-1328B8B388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560" y="2666880"/>
            <a:ext cx="859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privileges ON object TO users [WITH GRANT OPTIO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886200"/>
            <a:ext cx="55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034-2107-4E0C-AAFE-65C48EFEE9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, mos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 2GB are common on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atabases could fit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ndustry trend: Main Memor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TimesTen, DataBl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ssue is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store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2B8-311A-4FC5-84C9-BE11E83D2E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, cheaper tha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ith a main memory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666-A169-4B4D-92D0-D610446652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torage 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705360" cy="46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D46-FDB1-482A-B0A9-441683CF33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221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233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234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59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924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4028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9048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9820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7DA-D220-452C-BEB3-174409CEA98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0480" y="1828800"/>
            <a:ext cx="8701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F53-DA4A-4B62-9AA7-A280B9C808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6880" y="1600200"/>
            <a:ext cx="7239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EB9-B5AE-4207-B611-D60F84FA94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ti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es or optical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slow: used for long term archiving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479-7697-45F0-B6A7-74DB88D396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262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265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276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280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300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303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307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309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093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087-E431-4574-AEAA-B056531318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s read/write one block at a time (typically 4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287-4AF9-4B4F-AD18-1AC1004991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419200" y="3781440"/>
                <a:ext cx="362124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95E-536E-4A98-ABDF-96C146E7BF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360" y="2057400"/>
            <a:ext cx="8709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INSERT, DELETE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7000" y="28195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3680" y="5181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5560" y="3352680"/>
            <a:ext cx="49539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9400" y="5562720"/>
            <a:ext cx="3099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9EB-C612-41F5-99A3-DAF1E9AB59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9320" y="2590920"/>
            <a:ext cx="4986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88620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184-BED9-4E7D-AB8F-2B35B31389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6440" y="2590920"/>
            <a:ext cx="7799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4880" y="36576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BAA-E9B8-4960-A658-36785F40B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9800" y="2514600"/>
            <a:ext cx="5246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680" y="4114800"/>
            <a:ext cx="85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(say)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752-1F4F-4642-A8C3-8DB81D6CDC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7760" y="4572000"/>
            <a:ext cx="5663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1960" y="1981080"/>
            <a:ext cx="40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(cid, name, address, …..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s(. . ., cid, …)    cid=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928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715-65FF-4F69-98F3-0C0F570231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SELECT rights on tabl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ebt collector: should see the delinquent customers on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6120" y="3733920"/>
            <a:ext cx="572508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s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Delinquent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balance &lt; 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DelinquentCustomers TO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93360" y="6248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an important secur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B67-CCA3-402C-80D1-6F537B5FAF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05T02:17:13Z</dcterms:modified>
  <cp:revision>291</cp:revision>
  <dc:subject/>
  <dc:title>Lecture 09:</dc:title>
</cp:coreProperties>
</file>