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1344-1380-4659-AF24-B8ECA95AC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7BDE-C72D-4D25-9C92-6C86430EB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allow SELECT count(*) FROM Patients WHERE Patient.disease = %d,  but only when the count is &gt; 10.  Suppose that there are &gt; 10 patients with flue, and the user knows that.  Adopting an instance-independent definition, this query is invalid; but with an instance-dependent definition the query is va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F8CD-29D4-4197-9557-E47B6D6CF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B14-122C-43A0-BB80-BEDBAFB5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109-6314-408C-BF7B-CE2604CC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199-A8F1-4A48-AA5E-E3D3EB73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530-E4DA-4ED5-8BEA-482105B5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E3F-795A-46C6-BF66-0410C769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881-E46D-46C0-A9D2-28EAC7F0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142-2A6F-47A6-A8F1-D8DFFEE8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A1A-7554-43BA-988C-71E4E119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8AF-3198-48E4-8C77-10B8B4A0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A91-FCF9-49C0-AB55-2D4CA80D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26F-0D16-4EB8-9CBE-5FD02BB4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358-D9D2-4A39-A4EB-704DF264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F99D-AFAB-406F-AB98-D5460BF10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6: Data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0C4-50A5-48E6-A423-C64F2D672C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k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1280" y="2666880"/>
            <a:ext cx="8657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  [GRANT OPTION FOR]   privile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ON object FROM users  {  RESTRICT  |   CASCADE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3640" y="419112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s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9800" y="4876920"/>
            <a:ext cx="7867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SELECT ON Customers 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1840" y="5867280"/>
            <a:ext cx="71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es SELECT privileges on Delinquent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679-9758-4254-AB7B-84B1F28A41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1320" y="1905120"/>
            <a:ext cx="5712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:  GRANT [….]  TO Bob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: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Cal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:  GRANT [….]  TO Bob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 REVOKE [….] FROM Art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51120" y="1351440"/>
            <a:ext cx="3437640" cy="1692360"/>
          </a:xfrm>
          <a:prstGeom prst="wedgeEllipseCallout">
            <a:avLst>
              <a:gd name="adj1" fmla="val -58041"/>
              <a:gd name="adj2" fmla="val 49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privileg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obje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31280" y="4924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D09-09A5-422D-B357-E2EA5EF56E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981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1508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1508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0" idx="4"/>
            <a:endCxn id="91" idx="0"/>
          </p:cNvCxnSpPr>
          <p:nvPr/>
        </p:nvCxnSpPr>
        <p:spPr>
          <a:xfrm>
            <a:off x="2285640" y="28954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1" idx="6"/>
            <a:endCxn id="92" idx="2"/>
          </p:cNvCxnSpPr>
          <p:nvPr/>
        </p:nvCxnSpPr>
        <p:spPr>
          <a:xfrm>
            <a:off x="2742840" y="396216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cxnSp>
        <p:nvCxnSpPr>
          <p:cNvPr id="97" name=""/>
          <p:cNvCxnSpPr>
            <a:stCxn id="91" idx="4"/>
            <a:endCxn id="93" idx="0"/>
          </p:cNvCxnSpPr>
          <p:nvPr/>
        </p:nvCxnSpPr>
        <p:spPr>
          <a:xfrm>
            <a:off x="22856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3" idx="6"/>
            <a:endCxn id="94" idx="2"/>
          </p:cNvCxnSpPr>
          <p:nvPr/>
        </p:nvCxnSpPr>
        <p:spPr>
          <a:xfrm>
            <a:off x="2742840" y="548604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2" idx="5"/>
            <a:endCxn id="94" idx="7"/>
          </p:cNvCxnSpPr>
          <p:nvPr/>
        </p:nvCxnSpPr>
        <p:spPr>
          <a:xfrm>
            <a:off x="5695560" y="428616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4" idx="1"/>
            <a:endCxn id="92" idx="3"/>
          </p:cNvCxnSpPr>
          <p:nvPr/>
        </p:nvCxnSpPr>
        <p:spPr>
          <a:xfrm flipV="1">
            <a:off x="5047920" y="428580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01800" y="2879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81720" y="343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51720" y="437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48400" y="44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306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2133720"/>
            <a:ext cx="1218960" cy="761760"/>
          </a:xfrm>
          <a:prstGeom prst="wedgeEllipseCallout">
            <a:avLst>
              <a:gd name="adj1" fmla="val -115236"/>
              <a:gd name="adj2" fmla="val 137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0600" y="617220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SQL everyone keeps the privi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402-40F1-4A30-9C3E-6E06AE2B2F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Challenges in Data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l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 Lea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90F-26E6-480D-A7B0-C00BF42908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 Anley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vanced SQL Injection In SQL Server 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ww.ngssoftwar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kage in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211-2D9E-46DD-90A2-19D603BAA9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160" y="1600200"/>
            <a:ext cx="61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your favorite shopping Website and 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560" y="331488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219320" y="5435280"/>
            <a:ext cx="6781680" cy="1191240"/>
            <a:chOff x="1219320" y="5435280"/>
            <a:chExt cx="6781680" cy="1191240"/>
          </a:xfrm>
        </p:grpSpPr>
        <p:sp>
          <p:nvSpPr>
            <p:cNvPr id="117" name=""/>
            <p:cNvSpPr/>
            <p:nvPr/>
          </p:nvSpPr>
          <p:spPr>
            <a:xfrm>
              <a:off x="1219320" y="5435280"/>
              <a:ext cx="678168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order by date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67440" y="5816880"/>
              <a:ext cx="3557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/15/04’; drop table user;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6000" y="50292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219320" y="3747600"/>
            <a:ext cx="6781680" cy="1191240"/>
            <a:chOff x="1219320" y="3747600"/>
            <a:chExt cx="6781680" cy="1191240"/>
          </a:xfrm>
        </p:grpSpPr>
        <p:sp>
          <p:nvSpPr>
            <p:cNvPr id="121" name=""/>
            <p:cNvSpPr/>
            <p:nvPr/>
          </p:nvSpPr>
          <p:spPr>
            <a:xfrm>
              <a:off x="1219320" y="3747600"/>
              <a:ext cx="678168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order by date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72120" y="4128840"/>
              <a:ext cx="33994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/15/04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219320" y="2060280"/>
            <a:ext cx="6781680" cy="1191240"/>
            <a:chOff x="1219320" y="2060280"/>
            <a:chExt cx="6781680" cy="1191240"/>
          </a:xfrm>
        </p:grpSpPr>
        <p:sp>
          <p:nvSpPr>
            <p:cNvPr id="124" name=""/>
            <p:cNvSpPr/>
            <p:nvPr/>
          </p:nvSpPr>
          <p:spPr>
            <a:xfrm>
              <a:off x="1219320" y="2060280"/>
              <a:ext cx="678168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order by date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73200" y="2441880"/>
              <a:ext cx="32288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167-A54F-47DF-8CF4-BF153EBFD2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BMS works perfectly.  So why is SQL injection possible so ofte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CBA-146F-4F7A-AEBD-52E9CEF2C9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ssachusetts, the Group Insurance Commission (GIC) is responsible for purchasing health insurance for state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 has to publish the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7440" y="5105520"/>
            <a:ext cx="7372440" cy="53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agnosis, procedur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4EC-91E3-4DBE-B857-A5CDBE14F3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 paid $20 and bought the voter registration list for Cambridge Massachuset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7440" y="4724280"/>
            <a:ext cx="7372440" cy="107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agnosis, procedur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R(name, party, ...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704-5C48-47B2-B4FF-B2FEF0B9AB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iam Weld (former governor) lives in Cambridge, hence is in VO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people in VOTER share h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3 of them were man (sa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d was the only one in 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 learned Weld’s medical record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160" y="205740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E9B-34D7-4F7F-8101-A15751E45B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curity – 8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: Database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: Data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mory hierarchy – 11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s – 11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72964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14040" tIns="-913680" bIns="-9136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D8D-534D-4077-A389-C5C45CDA19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ystems worked as specified, yet an important data has lea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protect against tha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520" y="5257800"/>
            <a:ext cx="735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me of today’s research in data security address breache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at happen even if all systems work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F775-E34F-4B4A-9168-B42FA71D9B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kage in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6720" y="198108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(name, department, 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2720" y="2901960"/>
            <a:ext cx="4254480" cy="25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Em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SELECT name, depart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FROM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Ph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SELECT department, ph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FROM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79720" y="3114720"/>
            <a:ext cx="28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keep secr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mployees’ ph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0440" y="4773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8920" y="61722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leakag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609-C533-4B4F-BC58-A331321972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Tren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e-grained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provides only coarse-grained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, implemented by the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 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policies checked at each us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get it wrong: SQL injec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580-3ACA-4A93-B36A-0D494F6BE4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y Specificati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5160" y="2666880"/>
            <a:ext cx="77108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UTHORIZATION VIEW PatientsForDoctor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, Treats, Do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pid = Treats.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eats.did = Doctor.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ctor.uid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%use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%access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(‘local’, ‘ssh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1480" y="563868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racle 7i], [Rizvi et al.200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57360" y="5009040"/>
            <a:ext cx="2161800" cy="1692360"/>
          </a:xfrm>
          <a:prstGeom prst="wedgeEllipseCallout">
            <a:avLst>
              <a:gd name="adj1" fmla="val -90157"/>
              <a:gd name="adj2" fmla="val -3398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racl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0640" y="6172200"/>
            <a:ext cx="44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policy languages for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3840" y="1549440"/>
            <a:ext cx="76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oo) many exists.  The good ones re-use a declarative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, e.g. SQL, Xpath, 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60D-B09B-4CD7-B6EA-8FDBE80E8F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query analysis/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440" y="2057400"/>
            <a:ext cx="4460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name, Patient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disease = ‘fl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4343400"/>
            <a:ext cx="50817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name, Patient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eats, Do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disease = ‘fl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Patient.pid = Treats.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Treats.did = Doctor.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Doctor.userID = %current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34290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48006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489-E395-4E2C-9675-E79B35FF3D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uman Model: transform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all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WRITE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misleading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n-Truman model: reject queries_x0008__x0008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or REJECT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query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le semantics: instance dependent or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609588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Rizvi et al. SIGMOD 200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8280" y="3200400"/>
            <a:ext cx="1854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020-E8E8-4DEE-8DAB-FAEDC55279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II of this Cours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manager (recovery, concurrenc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255-6968-4DA8-A922-C59B96CF42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a DBM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large amount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queries e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multiple users to access the database concurrently and saf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durability of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 will we do all thi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B67-37C4-4427-93B7-E9556AD59A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eric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24320" y="1217880"/>
            <a:ext cx="3362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compiler/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19810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38862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8954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487692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57913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62485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20574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68920" y="301320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/record m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7400" y="39625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1080" y="495288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32480" y="6213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39840"/>
            <a:ext cx="198108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8360" y="68580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360" y="609480"/>
            <a:ext cx="9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181480" y="1905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41800" y="148896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960" y="1981080"/>
            <a:ext cx="11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r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42160" y="3317760"/>
            <a:ext cx="15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4760" y="434340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d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9144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3173040"/>
            <a:ext cx="2971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manag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ging/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1560" y="19810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39625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124080" y="25905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F52-09CC-4BC6-887C-BD11BF7164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mor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800" y="1793880"/>
            <a:ext cx="72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ain Memor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sk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514600"/>
            <a:ext cx="232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ac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-10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08240" y="2362320"/>
            <a:ext cx="295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-4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s GB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tim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s a blo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-15 mse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, rot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records “clo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6200" y="2438280"/>
            <a:ext cx="32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MB/S transf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0 GB typ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sequentia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for op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0120" y="548640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cess time 10 nano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559-ECD4-4F26-AA00-B052967D97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onary Access Control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3560" y="2666880"/>
            <a:ext cx="8593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privileges ON object TO users [WITH GRANT OPTION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886200"/>
            <a:ext cx="557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 =  SELECT  |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INSERT(column-name)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DELETE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REFERENCES(column-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= table  | 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D11-B664-4EBF-8306-0B04AD2C6E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est, most 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: 2GB are common on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atabases could fit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industry trend: Main Memor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 TimesTen, DataBl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ssue is vola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 to store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1FB-34A5-43A5-A9B6-73FA2DC464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er, cheaper tha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ith a main memory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4AD-3201-4356-96EC-16C5B44C52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Storage for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6705360" cy="460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FDD-CE55-445C-9CD5-02B3B9A5C4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int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LRU is not always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221" name="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233" name="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234" name="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0" y="379080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02320" y="4289400"/>
            <a:ext cx="69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54040" y="2270160"/>
            <a:ext cx="1041480" cy="301680"/>
          </a:xfrm>
          <a:custGeom>
            <a:avLst/>
            <a:gdLst/>
            <a:ahLst/>
            <a:rect l="l" t="t" r="r" b="b"/>
            <a:pathLst>
              <a:path w="656" h="190">
                <a:moveTo>
                  <a:pt x="0" y="189"/>
                </a:moveTo>
                <a:lnTo>
                  <a:pt x="3" y="155"/>
                </a:lnTo>
                <a:lnTo>
                  <a:pt x="16" y="135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6" y="6"/>
                </a:lnTo>
                <a:lnTo>
                  <a:pt x="146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8"/>
                </a:lnTo>
                <a:lnTo>
                  <a:pt x="289" y="87"/>
                </a:lnTo>
                <a:lnTo>
                  <a:pt x="317" y="101"/>
                </a:lnTo>
                <a:lnTo>
                  <a:pt x="344" y="114"/>
                </a:lnTo>
                <a:lnTo>
                  <a:pt x="364" y="114"/>
                </a:lnTo>
                <a:lnTo>
                  <a:pt x="391" y="114"/>
                </a:lnTo>
                <a:lnTo>
                  <a:pt x="412" y="114"/>
                </a:lnTo>
                <a:lnTo>
                  <a:pt x="439" y="114"/>
                </a:lnTo>
                <a:lnTo>
                  <a:pt x="467" y="114"/>
                </a:lnTo>
                <a:lnTo>
                  <a:pt x="494" y="108"/>
                </a:lnTo>
                <a:lnTo>
                  <a:pt x="514" y="101"/>
                </a:lnTo>
                <a:lnTo>
                  <a:pt x="549" y="95"/>
                </a:lnTo>
                <a:lnTo>
                  <a:pt x="576" y="81"/>
                </a:lnTo>
                <a:lnTo>
                  <a:pt x="596" y="68"/>
                </a:lnTo>
                <a:lnTo>
                  <a:pt x="617" y="54"/>
                </a:lnTo>
                <a:lnTo>
                  <a:pt x="637" y="41"/>
                </a:lnTo>
                <a:lnTo>
                  <a:pt x="65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59920" y="254808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97040" y="2967120"/>
            <a:ext cx="1039680" cy="299880"/>
          </a:xfrm>
          <a:custGeom>
            <a:avLst/>
            <a:gdLst/>
            <a:ahLst/>
            <a:rect l="l" t="t" r="r" b="b"/>
            <a:pathLst>
              <a:path w="655" h="189">
                <a:moveTo>
                  <a:pt x="0" y="188"/>
                </a:moveTo>
                <a:lnTo>
                  <a:pt x="3" y="154"/>
                </a:lnTo>
                <a:lnTo>
                  <a:pt x="16" y="134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5" y="6"/>
                </a:lnTo>
                <a:lnTo>
                  <a:pt x="145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7"/>
                </a:lnTo>
                <a:lnTo>
                  <a:pt x="289" y="87"/>
                </a:lnTo>
                <a:lnTo>
                  <a:pt x="316" y="100"/>
                </a:lnTo>
                <a:lnTo>
                  <a:pt x="343" y="114"/>
                </a:lnTo>
                <a:lnTo>
                  <a:pt x="363" y="114"/>
                </a:lnTo>
                <a:lnTo>
                  <a:pt x="391" y="114"/>
                </a:lnTo>
                <a:lnTo>
                  <a:pt x="411" y="114"/>
                </a:lnTo>
                <a:lnTo>
                  <a:pt x="439" y="114"/>
                </a:lnTo>
                <a:lnTo>
                  <a:pt x="466" y="114"/>
                </a:lnTo>
                <a:lnTo>
                  <a:pt x="493" y="107"/>
                </a:lnTo>
                <a:lnTo>
                  <a:pt x="513" y="100"/>
                </a:lnTo>
                <a:lnTo>
                  <a:pt x="548" y="94"/>
                </a:lnTo>
                <a:lnTo>
                  <a:pt x="575" y="81"/>
                </a:lnTo>
                <a:lnTo>
                  <a:pt x="595" y="67"/>
                </a:lnTo>
                <a:lnTo>
                  <a:pt x="616" y="54"/>
                </a:lnTo>
                <a:lnTo>
                  <a:pt x="636" y="40"/>
                </a:lnTo>
                <a:lnTo>
                  <a:pt x="65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09240" y="3241800"/>
            <a:ext cx="132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40280" y="1038240"/>
            <a:ext cx="509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90480" y="1798560"/>
            <a:ext cx="16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62440" y="4105440"/>
            <a:ext cx="1022400" cy="153720"/>
          </a:xfrm>
          <a:custGeom>
            <a:avLst/>
            <a:gdLst/>
            <a:ahLst/>
            <a:rect l="l" t="t" r="r" b="b"/>
            <a:pathLst>
              <a:path w="644" h="97">
                <a:moveTo>
                  <a:pt x="643" y="96"/>
                </a:moveTo>
                <a:lnTo>
                  <a:pt x="640" y="79"/>
                </a:lnTo>
                <a:lnTo>
                  <a:pt x="627" y="69"/>
                </a:lnTo>
                <a:lnTo>
                  <a:pt x="621" y="58"/>
                </a:lnTo>
                <a:lnTo>
                  <a:pt x="594" y="41"/>
                </a:lnTo>
                <a:lnTo>
                  <a:pt x="573" y="27"/>
                </a:lnTo>
                <a:lnTo>
                  <a:pt x="547" y="17"/>
                </a:lnTo>
                <a:lnTo>
                  <a:pt x="520" y="3"/>
                </a:lnTo>
                <a:lnTo>
                  <a:pt x="500" y="0"/>
                </a:lnTo>
                <a:lnTo>
                  <a:pt x="480" y="0"/>
                </a:lnTo>
                <a:lnTo>
                  <a:pt x="460" y="3"/>
                </a:lnTo>
                <a:lnTo>
                  <a:pt x="439" y="10"/>
                </a:lnTo>
                <a:lnTo>
                  <a:pt x="420" y="17"/>
                </a:lnTo>
                <a:lnTo>
                  <a:pt x="399" y="27"/>
                </a:lnTo>
                <a:lnTo>
                  <a:pt x="380" y="34"/>
                </a:lnTo>
                <a:lnTo>
                  <a:pt x="359" y="44"/>
                </a:lnTo>
                <a:lnTo>
                  <a:pt x="332" y="51"/>
                </a:lnTo>
                <a:lnTo>
                  <a:pt x="305" y="58"/>
                </a:lnTo>
                <a:lnTo>
                  <a:pt x="286" y="58"/>
                </a:lnTo>
                <a:lnTo>
                  <a:pt x="259" y="58"/>
                </a:lnTo>
                <a:lnTo>
                  <a:pt x="238" y="58"/>
                </a:lnTo>
                <a:lnTo>
                  <a:pt x="212" y="58"/>
                </a:lnTo>
                <a:lnTo>
                  <a:pt x="185" y="58"/>
                </a:lnTo>
                <a:lnTo>
                  <a:pt x="158" y="55"/>
                </a:lnTo>
                <a:lnTo>
                  <a:pt x="138" y="51"/>
                </a:lnTo>
                <a:lnTo>
                  <a:pt x="104" y="48"/>
                </a:lnTo>
                <a:lnTo>
                  <a:pt x="78" y="41"/>
                </a:lnTo>
                <a:lnTo>
                  <a:pt x="58" y="34"/>
                </a:lnTo>
                <a:lnTo>
                  <a:pt x="38" y="27"/>
                </a:lnTo>
                <a:lnTo>
                  <a:pt x="18" y="21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98200" y="4343400"/>
            <a:ext cx="278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7C6-B4E8-400A-8055-B48A730B2B7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0480" y="1828800"/>
            <a:ext cx="8701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nages buffer poo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pool provides space for a limi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ges from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646-F682-4B94-ACBD-11F094B056D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6880" y="1600200"/>
            <a:ext cx="7239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139-58BC-4400-B3D4-C4A5CC17D44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tiary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pes or optical 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ly slow: used for long term archiving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3CF2-57E1-4CA1-93B3-FB66F23F437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s of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speed (5400R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latters (1-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cks (&lt;=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ytes/track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262" name=""/>
            <p:cNvSpPr/>
            <p:nvPr/>
          </p:nvSpPr>
          <p:spPr>
            <a:xfrm>
              <a:off x="5208480" y="337464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08480" y="278748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265" name="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5181480" y="54356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276" name=""/>
              <p:cNvSpPr/>
              <p:nvPr/>
            </p:nvSpPr>
            <p:spPr>
              <a:xfrm>
                <a:off x="5181480" y="53704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286240" y="54752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429160" y="55674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280" name=""/>
              <p:cNvSpPr/>
              <p:nvPr/>
            </p:nvSpPr>
            <p:spPr>
              <a:xfrm>
                <a:off x="6553080" y="22399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53080" y="20574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553080" y="45878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62720" y="23446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7050240" y="2344680"/>
            <a:ext cx="17136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78400" y="59850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78400" y="32828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78400" y="39099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798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46920" y="21844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6732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300" name=""/>
            <p:cNvSpPr/>
            <p:nvPr/>
          </p:nvSpPr>
          <p:spPr>
            <a:xfrm>
              <a:off x="4943520" y="47084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731760" y="5670720"/>
            <a:ext cx="1396800" cy="798480"/>
            <a:chOff x="3731760" y="5670720"/>
            <a:chExt cx="1396800" cy="798480"/>
          </a:xfrm>
        </p:grpSpPr>
        <p:sp>
          <p:nvSpPr>
            <p:cNvPr id="303" name=""/>
            <p:cNvSpPr/>
            <p:nvPr/>
          </p:nvSpPr>
          <p:spPr>
            <a:xfrm>
              <a:off x="373176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91120" y="56707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183280" y="25923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307" name=""/>
            <p:cNvSpPr/>
            <p:nvPr/>
          </p:nvSpPr>
          <p:spPr>
            <a:xfrm>
              <a:off x="7765920" y="25639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309" name="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675560" y="25639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8199360" y="31273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46920" y="31273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72520" y="30751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09360" y="1676520"/>
            <a:ext cx="887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2057400"/>
            <a:ext cx="7632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634-F1C8-4DDF-B875-BD52A0EE424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Access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Disk lat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ime between when command is issued and when data is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latency = seek time + rotational la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 time = time for the head to reach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s – 4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al latency = time for the sector to 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 time = 1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latency = 10ms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time = typically 40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s read/write one block at a time (typically 4k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8EB-B286-4E43-96C1-76483D51D1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Seek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have N tracks, what is the average seek ti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from cylinder x to y takes time |x-y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419200" y="3781440"/>
                <a:ext cx="3621240" cy="25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527-DC42-467F-B296-5FFA9AB0FA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5360" y="2057400"/>
            <a:ext cx="8709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INSERT, DELETE ON Customer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upp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7000" y="281952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allow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3680" y="518148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deni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5560" y="3352680"/>
            <a:ext cx="495396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Customers(cid, name, addres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VALUES(32940, ‘Joe Blow’, ‘Seatt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LastPurchaseDate &lt;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9400" y="5562720"/>
            <a:ext cx="30992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Customer.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name = ‘Joe Blow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5DF-9028-4A25-BF0F-18AD1B0938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9320" y="2590920"/>
            <a:ext cx="4986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320" y="388620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, but not INSERT or 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5C4-8552-45D7-A6F1-8142935C8D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6440" y="2590920"/>
            <a:ext cx="7799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4880" y="36576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a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 on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FD66-C95A-49CF-875F-040E6CB7A1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9800" y="2514600"/>
            <a:ext cx="5246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UPDATE (price)  ON Product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680" y="4114800"/>
            <a:ext cx="85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pdate, but only Product.price, but not (say)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D72-538E-4DE0-8F7D-7C81BDB386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7760" y="4572000"/>
            <a:ext cx="5663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REFERENCES (cid)  ON Customer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1960" y="1981080"/>
            <a:ext cx="4068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(cid, name, address, …..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s(. . ., cid, …)    cid=foreig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89280" y="533412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INSERT tuples into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276720"/>
            <a:ext cx="56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s INSERT/UPDATE rights to 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HE CAN’T INSERT !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855-F3BE-410B-8BD7-4826401002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SELECT rights on table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debt collector: should see the delinquent customers on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6120" y="3733920"/>
            <a:ext cx="572508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sa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VIEW Delinquent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balance &lt; -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ON DelinquentCustomers TO 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93360" y="62485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an important security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13F-2ADD-4F3F-A87D-BC7300B2ED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05T02:17:13Z</dcterms:modified>
  <cp:revision>291</cp:revision>
  <dc:subject/>
  <dc:title>Lecture 09:</dc:title>
</cp:coreProperties>
</file>