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32C5-4F66-432F-9A97-B1A1A52B3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nal values are A=3, B=2.  If the two transactions were executed serially, then we would have either A=1,B=2,  or A=3,B=4.  This is not a serializable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93FA-9070-4D14-A301-E0504B593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7BE6-1D51-4A3F-8602-64C40142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6C55-DE56-47E4-BBA3-D15D9E5A2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1BEA-6908-498F-AFA0-2E6B95102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5830-EB13-47B1-A065-8C0A18B5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5280-5F4F-49C5-9215-A7996729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ABE9-6A7A-4446-B5F6-F94E9510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B19A-FAB0-4A2B-A5BA-A4B6B7AE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5EF0-A3DB-4A4A-987E-45B2B96F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85A1-F5BB-488B-85A9-93ABB671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07A8-A804-4786-87AA-92A6B0BF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7758-F040-4E78-84E8-8E45C653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08C6-F86B-4D64-BA8A-024D07FB5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November 3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582B-ADEB-464C-BF20-9C041DE81C4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forced with locks, like in Operating System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this is not enoug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679760" y="3352680"/>
            <a:ext cx="4463280" cy="3143160"/>
            <a:chOff x="1679760" y="3352680"/>
            <a:chExt cx="4463280" cy="3143160"/>
          </a:xfrm>
        </p:grpSpPr>
        <p:sp>
          <p:nvSpPr>
            <p:cNvPr id="73" name=""/>
            <p:cNvSpPr/>
            <p:nvPr/>
          </p:nvSpPr>
          <p:spPr>
            <a:xfrm>
              <a:off x="1679760" y="3352680"/>
              <a:ext cx="1491480" cy="314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OCK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[write A=1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NLOCK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 . 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 . 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 . 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 .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OCK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[write B=2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NLOCK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651560" y="4038480"/>
              <a:ext cx="1491480" cy="19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OCK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[write A=3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NLOCK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OCK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[write B=4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NLOCK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3200400" y="4038120"/>
              <a:ext cx="1523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00400" y="5410080"/>
              <a:ext cx="1447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366840" y="324180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920" y="297180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10600" y="6248520"/>
            <a:ext cx="21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wro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10280" y="312408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71120" y="529920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8040" y="3708360"/>
            <a:ext cx="90468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: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:=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01840" y="3733920"/>
            <a:ext cx="90468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:= 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:= 4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CF6C-46B1-4467-BF6F-9E933EEF9C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: two-phase lo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k everything at the begi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lock everything at 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locks: many simultaneous read locks allo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locks: only one write lock allo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locks: one per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4DD4-0B88-4C7E-B91F-E24B64093F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ing a trans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a computer-based system doing OLTP has a collec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rogram is written in a high-level language, which calls DBMS to perform individual SQ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ither through embedded SQL converted by pre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through Call Level Interface where application constructs appropriate string and passes it to DB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2461-82F8-4905-B773-6635A90C89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app program is executing, it is “in a transact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 can execute COMM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command to finish the transaction successfu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xt SQL statement will automatically start a new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9202-B468-4880-B677-492C94650D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dea of a transaction is hard to see when interacting directly with DBMS, instead of from an app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an interactive query interface to DBMS, by default each SQL statement is treated as a separate transaction (with implicit COMMIT at end) unless you explicitly say “START TRANSACT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3779-9E00-4D57-A908-C14FFBF820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imi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systems rule out having both DML and DDL statements in a single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.e., you can change the schema, or change the data, but not b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5B3A-8E88-4EB8-8E6B-DBB3D35B80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LLB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app gets to a place where it can’t complete the transaction successfully, it can execute ROLL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causes the system to “abort” the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atabase returns to the state without any of the previous changes made by activity of the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EF71-ABA0-4D7E-B83F-6E5AEA31C2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sons for Rollb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hanges their mind (“ctl-C”/canc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icit in program, when app program finds a probl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when qty on hand &lt; qty being s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-initiated ab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 cr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usekee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due to timeo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8376-25CA-42D0-9CCC-640520A230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shows either all the effects of txn, or none of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sis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xn moves from a state where integrity holds, to another where integrity ho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 of txns is the same as txns running one after another (ie looks like batch m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a txn has committed, its effects remain in the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277F-FFAA-499B-B8A8-E1E8BB2797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omi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ossible outcomes for a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mi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ll the changes are m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o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o changes are m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is, transaction’s activities ar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2A2E-5F62-4C7C-907C-AE494DE588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ID properties, and serialisability (some slides courtesy of Alan Fekecte, U. Sydne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k isolation levels in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: Chapter 8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1B95-B76A-46F7-A2E5-1401A6A367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ist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al world state is reflected by collections of values in the tables of the 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not every collection of values in a table makes sense in the real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ate of the tables is restricted by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ntegrity constr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account number is u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stock amount can’t be neg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69D2-5B69-4436-80A7-CF9064F60C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ist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constraints are explicit; enforced by DB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ke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tial integrity: foreign 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constraints are implc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are business rules that are supposed to 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7780-9CEC-4C54-A859-26AEF3ADC6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ist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transaction can be written on the assumption that all integrity constraints hold in the data, before the transaction ru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er must make sure that its changes leave the integrity constraints still ho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there are allowed to be intermediate states where the constraints do not 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8EC8-1EC5-45A1-B732-67881334C0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ansaction executes concurrently with other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LATION: the effect is as if each transaction executes in isolation of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64DB-9775-4EDC-9D64-60CA1579F9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r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ffect of a transaction must continue to exists after the transaction, or the whole program has termin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8427-F3A5-491E-96F8-642EECD326C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-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007400" cy="365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ore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d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toreID, q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d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esc, mnfr, …, warehouseQ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rder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rodID, qty, rcvd, …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ws never delet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goods received, rcvd is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( . . 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ff(. . 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1040" y="1676520"/>
            <a:ext cx="5334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for managing inven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291F-5E23-4DEA-86F4-73CBA2DC25C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-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ore: (prodID, store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: prod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: orde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eign 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ore.prodID references Product.prod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9C26-B020-4DB1-929F-D8C2C440D8D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-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ore.qty &gt;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.rcvd &lt;= current_date or Order.rcvd is 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p, (Sum of qty for product p among all stores and warehouse) &gt;=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p, (Sum of qty for product p among all stores and warehouse) &gt;= 70 or there is an outstanding order of product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CD9E-60C7-440E-8B91-AE6497D93A3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-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ale(store, product, q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ptReturn(store, product, q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cvOrder(or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ock(store, product, q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move from warehouse to 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arOut(store,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move all held from store to ware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(from, to, product, q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move goods between st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83E8-217B-4849-AEB1-395834A6FD7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6811920" cy="447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e Input (appropriate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qty INTO :t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In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StoreID = :store AND prodID = :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Produ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WarehouseQty = WarehouseQty + :t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prodID = :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In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Qty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prodID = :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49440" y="6172200"/>
            <a:ext cx="42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algorithms are also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- Clear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BFA7-4E34-4DC4-98A5-814DAE9C697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 two iss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by multiple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ion against cras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9EED-F0BC-49B1-9AC6-A01292B6B4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- Resto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149960" cy="48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val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 product, store, q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unt of product in warehouse &gt;= q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WarehouseQty = WarehouseQty - :q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prodID = :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record yet for product in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INTO InStore (:product, :store, :q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, UPDATE InSt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qty = qty + :q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prodID = :product and storeID = :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3DBB-1D82-4AAA-8DE8-8238C3C4610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91440" y="3124080"/>
            <a:ext cx="5856120" cy="285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ale log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 Instore.q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sum over all stores and ware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m &lt; 50, then ROLLBACK // Sale f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m &lt; 70, check for order where date is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ne found, insert new order for say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- Consist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write the app to keep integrity hold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1240" y="2438280"/>
            <a:ext cx="354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erminates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gram (like retur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29200" y="2438280"/>
            <a:ext cx="3886200" cy="99072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876560" y="3429000"/>
            <a:ext cx="1600200" cy="9144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1CED-9C06-460B-8151-62246F7CFE7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- Consist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on’t need any fancy logic for checking the business rules in Restock, ClearOut,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cause sum of qty not changed; presence of order not 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ovided integrity holds before txn, it will still hold afterw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on’t need fancy logic to check business rules in Accept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hecking logic needed for RcvOrd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8D2F-2014-49DF-8427-EF70E61716F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ats to data integ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for application roll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cra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t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ystem has mechanisms to handle the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8FCC-AD80-459F-82F2-1B09FBFF365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 rollb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ansaction may have made changes to the data before discovering that these aren’t appropr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ata is in state where integrity constraints are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executes RO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must somehow return to earlier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integrity constraints h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aborted transaction has no effect at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B536-67F4-43E0-A3F3-CEDC9E12319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running MakeSale, app changes InStore to reduce qty, then checks new s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new sum is below 50, txn ab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must change InStore to restore previous value of q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where, system must remember what the previous value wa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7662-8833-4041-8204-B01A017ADC3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cra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time of crash, an application program may be part-way through (and the data may not meet integrity constrai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, buffering can caus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system crash loses all buffered data, restart has only disk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s of a committed txn may be only in buffer, not yet recorded in disk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ck of coordination between flushes of different buffered pages, so even if current state satisfies constraints, the disk state may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4D26-8511-47CB-A12E-06D5773B0F2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crash occurs af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Sale has reduced InStore.q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nd that new sum is 6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nd there is no unfilled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but before it has inserted new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ime of crash, integrity constraint did not 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art process must clean this up (effectively aborting the txn that was in progress when the crash happen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6E4F-D653-4E1C-8A0F-DAD6808B6C8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urr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operations of concurrent threads are interleaved, the effect on shared state can be unexp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 known issue in operating systems, thread program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OS textbooks on critical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use of synchronized key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5431-6694-4A38-B1E2-6523194BF20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mous anoma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t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task T reads data written by T’ while T’ is running, then T’ aborts (so its data was not appropri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t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tasks T and T’ both modify the sam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and T’ both 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l state shows effects of only T, but not of T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nsistent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task T sees some but not all changes made by T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values observed may not satisfy integrity constr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was not considered by the programmer, so code moves into absurd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D992-03F8-4EE6-990C-510C42A7228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users: single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09680" y="2209680"/>
            <a:ext cx="387972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ice = Price – 1.99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name = ‘Gizmo’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ice = Price*0.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name=‘Gizmo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09600" y="5642280"/>
            <a:ext cx="507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managers attempt to do a discoun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it work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4B9A-8CD1-48F3-A938-25A746EFB8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– Dirty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800600" y="1600200"/>
          <a:ext cx="1828800" cy="198108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</a:tblGrid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4720680" y="3581280"/>
            <a:ext cx="39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state of InStore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4400" y="594360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state of InStore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9960" y="5486400"/>
            <a:ext cx="353520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ity constraint is fa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for p1 is only 40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800600" y="4038480"/>
          <a:ext cx="1828800" cy="198108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7010280" y="1600200"/>
          <a:ext cx="1828800" cy="148608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6781680" y="4267080"/>
          <a:ext cx="1828800" cy="148608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311400" y="1722600"/>
            <a:ext cx="2133000" cy="272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ceptReturn(p1,s1,5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date row 1: 25 -&gt; 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 rollback row 1 to 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74800" y="1752480"/>
            <a:ext cx="1843200" cy="269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MakeSale(p1,s2,6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update row 2: 70-&gt;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find sum: 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// no need to ins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// row in 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CO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E3CD-C6EB-4E70-A590-1D0E8A52E2A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– Lost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2403360" cy="23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rOut(p1,s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ry InStore; qty is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rehouseQty+=25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0-&gt;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date row 1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0680" y="3733920"/>
            <a:ext cx="39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state of InStore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69480" y="640080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state of InStore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5410080"/>
            <a:ext cx="434340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 returned p1’s have vanished from system; total is still 1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952880" y="1600200"/>
          <a:ext cx="2057400" cy="19810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</a:tblGrid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4952880" y="4267080"/>
          <a:ext cx="1828800" cy="1981080"/>
        </p:xfrm>
        <a:graphic>
          <a:graphicData uri="http://schemas.openxmlformats.org/drawingml/2006/table">
            <a:tbl>
              <a:tblPr/>
              <a:tblGrid>
                <a:gridCol w="685800"/>
                <a:gridCol w="609480"/>
                <a:gridCol w="53352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7162920" y="1752480"/>
          <a:ext cx="1828800" cy="148608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7086600" y="4419720"/>
          <a:ext cx="1828800" cy="148572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</a:tblGrid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2099880" y="2057400"/>
            <a:ext cx="3067560" cy="23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AcceptReturn(p1,s1,6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Update row 1: 25-&gt;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M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174A-11A9-4261-8050-D23B42F1880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– Inconsistent r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5029200" y="1523880"/>
          <a:ext cx="1828800" cy="198144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4720680" y="3581280"/>
            <a:ext cx="39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state of InStore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5791320"/>
            <a:ext cx="218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stat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ore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5410080"/>
            <a:ext cx="373356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ity constraint is fa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for p1 is only 45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724280" y="4038480"/>
          <a:ext cx="1828800" cy="198108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7010280" y="1600200"/>
          <a:ext cx="1828800" cy="148608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6781680" y="4267080"/>
          <a:ext cx="1828800" cy="148608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-182880" y="1676520"/>
            <a:ext cx="2829960" cy="293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earOut(p1,s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uery InStore: qty is 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rehouseQty+=3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-&gt;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date row 1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78360" y="1905120"/>
            <a:ext cx="2521800" cy="327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MakeSale(p1,s2,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update row 2: 65-&gt;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find sum: 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// no need to ins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// row in 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CO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C32C-D08E-4FBF-B509-7595B855A6C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ke isolation precise, we say that an execution is serializable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exists some serial (ie batch, no overlap at all) execution of the same transactions which has the same final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pefully, the real execution runs faster than the serial 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B: different serial txn orders may behave differently; we ask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rial order produces the given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serial orders may  give different fin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D11C-51B2-4C23-821F-C3693DB0C2E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– Serializable exec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876920" y="1523880"/>
          <a:ext cx="1828800" cy="198144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4330080" y="3581280"/>
            <a:ext cx="48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state of InStore, Product,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11920" y="6400800"/>
            <a:ext cx="47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state of InStore, Product,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5715000"/>
            <a:ext cx="312408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ion is like serial MakeSale; Clear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572000" y="4114800"/>
          <a:ext cx="1828800" cy="198108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7010280" y="1600200"/>
          <a:ext cx="1828800" cy="148608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6781680" y="4267080"/>
          <a:ext cx="1828800" cy="148608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6918480" y="31654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: emp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6553080" y="5943600"/>
          <a:ext cx="2362320" cy="395280"/>
        </p:xfrm>
        <a:graphic>
          <a:graphicData uri="http://schemas.openxmlformats.org/drawingml/2006/table">
            <a:tbl>
              <a:tblPr/>
              <a:tblGrid>
                <a:gridCol w="609480"/>
                <a:gridCol w="457200"/>
                <a:gridCol w="685800"/>
                <a:gridCol w="60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l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-335520" y="1752480"/>
            <a:ext cx="2829960" cy="274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earOut(p1,s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uery InStore: qty is 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rehouseQty+=30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-&gt;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date row 1=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49760" y="1905120"/>
            <a:ext cx="2624040" cy="300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MakeSale(p1,s2,2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update row 2: 45-&gt;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find sum: 6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no order for p1 y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Insert order for 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CO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5B2F-35AA-4779-A8B1-84E37FD911D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ializability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beautiful mathematical theory, based on form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eat the set of all serializable executions as an object of interest (called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m: SR is in NP, i.e. the task of testing whether an execution is serializable seems unreasonably s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it mat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goal of practical importance is to design a system that produces some subset of the collection of serializable exec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’s not clear that we care about testing arbitrary executions that don’t arise in our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7C8F-6D71-4A41-BC76-05F1803E6FC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lict 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nice sufficient condition (ie a conservative approximation) calle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flict serializ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ich can be efficiently te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 a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recedes grap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ose nodes are the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ge from Ti to Tj when Ti accesses x, then later Tj accesses x, and the accesses conflict (not both rea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xecution is conflict serializable iff the graph is acyc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m: if an execution is conflict serializable then it is serializ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f: the serial order with same final state is any topological sort of the precedes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eople and books use the approximation, usually without mentioning it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E618-B103-4A01-8A26-4A51F75F72D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g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programmer writes applications so each txn is consis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BMS provides atomic, isolated, durable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.e. actual execution has same effect as some serial execution of those txns that committed (but not those that abor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 final state will satisfy all the integrity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0760" y="5943600"/>
            <a:ext cx="85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 true even though system does not know all integrity constraint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FE99-7826-45D3-B146-357F53B04E5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 Level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ty read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TRANSACTION ISOLATION LEVEL READ UNCOMMIT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ted read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TRANSACTION ISOLATION LEVEL READ COMMIT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able read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TRANSACTION ISOLATION LEVEL REPEATABLE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ializable transactions (defaul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TRANSACTION ISOLATION LEVEL SERIALIZ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5880" y="5680080"/>
            <a:ext cx="416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g assignment: chapter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10E3-C9D6-4DEA-A7CE-731E31EA237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users: multiple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31320" y="2057400"/>
            <a:ext cx="5027040" cy="366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mallProduct(name, pric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name, pri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ice &lt;= 0.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DELE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ice &lt;=0.99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unt(*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unt(*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mal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82360" y="61711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wro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E12C-4850-4826-A73A-D3975A7190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tection against cras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41680" y="2286000"/>
            <a:ext cx="633168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mallProduct(name, pri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name, pr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ce &lt;= 0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ce &lt;=0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82360" y="61711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wro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10040" y="4029120"/>
            <a:ext cx="1071000" cy="459720"/>
          </a:xfrm>
          <a:prstGeom prst="wedgeRectCallout">
            <a:avLst>
              <a:gd name="adj1" fmla="val -431615"/>
              <a:gd name="adj2" fmla="val 3568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rash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E7B7-E8FD-4116-B89E-B867DE4CD4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transa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 collection of one or more operations on one or more databases, which reflects a single real-world tran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real world, this happened (completely) or it didn’t happen at all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tomic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e examp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money between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 a group of produ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 record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er for a class (either waitlist or alloca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E52F-59DB-40E2-B2EF-C247B1AE5F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“ad-hoc” SQ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: each statement = one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“embedded” SQ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QL statements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IT    or     ROLLBACK (=ABO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21B2-1123-4784-89FB-4A6DC630C1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: 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izability = the technical term for iso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ecution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is completely before or completely after any other function’s exec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ecution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erializ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equivalent to one that is s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MS can offer serializability guarant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05D3-D329-40B7-A58D-4DC7E09EA1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4-11-03T03:14:37Z</dcterms:modified>
  <cp:revision>326</cp:revision>
  <dc:subject/>
  <dc:title>Lecture 09:</dc:title>
</cp:coreProperties>
</file>