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574-C92B-4507-B9A7-A2784BFDF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values are A=3, B=2.  If the two transactions were executed serially, then we would have either A=1,B=2,  or A=3,B=4.  This is not a serializabl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7A5-EFDC-4D94-A4F3-1C721FB6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004-9CF5-43FA-9DE4-A47B40A5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CF1-D3D9-42FE-8EF1-6567B9A7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16C-647B-48DD-9E77-BCA2DBE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C4F-C8CF-4784-A1DF-46D768A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97B-EF1A-44B7-BD25-BDB3087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231-AE74-483C-A237-959AF40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C83-C68E-44EB-ADE6-616D9571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420-D882-412F-9A99-0856C300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19E-7557-4843-B7FD-2597FA6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9A0-B90D-4478-82FF-E57D417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843-CE96-4F86-8DA8-A50C38C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5C1-6E6C-420C-994D-FA11EAC0E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45F-8C65-4DC3-A29C-107C095C3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with locks, like in Operating System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 not en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79760" y="3352680"/>
            <a:ext cx="4463280" cy="3143160"/>
            <a:chOff x="1679760" y="3352680"/>
            <a:chExt cx="4463280" cy="3143160"/>
          </a:xfrm>
        </p:grpSpPr>
        <p:sp>
          <p:nvSpPr>
            <p:cNvPr id="73" name=""/>
            <p:cNvSpPr/>
            <p:nvPr/>
          </p:nvSpPr>
          <p:spPr>
            <a:xfrm>
              <a:off x="1679760" y="3352680"/>
              <a:ext cx="1491480" cy="31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A=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B=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51560" y="4038480"/>
              <a:ext cx="149148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A=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B=4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00400" y="4038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54100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6840" y="324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920" y="297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0600" y="6248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124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1120" y="529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040" y="3708360"/>
            <a:ext cx="9046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1840" y="3733920"/>
            <a:ext cx="9046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68B-C519-4199-8EE3-B2DFC9764A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verything at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 everything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cks: many simultaneous read lock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locks: only one write lock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locks: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6BE-E962-4543-8BFF-13DDB3679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a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computer-based system doing OLTP ha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gram is written in a high-level language, which calls DBMS to perform individual SQ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ther through embedded SQL converted by pr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rough Call Level Interface where application constructs appropriate string and passes it to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B3E-0614-4275-BA48-FE2F614D12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pp program is executing, it is “in a transa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can execut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ommand to finish the transaction success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QL statement will automatically start a new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36E-F751-468A-A8D1-055F421A3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 of a transaction is hard to see when interacting directly with DBMS, instead of from an app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 interactive query interface to DBMS, by default each SQL statement is treated as a separate transaction (with implicit COMMIT at end) unless you explicitly say “START TRANSA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072-7BFE-4BBE-9A2D-A76FB2357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m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ystems rule out having both DML and DDL statements in a singl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, you can change the schema, or change the data, but no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0B3-C963-4F15-9720-AD38C93CE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D20-EDF9-4BFF-B8D3-A22A5F828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EBA-CE6E-4780-8887-5A66878BC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23F-7E0B-4AC4-BC3B-AB6737CD60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55A-0F33-4796-ADA1-92251537D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, and serialisability (some slides courtesy of Alan Fekecte, U. Syd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isolation level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: 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B40-D5B4-45A7-9E4E-9904B715D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l world state is reflected by collections of values in the tables of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ot every collection of values in a table makes sense in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 of the tables is restricted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account number i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stock amount can’t be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800-4D08-40A2-B9AC-9DF23E215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nstraints are explicit; enforced by DB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 integrity: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nstraints are implc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usiness rules that are supposed to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3EC-01BD-4900-B940-D92674FE9D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can be written on the assumption that all integrity constraints hold in the data, before the transaction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must make sure that its changes leave the integrity constraints still h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are allowed to be intermediate states where the constraints do not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767-565D-4576-A591-46FE6A672B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74E-594C-483F-A576-410CF2AE93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A97-6B33-4785-AF1E-FDBDDFBA9F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007400" cy="365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toreID, q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sc, mnfr, …, warehouseQ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de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dID, qty, rcvd,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never dele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goods received, rcvd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( 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(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040" y="1676520"/>
            <a:ext cx="53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for managing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3E3-8A8A-48B9-8A36-126F414117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: (prodID, store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: pro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: orde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.prodID references Product.pro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258-C926-4678-A182-E25370759A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ore.qty &g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.rcvd &lt;= current_date or Order.rcvd is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, (Sum of qty for product p among all stores and warehouse) &gt;=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, (Sum of qty for product p among all stores and warehouse) &gt;= 70 or there is an outstanding order of produc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F42-A03C-46B8-85CD-1F45141B64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ale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Return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Order(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ck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from warehouse to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Out(store,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all held from store to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(from, to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goods between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617-73CC-4493-BB50-7E00067E16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811920" cy="447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Input (appropriate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qty INTO :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toreID = :store AND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WarehouseQty = WarehouseQty + :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In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Qt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9440" y="61722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lgorithms are also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lear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A96-BCFD-414B-A6D5-11DC782479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80D-77E3-44C4-A181-B9DAE6B59B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Re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149960" cy="48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 product, store, 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product in warehouse &gt;= 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WarehouseQty = WarehouseQty - :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record yet for product in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TO InStore (:product, :store, :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UPDATE In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qty = qty + :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 and storeID = :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EA3-159A-4233-ACB1-3974006B70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1440" y="3124080"/>
            <a:ext cx="5856120" cy="28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ale log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store.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sum over all stores and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m &lt; 50, then ROLLBACK // Sale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m &lt; 70, check for order where date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ne found, insert new order for say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write the app to keep integrity hol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1240" y="243828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rminates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gram (like retu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3886200" cy="99072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76560" y="3429000"/>
            <a:ext cx="1600200" cy="9144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3D1-D179-499E-970D-840588E239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any fancy logic for checking the business rules in Restock, ClearOut,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sum of qty not changed; presence of order not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vided integrity holds before txn, it will still hold after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fancy logic to check business rules in Accept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hecking logic needed for RcvO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DF4-00E8-4453-8892-D2FB8BE712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s to data integ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application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has mechanisms to handl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903-6B08-48E7-A63C-036A769B6D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may have made changes to the data before discovering that these aren’t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is in state where integrity constraints are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executes RO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must somehow return to earlie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integrity constraints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aborted transaction has no effect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389-34C3-4A2E-A551-24006ECD06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running MakeSale, app changes InStore to reduce qty, then checks new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ew sum is below 50, txn ab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must change InStore to restore previous value of q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where, system must remember what the previous value w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1BA-ABCA-419B-A55F-31615E0B09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ime of crash, an application program may be part-way through (and the data may not meet integrity constra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buffering can caus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ystem crash loses all buffered data, restart has only disk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a committed txn may be only in buffer, not yet recorded in disk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flushes of different buffered pages, so even if current state satisfies constraints, the disk state may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C15-F53C-4B59-AB41-6FD2EF925D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rash occurs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ale has reduced InStore.q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at new sum is 6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ere is no unfill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but before it has inserted ne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ime of crash, integrity constraint did not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process must clean this up (effectively aborting the txn that was in progress when the crash happe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C1-FAEB-4105-A613-0627EB2E53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perations of concurrent threads are interleaved, the effect on shared state can be un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known issue in operating systems, thread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OS textbooks on critic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 of synchronized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802-92EE-4621-97D7-6A3DACCD35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reads data written by T’ while T’ is running, then T’ aborts (so its data was not appropri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s observed may not satisfy integrit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not considered by the programmer, so code moves into absur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887-9B58-499C-BD8B-84FF9CD721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266-48CC-4DF9-9047-BEA7ADE630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Dirty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00600" y="160020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720680" y="35812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4400" y="59436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960" y="5486400"/>
            <a:ext cx="353520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onstraint is fa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for p1 is only 4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00600" y="403848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11400" y="1722600"/>
            <a:ext cx="2133000" cy="272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ptReturn(p1,s1,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: 25 -&gt; 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rollback row 1 to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4800" y="1752480"/>
            <a:ext cx="1843200" cy="26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6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70-&g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no need to 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row in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617-F659-4762-B1D1-3C85C3F3AA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2403360" cy="23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Out(p1,s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nStore; qty i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ehouseQty+=2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-&gt;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row 1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0680" y="37339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69480" y="6400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10080"/>
            <a:ext cx="434340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returned p1’s have vanished from system; total is still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52880" y="1600200"/>
          <a:ext cx="2057400" cy="1981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52880" y="4267080"/>
          <a:ext cx="1828800" cy="198108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5335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162920" y="17524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086600" y="4419720"/>
          <a:ext cx="1828800" cy="14857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099880" y="2057400"/>
            <a:ext cx="3067560" cy="23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ceptReturn(p1,s1,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row 1: 25-&gt;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E65-E046-4BC4-AD58-50E413728D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29200" y="1523880"/>
          <a:ext cx="1828800" cy="1981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720680" y="35812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579132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410080"/>
            <a:ext cx="3733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onstraint is fa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for p1 is only 45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24280" y="403848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182880" y="1676520"/>
            <a:ext cx="2829960" cy="29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Out(p1,s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ry InStore: qty is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rehouseQty+=3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&gt;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8360" y="1905120"/>
            <a:ext cx="2521800" cy="32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65-&g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no need to 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row in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C75-39E8-4694-9A54-E4B979C821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isolation precise, we say that an execution is serializabl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some serial (ie batch, no overlap at all) execution of the same transactions which has the same fi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fully, the real execution runs faster than the serial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B: different serial txn orders may behave differently; we ask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al order produces the given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erial orders may  give different fi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201-ED2C-496D-BB1F-42FC34B606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Serializab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76920" y="1523880"/>
          <a:ext cx="1828800" cy="1981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330080" y="358128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,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1920" y="640080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,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15000"/>
            <a:ext cx="31240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is like serial MakeSale; Clear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0" y="411480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918480" y="31654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: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553080" y="5943600"/>
          <a:ext cx="2362320" cy="395280"/>
        </p:xfrm>
        <a:graphic>
          <a:graphicData uri="http://schemas.openxmlformats.org/drawingml/2006/table">
            <a:tbl>
              <a:tblPr/>
              <a:tblGrid>
                <a:gridCol w="609480"/>
                <a:gridCol w="457200"/>
                <a:gridCol w="68580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-335520" y="1752480"/>
            <a:ext cx="2829960" cy="27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Out(p1,s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ry InStore: qty is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rehouseQty+=30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&gt;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=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49760" y="1905120"/>
            <a:ext cx="2624040" cy="30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45-&gt;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order for p1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sert order for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5AC-C052-4AC2-85AD-69DEE6D9E0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beautiful mathematical theory, based on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 the set of all serializable executions as an object of interest (calle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m: SR is in NP, i.e. the task of testing whether an execution is serializable seems unreasonably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al of practical importance is to design a system that produces some subset of the collection of serializable exec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not clear that we care about testing arbitrary executions that don’t arise in ou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486-BD5B-492E-A293-FCD20D6799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ice sufficient condition (ie a conservative approximation)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lict seri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an be efficiently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cedes 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se nodes are the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from Ti to Tj when Ti accesses x, then later Tj accesses x, and the accesses conflict (not both rea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ecution is conflict serializable iff the graph is acy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m: if an execution is conflict serializable then it is serializ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f: the serial order with same final state is any topological sort of the precedes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and books use the approximation, usually without mentioning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C7B-D4D4-4FE4-9915-DD726915D6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grammer writes applications so each txn is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BMS provides atomic, isolated, durable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 actual execution has same effect as some serial execution of those txns that committed (but not those that abo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final state will satisfy all the 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0760" y="5943600"/>
            <a:ext cx="85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true even though system does not know all integrity constrai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53E-7E6F-42E5-A463-F586136F1B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5880" y="56800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: chapter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3D5-8151-44A0-9321-230BB4A75C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481-0634-4A95-856C-CA5CFB0E37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168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C78-ECBA-40CF-8105-C95A08554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collection of one or more operations on one or more databases, which reflects a single real-world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l world, this happened (completely) or it didn’t happen at all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om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e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a group of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C12-72CB-4AC3-AFBE-68771E0779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embedded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1E7-902B-411D-8CE1-F3A832B692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: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= the technical term for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completely before or completely after any other function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equivalent to one that i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can offer serializability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B9E-3D4E-439E-B99D-5FD39FD6D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3T03:14:37Z</dcterms:modified>
  <cp:revision>326</cp:revision>
  <dc:subject/>
  <dc:title>Lecture 09:</dc:title>
</cp:coreProperties>
</file>