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DEB-4E8A-4DC2-88E6-688BF2D5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89C-6382-4E10-A542-D8F6C34C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FE5-B1D1-40C7-A319-F1FE4A2E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840-FD8A-4D34-A052-3B44F103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7A1-3D40-482A-BB50-F1827F4F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B43-32D9-4EB5-BE53-0878292B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408-5C8D-4C6F-8079-20A5881C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2B9-F75F-4E6E-967E-E1B9739F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25F-379C-43F7-ADCD-38FBAA12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720-39C5-4B43-92D4-7167CFFD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DA0-FFFD-45C4-A589-9C782FF9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983-56DB-4360-B9D4-E309D192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6963-5847-4C26-9A54-22705D6C8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 XQu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, 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7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1B5-F3CB-4AAF-9D7D-FC9430F6E9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1DA-23F8-4AE8-8BCC-B4CB889EA1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20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83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C78-D5C6-426D-BE88-FBD44C3EB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rom/to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3C7-6F75-4C54-8C3D-DCE6AC3470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/server DB Ap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8692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50200" y="1523880"/>
            <a:ext cx="1584360" cy="1172520"/>
          </a:xfrm>
          <a:prstGeom prst="wedgeEllipseCallout">
            <a:avLst>
              <a:gd name="adj1" fmla="val 5587"/>
              <a:gd name="adj2" fmla="val 134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46320" y="5715000"/>
            <a:ext cx="1072800" cy="652680"/>
          </a:xfrm>
          <a:prstGeom prst="wedgeEllipseCallout">
            <a:avLst>
              <a:gd name="adj1" fmla="val -3541"/>
              <a:gd name="adj2" fmla="val -2131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2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endCxn id="82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B4C-D870-4160-8FA8-3C696057E4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88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28280" y="3828240"/>
            <a:ext cx="1146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3320" y="1295280"/>
            <a:ext cx="1584360" cy="1172520"/>
          </a:xfrm>
          <a:prstGeom prst="wedgeEllipseCallout">
            <a:avLst>
              <a:gd name="adj1" fmla="val 15513"/>
              <a:gd name="adj2" fmla="val 9993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0840" y="2133720"/>
            <a:ext cx="1218240" cy="652680"/>
          </a:xfrm>
          <a:prstGeom prst="wedgeEllipseCallout">
            <a:avLst>
              <a:gd name="adj1" fmla="val -24833"/>
              <a:gd name="adj2" fmla="val 214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9600" y="6019920"/>
            <a:ext cx="1072800" cy="652680"/>
          </a:xfrm>
          <a:prstGeom prst="wedgeEllipseCallout">
            <a:avLst>
              <a:gd name="adj1" fmla="val -893"/>
              <a:gd name="adj2" fmla="val -1233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03120" y="5486400"/>
            <a:ext cx="1650960" cy="1172520"/>
          </a:xfrm>
          <a:prstGeom prst="wedgeEllipseCallout">
            <a:avLst>
              <a:gd name="adj1" fmla="val -842"/>
              <a:gd name="adj2" fmla="val -12504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4" idx="2"/>
            <a:endCxn id="91" idx="5"/>
          </p:cNvCxnSpPr>
          <p:nvPr/>
        </p:nvCxnSpPr>
        <p:spPr>
          <a:xfrm rot="5400000">
            <a:off x="2353680" y="3789360"/>
            <a:ext cx="62640" cy="1434240"/>
          </a:xfrm>
          <a:prstGeom prst="curvedConnector5">
            <a:avLst>
              <a:gd name="adj1" fmla="val 676878"/>
              <a:gd name="adj2" fmla="val 49987"/>
              <a:gd name="adj3" fmla="val 676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1" idx="7"/>
            <a:endCxn id="94" idx="0"/>
          </p:cNvCxnSpPr>
          <p:nvPr/>
        </p:nvCxnSpPr>
        <p:spPr>
          <a:xfrm flipH="1" flipV="1" rot="5400000">
            <a:off x="2340000" y="3152160"/>
            <a:ext cx="91080" cy="1434240"/>
          </a:xfrm>
          <a:prstGeom prst="curvedConnector5">
            <a:avLst>
              <a:gd name="adj1" fmla="val 394444"/>
              <a:gd name="adj2" fmla="val 49987"/>
              <a:gd name="adj3" fmla="val 394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2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endCxn id="92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6C4-AD6D-4F77-BEF0-7844C3289A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uden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ur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itle,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, cid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084-2C18-4045-9FA7-2470A84991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99760"/>
            <a:ext cx="5149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Operating System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GH084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8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Databas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EE045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horelin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9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1640" y="498780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1760" y="213372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7ED-1823-49A1-AD40-10368DD45C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6615000" cy="361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040" y="185436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ing to do: design the DT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DC5-A3C1-41AD-A02C-4342F336A0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9240" y="1676520"/>
            <a:ext cx="749592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/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nroll/row[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/row[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600" y="533520"/>
            <a:ext cx="74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rite an XQuery to export relation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sult is is the right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E51-D60D-4AE3-8155-17724CB4A5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0080" y="17524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find Mary’s grade in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80" y="2514600"/>
            <a:ext cx="792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=“Operating Systems”]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ary”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1911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1240" y="20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3000" y="4537080"/>
            <a:ext cx="7800840" cy="1972800"/>
            <a:chOff x="63000" y="4537080"/>
            <a:chExt cx="7800840" cy="1972800"/>
          </a:xfrm>
        </p:grpSpPr>
        <p:sp>
          <p:nvSpPr>
            <p:cNvPr id="125" name=""/>
            <p:cNvSpPr/>
            <p:nvPr/>
          </p:nvSpPr>
          <p:spPr>
            <a:xfrm>
              <a:off x="302400" y="4952880"/>
              <a:ext cx="756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Enroll.gra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Student, Enroll, Cours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Student.name=“Mary” and Course.title=“OS”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and Student.sid = Enroll.sid and Enroll.cid = Course.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000" y="45370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132240" y="3808440"/>
            <a:ext cx="2621160" cy="1172520"/>
          </a:xfrm>
          <a:prstGeom prst="wedgeEllipseCallout">
            <a:avLst>
              <a:gd name="adj1" fmla="val -128824"/>
              <a:gd name="adj2" fmla="val -66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F23-8418-42D9-9476-3619CF002D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19F-744A-46AC-9D61-A0D95104D5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hoose the output struc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by agreement with partners/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6CC-EC32-4F37-86DF-CF58C55676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in MS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9480" y="2666880"/>
            <a:ext cx="655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EXPLICIT (won’t show 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A6A-7CC0-49E5-9F6C-07D153F0CA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567216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tudent.name, Student.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0840" y="5029200"/>
            <a:ext cx="6071760" cy="155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=“John” grade=“3.5”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=“Blow” grade = “4.0”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03848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61E-BEDC-4C2C-B25B-E5E38AB64D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6634080" cy="206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‘&lt;row name=“’ as a, Student.na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‘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grade=“’ b,  Student.grad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 a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5920" y="146376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A20-085D-46BF-B97D-F9369BF112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557208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tudent.name, Course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, Enroll,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Student.sid = Enroll.sid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.cid = Course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0920" y="4800600"/>
            <a:ext cx="68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s hierarchy, based on the order in 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QL SERVER DOCUMENTATION !  TRY 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:    FOR XML AUTO,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AB8-1F2A-48C9-96AD-517A7D8C89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ten the XML data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 SOA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d directly into the application (DOM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XML data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tore/process it i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C23-E946-49B0-A6CC-CB5FDBF30E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XML as a graph: “Edge rel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it as a BL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, boring, in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994-59DA-420C-AE1C-98DAE7B80B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relational schema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3040" y="3200400"/>
            <a:ext cx="6272280" cy="27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6CD-FF62-4A9E-AE8E-5534A2BB3C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1600" y="19051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7640" y="2435760"/>
            <a:ext cx="18370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53640" y="4070880"/>
            <a:ext cx="14058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88120" y="4070880"/>
            <a:ext cx="157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360" y="54363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1200" y="5436360"/>
            <a:ext cx="11905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07800" y="5434560"/>
            <a:ext cx="126324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29280" y="5434560"/>
            <a:ext cx="130896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7920" y="54345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62920" y="5434560"/>
            <a:ext cx="11196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37160" y="5434560"/>
            <a:ext cx="12034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96360" y="5434560"/>
            <a:ext cx="12744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1" idx="3"/>
            <a:endCxn id="152" idx="0"/>
          </p:cNvCxnSpPr>
          <p:nvPr/>
        </p:nvCxnSpPr>
        <p:spPr>
          <a:xfrm flipH="1">
            <a:off x="3455280" y="2979720"/>
            <a:ext cx="724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5"/>
            <a:endCxn id="153" idx="0"/>
          </p:cNvCxnSpPr>
          <p:nvPr/>
        </p:nvCxnSpPr>
        <p:spPr>
          <a:xfrm flipH="1">
            <a:off x="5275080" y="2979720"/>
            <a:ext cx="157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2" idx="2"/>
            <a:endCxn id="154" idx="0"/>
          </p:cNvCxnSpPr>
          <p:nvPr/>
        </p:nvCxnSpPr>
        <p:spPr>
          <a:xfrm flipH="1">
            <a:off x="600840" y="4395960"/>
            <a:ext cx="2181960" cy="105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2" idx="3"/>
            <a:endCxn id="155" idx="0"/>
          </p:cNvCxnSpPr>
          <p:nvPr/>
        </p:nvCxnSpPr>
        <p:spPr>
          <a:xfrm flipH="1">
            <a:off x="1556640" y="4614840"/>
            <a:ext cx="142308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2" idx="4"/>
            <a:endCxn id="156" idx="0"/>
          </p:cNvCxnSpPr>
          <p:nvPr/>
        </p:nvCxnSpPr>
        <p:spPr>
          <a:xfrm flipH="1">
            <a:off x="2739240" y="4704840"/>
            <a:ext cx="7167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2" idx="5"/>
            <a:endCxn id="157" idx="0"/>
          </p:cNvCxnSpPr>
          <p:nvPr/>
        </p:nvCxnSpPr>
        <p:spPr>
          <a:xfrm>
            <a:off x="3931920" y="4614840"/>
            <a:ext cx="5292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3" idx="2"/>
            <a:endCxn id="155" idx="7"/>
          </p:cNvCxnSpPr>
          <p:nvPr/>
        </p:nvCxnSpPr>
        <p:spPr>
          <a:xfrm flipH="1">
            <a:off x="1953720" y="4395600"/>
            <a:ext cx="2566080" cy="11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3"/>
            <a:endCxn id="158" idx="0"/>
          </p:cNvCxnSpPr>
          <p:nvPr/>
        </p:nvCxnSpPr>
        <p:spPr>
          <a:xfrm>
            <a:off x="4740120" y="4614840"/>
            <a:ext cx="2628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3" idx="4"/>
            <a:endCxn id="159" idx="0"/>
          </p:cNvCxnSpPr>
          <p:nvPr/>
        </p:nvCxnSpPr>
        <p:spPr>
          <a:xfrm>
            <a:off x="5275080" y="4704840"/>
            <a:ext cx="6483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3" idx="5"/>
            <a:endCxn id="160" idx="0"/>
          </p:cNvCxnSpPr>
          <p:nvPr/>
        </p:nvCxnSpPr>
        <p:spPr>
          <a:xfrm>
            <a:off x="5810040" y="4614840"/>
            <a:ext cx="12294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3" idx="6"/>
            <a:endCxn id="161" idx="0"/>
          </p:cNvCxnSpPr>
          <p:nvPr/>
        </p:nvCxnSpPr>
        <p:spPr>
          <a:xfrm>
            <a:off x="6031080" y="4395960"/>
            <a:ext cx="220392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735000" y="3276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1160" y="335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4800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7120" y="3352680"/>
            <a:ext cx="2075760" cy="1172520"/>
          </a:xfrm>
          <a:prstGeom prst="wedgeEllipseCallout">
            <a:avLst>
              <a:gd name="adj1" fmla="val 42662"/>
              <a:gd name="adj2" fmla="val 517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gn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840-E9E9-4807-8FE8-31AABFA88E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160" y="190512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design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schem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mon s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1966320"/>
            <a:ext cx="1442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3800" y="281736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60240" y="281736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87200" y="376020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9560" y="376020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29880" y="375876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76040" y="375876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42320" y="375876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46040" y="375876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64760" y="375876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9440" y="375876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9" idx="3"/>
            <a:endCxn id="180" idx="0"/>
          </p:cNvCxnSpPr>
          <p:nvPr/>
        </p:nvCxnSpPr>
        <p:spPr>
          <a:xfrm flipH="1">
            <a:off x="3962160" y="240012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9" idx="5"/>
            <a:endCxn id="181" idx="0"/>
          </p:cNvCxnSpPr>
          <p:nvPr/>
        </p:nvCxnSpPr>
        <p:spPr>
          <a:xfrm>
            <a:off x="5636880" y="240012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0" idx="2"/>
            <a:endCxn id="182" idx="0"/>
          </p:cNvCxnSpPr>
          <p:nvPr/>
        </p:nvCxnSpPr>
        <p:spPr>
          <a:xfrm flipH="1">
            <a:off x="1420200" y="3078000"/>
            <a:ext cx="201348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0" idx="3"/>
            <a:endCxn id="183" idx="0"/>
          </p:cNvCxnSpPr>
          <p:nvPr/>
        </p:nvCxnSpPr>
        <p:spPr>
          <a:xfrm flipH="1">
            <a:off x="2177640" y="325080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0" idx="4"/>
            <a:endCxn id="184" idx="0"/>
          </p:cNvCxnSpPr>
          <p:nvPr/>
        </p:nvCxnSpPr>
        <p:spPr>
          <a:xfrm flipH="1">
            <a:off x="3235320" y="332280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0" idx="5"/>
            <a:endCxn id="185" idx="0"/>
          </p:cNvCxnSpPr>
          <p:nvPr/>
        </p:nvCxnSpPr>
        <p:spPr>
          <a:xfrm flipH="1">
            <a:off x="4298400" y="3250800"/>
            <a:ext cx="37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1" idx="2"/>
            <a:endCxn id="183" idx="7"/>
          </p:cNvCxnSpPr>
          <p:nvPr/>
        </p:nvCxnSpPr>
        <p:spPr>
          <a:xfrm flipH="1">
            <a:off x="2493360" y="3077640"/>
            <a:ext cx="26960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1" idx="3"/>
            <a:endCxn id="186" idx="0"/>
          </p:cNvCxnSpPr>
          <p:nvPr/>
        </p:nvCxnSpPr>
        <p:spPr>
          <a:xfrm>
            <a:off x="5362200" y="325080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1" idx="4"/>
            <a:endCxn id="187" idx="0"/>
          </p:cNvCxnSpPr>
          <p:nvPr/>
        </p:nvCxnSpPr>
        <p:spPr>
          <a:xfrm>
            <a:off x="5781240" y="332280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1" idx="5"/>
            <a:endCxn id="188" idx="0"/>
          </p:cNvCxnSpPr>
          <p:nvPr/>
        </p:nvCxnSpPr>
        <p:spPr>
          <a:xfrm>
            <a:off x="6200280" y="325080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1" idx="6"/>
            <a:endCxn id="189" idx="0"/>
          </p:cNvCxnSpPr>
          <p:nvPr/>
        </p:nvCxnSpPr>
        <p:spPr>
          <a:xfrm>
            <a:off x="6373440" y="3078000"/>
            <a:ext cx="19868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024440" y="234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374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5200" y="336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45080" y="491796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off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, phon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rice, avail., desc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8960" y="621360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ich attributes may be NULL ? (Look at the D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70F-A720-4B56-817F-3E3CE124C9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6720" y="1905120"/>
            <a:ext cx="76914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DESC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8A1-F0D1-4DA7-A24D-7B085E9D21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68360" y="2825640"/>
            <a:ext cx="7601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[descrip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descrip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7880" y="4952880"/>
            <a:ext cx="565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Product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description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10D-EB02-4390-A962-C32B7764BF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don’t have a DT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store the XML da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XML instanc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edges in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#PCDATA in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719-2448-4452-96EF-F1124A5D1E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78160" y="1219320"/>
            <a:ext cx="5680800" cy="2472480"/>
            <a:chOff x="3278160" y="1219320"/>
            <a:chExt cx="5680800" cy="2472480"/>
          </a:xfrm>
        </p:grpSpPr>
        <p:grpSp>
          <p:nvGrpSpPr>
            <p:cNvPr id="215" name=""/>
            <p:cNvGrpSpPr/>
            <p:nvPr/>
          </p:nvGrpSpPr>
          <p:grpSpPr>
            <a:xfrm>
              <a:off x="3278160" y="1549440"/>
              <a:ext cx="5680800" cy="2142360"/>
              <a:chOff x="3278160" y="1549440"/>
              <a:chExt cx="5680800" cy="214236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3345120" y="1649520"/>
                <a:ext cx="5546160" cy="2042280"/>
                <a:chOff x="3345120" y="1649520"/>
                <a:chExt cx="5546160" cy="2042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83272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88276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7648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3383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18544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98212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29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76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223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4244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99068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6400" y="32914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80960" y="32914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62840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52480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13152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381000" y="1848600"/>
                  <a:ext cx="1195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53780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>
                  <a:off x="548388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3160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38100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772524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7472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65488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7500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6808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2596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611532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1676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920" y="1219320"/>
            <a:ext cx="3000240" cy="1432800"/>
          </a:xfrm>
          <a:prstGeom prst="wedgeEllipseCallout">
            <a:avLst>
              <a:gd name="adj1" fmla="val 65185"/>
              <a:gd name="adj2" fmla="val 26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’t know D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BE4-9CD4-419E-8978-85E8E55100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5720" y="2847960"/>
            <a:ext cx="743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=“Chamberlin”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136188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30400" y="4252320"/>
            <a:ext cx="578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94320" y="5014440"/>
            <a:ext cx="9014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98560" y="5591160"/>
            <a:ext cx="10828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54960" y="5623920"/>
            <a:ext cx="7621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7" idx="4"/>
            <a:endCxn id="268" idx="0"/>
          </p:cNvCxnSpPr>
          <p:nvPr/>
        </p:nvCxnSpPr>
        <p:spPr>
          <a:xfrm>
            <a:off x="4119120" y="4757760"/>
            <a:ext cx="262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8" idx="3"/>
            <a:endCxn id="269" idx="7"/>
          </p:cNvCxnSpPr>
          <p:nvPr/>
        </p:nvCxnSpPr>
        <p:spPr>
          <a:xfrm flipH="1">
            <a:off x="3601440" y="5447880"/>
            <a:ext cx="246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8" idx="5"/>
            <a:endCxn id="270" idx="1"/>
          </p:cNvCxnSpPr>
          <p:nvPr/>
        </p:nvCxnSpPr>
        <p:spPr>
          <a:xfrm>
            <a:off x="4441320" y="5448240"/>
            <a:ext cx="5464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2589840" y="60958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mberli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9520" y="60958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endCxn id="267" idx="0"/>
          </p:cNvCxnSpPr>
          <p:nvPr/>
        </p:nvCxnSpPr>
        <p:spPr>
          <a:xfrm>
            <a:off x="4114440" y="3962520"/>
            <a:ext cx="54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7" name=""/>
          <p:cNvGrpSpPr/>
          <p:nvPr/>
        </p:nvGrpSpPr>
        <p:grpSpPr>
          <a:xfrm>
            <a:off x="2821320" y="3962520"/>
            <a:ext cx="2809440" cy="2743920"/>
            <a:chOff x="2821320" y="3962520"/>
            <a:chExt cx="2809440" cy="2743920"/>
          </a:xfrm>
        </p:grpSpPr>
        <p:sp>
          <p:nvSpPr>
            <p:cNvPr id="278" name=""/>
            <p:cNvSpPr/>
            <p:nvPr/>
          </p:nvSpPr>
          <p:spPr>
            <a:xfrm>
              <a:off x="4344480" y="3962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6400" y="464832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21320" y="518148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27880" y="5181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97640" y="636912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32440" y="6324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 rot="16200000">
            <a:off x="647676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935-51B8-42E9-A6AE-1EC5045960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4320" y="182880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6040" y="3352680"/>
            <a:ext cx="8515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  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= 0                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db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book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author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title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 = ‘Chamberlin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6800" y="2438280"/>
            <a:ext cx="1521000" cy="587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80680" y="1828800"/>
            <a:ext cx="3087000" cy="652680"/>
          </a:xfrm>
          <a:prstGeom prst="wedgeEllipseCallout">
            <a:avLst>
              <a:gd name="adj1" fmla="val -27601"/>
              <a:gd name="adj2" fmla="val 179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way joi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3D6-4ED5-4EA6-B2BC-208DFAB220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dge(Source, Tag, D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(Source, V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: work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effic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0A3-91AC-4D04-8A56-08489656F5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DDC-6A8B-4AF9-80DD-844472762F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96120" y="2057400"/>
            <a:ext cx="45932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72B-87FB-4D95-BED5-FF8350B1AA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209680"/>
            <a:ext cx="614880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EC3-02CC-467E-A202-8A9B24D6D4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4760" y="2362320"/>
            <a:ext cx="5757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66D-913B-4AA4-995C-2A4D4EE789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tuff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aling with order in th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s some edges in the resul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: arbitrary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restrictions in the fu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635-CBE2-449A-9028-D064F1554C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F36-4F6B-45D7-8568-3A68610D45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440" y="243828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4440" y="434340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0AA-F9C3-427A-BFB3-B0CF0C8101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0-27T02:32:40Z</dcterms:modified>
  <cp:revision>325</cp:revision>
  <dc:subject/>
  <dc:title>Lecture 09:</dc:title>
</cp:coreProperties>
</file>