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3F5-A377-4C13-8AA4-168AD6E9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A3D-70F6-4EB0-963B-481F1356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506-0210-41D2-B538-68A3275F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F5C-F3CF-46A6-BCBC-7AF529DE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60C-6292-42F7-9EF0-242DB234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8FE-FEDD-4CDF-A40B-AE803DBD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897-F6F1-4C92-9CE1-1CE75E97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15E-871C-4344-BD99-89DE7E76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8EA-BB06-4EE0-9675-A68B8BAF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F44-9BE4-4AD9-8B63-E599864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37E-1064-46AE-941A-7010BDC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40B-8F5D-4998-BC69-FD5D235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171C-90C6-4812-B91D-63900C377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 X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7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827-4063-4D79-84A7-A49134F183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BD1-109E-448B-B641-07215DC882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023-8D0F-4E7C-9D1A-63CBAE622F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CC5-A8B0-4F27-AC13-07012C0545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DB A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692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50200" y="1523880"/>
            <a:ext cx="1584360" cy="1172520"/>
          </a:xfrm>
          <a:prstGeom prst="wedgeEllipseCallout">
            <a:avLst>
              <a:gd name="adj1" fmla="val 5587"/>
              <a:gd name="adj2" fmla="val 134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46320" y="5715000"/>
            <a:ext cx="1072800" cy="652680"/>
          </a:xfrm>
          <a:prstGeom prst="wedgeEllipseCallout">
            <a:avLst>
              <a:gd name="adj1" fmla="val -3541"/>
              <a:gd name="adj2" fmla="val -2131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endCxn id="8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992-216D-4DD5-9F9E-17B7AFB5E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88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8280" y="3828240"/>
            <a:ext cx="1146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3320" y="12952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0" y="60199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4" idx="2"/>
            <a:endCxn id="91" idx="5"/>
          </p:cNvCxnSpPr>
          <p:nvPr/>
        </p:nvCxnSpPr>
        <p:spPr>
          <a:xfrm rot="5400000">
            <a:off x="2353680" y="3789360"/>
            <a:ext cx="62640" cy="1434240"/>
          </a:xfrm>
          <a:prstGeom prst="curvedConnector5">
            <a:avLst>
              <a:gd name="adj1" fmla="val 676878"/>
              <a:gd name="adj2" fmla="val 49987"/>
              <a:gd name="adj3" fmla="val 676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1" idx="7"/>
            <a:endCxn id="94" idx="0"/>
          </p:cNvCxnSpPr>
          <p:nvPr/>
        </p:nvCxnSpPr>
        <p:spPr>
          <a:xfrm flipH="1" flipV="1" rot="5400000">
            <a:off x="2340000" y="3152160"/>
            <a:ext cx="91080" cy="1434240"/>
          </a:xfrm>
          <a:prstGeom prst="curvedConnector5">
            <a:avLst>
              <a:gd name="adj1" fmla="val 394444"/>
              <a:gd name="adj2" fmla="val 49987"/>
              <a:gd name="adj3" fmla="val 394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2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endCxn id="92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B1E-458E-4A30-9809-45B3003CDA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9B0-2BA9-4696-A156-623694B2A3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7A7-2449-4E6E-87B3-4637ADD71C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00C-5E03-4243-9521-7C02C05C9B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C6C-7550-48F9-A6F3-8EDFA0FFDD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125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132240" y="3808440"/>
            <a:ext cx="2621160" cy="1172520"/>
          </a:xfrm>
          <a:prstGeom prst="wedgeEllipseCallout">
            <a:avLst>
              <a:gd name="adj1" fmla="val -128824"/>
              <a:gd name="adj2" fmla="val -6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A88-E062-472F-906D-908E54413C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DA1-B210-4C4D-8326-72E1AE72B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 with partners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09E-0D76-482C-992D-1B4537F0B0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 in MS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2666880"/>
            <a:ext cx="655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EXPLICIT (won’t show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64D-7F70-4C51-9EBB-24ADD1068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56721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Student.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0840" y="5029200"/>
            <a:ext cx="6071760" cy="155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John” grade=“3.5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=“Blow” grade = “4.0”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1B6-AD13-48E8-9A9B-1C8E8D98B7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6634080" cy="20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‘&lt;row name=“’ as a, Student.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rade=“’ b,  Student.gr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 a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5920" y="146376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C7A-CBE4-4652-85AD-8FC711C2B4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557208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tudent.name, Course.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ent, Enroll,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tudent.sid = Enroll.sid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.cid = Course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XML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0920" y="480060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hierarchy, based on the order in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QL SERVER DOCUMENTATION !  TRY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:    FOR XML AUTO,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3FF-33D6-4AAC-A7F8-C32878C67D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243-118C-444E-BC7E-F97C64C4EF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t as a B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boring,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2E8-1958-4C6D-9853-3D4EA8A901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AD3-8057-4E99-AE78-67AC75487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7640" y="2435760"/>
            <a:ext cx="1837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53640" y="4070880"/>
            <a:ext cx="1405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8120" y="4070880"/>
            <a:ext cx="157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360" y="54363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1200" y="5436360"/>
            <a:ext cx="119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07800" y="5434560"/>
            <a:ext cx="1263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29280" y="543456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7920" y="54345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2920" y="5434560"/>
            <a:ext cx="11196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7160" y="5434560"/>
            <a:ext cx="1203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96360" y="5434560"/>
            <a:ext cx="1274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1" idx="3"/>
            <a:endCxn id="152" idx="0"/>
          </p:cNvCxnSpPr>
          <p:nvPr/>
        </p:nvCxnSpPr>
        <p:spPr>
          <a:xfrm flipH="1">
            <a:off x="3455280" y="2979720"/>
            <a:ext cx="724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5"/>
            <a:endCxn id="153" idx="0"/>
          </p:cNvCxnSpPr>
          <p:nvPr/>
        </p:nvCxnSpPr>
        <p:spPr>
          <a:xfrm flipH="1">
            <a:off x="5275080" y="2979720"/>
            <a:ext cx="157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2" idx="2"/>
            <a:endCxn id="154" idx="0"/>
          </p:cNvCxnSpPr>
          <p:nvPr/>
        </p:nvCxnSpPr>
        <p:spPr>
          <a:xfrm flipH="1">
            <a:off x="600840" y="4395960"/>
            <a:ext cx="21819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2" idx="3"/>
            <a:endCxn id="155" idx="0"/>
          </p:cNvCxnSpPr>
          <p:nvPr/>
        </p:nvCxnSpPr>
        <p:spPr>
          <a:xfrm flipH="1">
            <a:off x="1556640" y="4614840"/>
            <a:ext cx="1423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2" idx="4"/>
            <a:endCxn id="156" idx="0"/>
          </p:cNvCxnSpPr>
          <p:nvPr/>
        </p:nvCxnSpPr>
        <p:spPr>
          <a:xfrm flipH="1">
            <a:off x="2739240" y="4704840"/>
            <a:ext cx="7167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2" idx="5"/>
            <a:endCxn id="157" idx="0"/>
          </p:cNvCxnSpPr>
          <p:nvPr/>
        </p:nvCxnSpPr>
        <p:spPr>
          <a:xfrm>
            <a:off x="3931920" y="4614840"/>
            <a:ext cx="5292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3" idx="2"/>
            <a:endCxn id="155" idx="7"/>
          </p:cNvCxnSpPr>
          <p:nvPr/>
        </p:nvCxnSpPr>
        <p:spPr>
          <a:xfrm flipH="1">
            <a:off x="1953720" y="4395600"/>
            <a:ext cx="2566080" cy="11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3"/>
            <a:endCxn id="158" idx="0"/>
          </p:cNvCxnSpPr>
          <p:nvPr/>
        </p:nvCxnSpPr>
        <p:spPr>
          <a:xfrm>
            <a:off x="4740120" y="4614840"/>
            <a:ext cx="2628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3" idx="4"/>
            <a:endCxn id="159" idx="0"/>
          </p:cNvCxnSpPr>
          <p:nvPr/>
        </p:nvCxnSpPr>
        <p:spPr>
          <a:xfrm>
            <a:off x="5275080" y="4704840"/>
            <a:ext cx="6483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3" idx="5"/>
            <a:endCxn id="160" idx="0"/>
          </p:cNvCxnSpPr>
          <p:nvPr/>
        </p:nvCxnSpPr>
        <p:spPr>
          <a:xfrm>
            <a:off x="5810040" y="4614840"/>
            <a:ext cx="12294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3" idx="6"/>
            <a:endCxn id="161" idx="0"/>
          </p:cNvCxnSpPr>
          <p:nvPr/>
        </p:nvCxnSpPr>
        <p:spPr>
          <a:xfrm>
            <a:off x="6031080" y="4395960"/>
            <a:ext cx="220392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73500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116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BFD-EE42-4CC8-9373-502330EAE2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9" idx="3"/>
            <a:endCxn id="180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9" idx="5"/>
            <a:endCxn id="181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2"/>
            <a:endCxn id="182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0" idx="3"/>
            <a:endCxn id="183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0" idx="4"/>
            <a:endCxn id="184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0" idx="5"/>
            <a:endCxn id="185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1" idx="2"/>
            <a:endCxn id="183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1" idx="3"/>
            <a:endCxn id="186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1" idx="4"/>
            <a:endCxn id="187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1" idx="5"/>
            <a:endCxn id="188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1" idx="6"/>
            <a:endCxn id="189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8960" y="62136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 (Look at the 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F68-6CC3-405B-98BF-F4C88A0B5B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720" y="1905120"/>
            <a:ext cx="7691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F71-C785-4690-AE97-DD2126A279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E69-CDB4-4B48-B9DC-5FC5EB84F0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18D-FD99-4B4E-A926-81EA2CBC9D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78160" y="1219320"/>
            <a:ext cx="5680800" cy="2472480"/>
            <a:chOff x="3278160" y="1219320"/>
            <a:chExt cx="5680800" cy="2472480"/>
          </a:xfrm>
        </p:grpSpPr>
        <p:grpSp>
          <p:nvGrpSpPr>
            <p:cNvPr id="215" name=""/>
            <p:cNvGrpSpPr/>
            <p:nvPr/>
          </p:nvGrpSpPr>
          <p:grpSpPr>
            <a:xfrm>
              <a:off x="3278160" y="1549440"/>
              <a:ext cx="5680800" cy="2142360"/>
              <a:chOff x="3278160" y="1549440"/>
              <a:chExt cx="5680800" cy="21423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3345120" y="1649520"/>
                <a:ext cx="5546160" cy="2042280"/>
                <a:chOff x="3345120" y="1649520"/>
                <a:chExt cx="5546160" cy="2042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83272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88276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7648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383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18544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8212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29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76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2348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4244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99068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6400" y="32914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80960" y="32914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62840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52480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3152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381000" y="1848600"/>
                  <a:ext cx="1195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53780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>
                  <a:off x="548388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3160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38100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772524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7472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5488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7500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808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2596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11532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676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287-3F56-4BD1-BE2C-D9E9FEA716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7" idx="4"/>
            <a:endCxn id="268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8" idx="3"/>
            <a:endCxn id="269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8" idx="5"/>
            <a:endCxn id="270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endCxn id="267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7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78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621-5AF1-409D-9C56-0E63B04B7E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AD4-DF14-49C8-BB69-278C1B38C2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531-D810-4F34-8FBC-0FE83FD7AB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FAA-B656-44E8-922E-B209490274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6120" y="2057400"/>
            <a:ext cx="4593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79F-0176-435F-9290-CAB736CFBA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209680"/>
            <a:ext cx="614880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649-CE82-4C2F-AEBB-414FF599B3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856-CE6B-4C27-97ED-8597DBE3FF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377-FD0C-4EBA-B000-9374395312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137-BCDF-4B70-8521-5C85C1577A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DF8-B77D-4F2D-B2BF-3CB09609FA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7T02:32:40Z</dcterms:modified>
  <cp:revision>325</cp:revision>
  <dc:subject/>
  <dc:title>Lecture 09:</dc:title>
</cp:coreProperties>
</file>